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FD6-2F43-41DB-88F3-E646059F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D75-D683-4B33-A130-3D54C1CF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5FD-7730-46CC-AC1F-3B4D9015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A1D-9A2A-418D-8439-CBF7A2F7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92D9-0890-43E6-BD8F-0AF21518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9DB4-3897-43BE-9758-A6198ED9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B547-3C2F-49CF-82F0-C9089612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84BB-38FB-4AFC-BAB4-425CB721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8B95-3DF1-4C50-B50F-E4AD4F7A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51AA-5019-46F9-9AD0-FE23AB2A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C204-5DC1-4576-B09B-E4390C8D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B95-863B-42B8-8E4A-A0ECA083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74DF-B2D0-4EEC-A151-3E754FEF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1774-DEAC-40D6-8E73-D441D631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AAAB-A439-4198-99CE-993F9282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6A98-22AA-4613-AD29-ED0C73388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3FD3-B42F-4ADB-8DB0-0D72F400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55A-6530-4C2E-8493-721276EB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3D0-D103-46F7-B713-07E67A36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5A9-A721-45AC-B1E5-7C517209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A75-F1A7-4AB6-9E0D-8EC74941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8B8-E41E-47DA-B496-CC4786F0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FE0-3721-4F1B-912A-E1DE4F21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708-51A8-44B0-A06D-32F1E89A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05EB-ACF5-47C4-B22A-1D74A61DCA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2428-E87D-4310-A2E8-094C68A416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993080" cy="187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Ecological features</a:t>
            </a: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of</a:t>
            </a:r>
            <a:r>
              <a:rPr b="0" i="1" lang="ru-RU" sz="28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336666"/>
                </a:solidFill>
                <a:latin typeface="Arial Black"/>
              </a:rPr>
              <a:t>Stratiotes aloides </a:t>
            </a: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L. (Hydrocharitaceae)</a:t>
            </a:r>
            <a:br>
              <a:rPr sz="2800"/>
            </a:b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in the South Part of Western Siberia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2920" y="3500280"/>
            <a:ext cx="6131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emov A.N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sk State Pedagogical University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m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ign Institute for Oil and Gas Projects                  Construction and Rehabilitatio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m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Изображение 013"/>
          <p:cNvPicPr/>
          <p:nvPr/>
        </p:nvPicPr>
        <p:blipFill>
          <a:blip r:embed="rId1"/>
          <a:stretch/>
        </p:blipFill>
        <p:spPr>
          <a:xfrm>
            <a:off x="1476360" y="1844640"/>
            <a:ext cx="6480360" cy="3608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539640" y="5589720"/>
            <a:ext cx="813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tocoenosis o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iotes aloid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phar lutea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sk regio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sky district, a lake in the Irtysh River valley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S. aloides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 coenocomplex in </a:t>
            </a:r>
            <a:br>
              <a:rPr sz="24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the South part of Western Siberia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Номер слайда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1CCE-F87A-448E-A4ED-AE497E481A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CIMG0034"/>
          <p:cNvPicPr/>
          <p:nvPr/>
        </p:nvPicPr>
        <p:blipFill>
          <a:blip r:embed="rId1"/>
          <a:stretch/>
        </p:blipFill>
        <p:spPr>
          <a:xfrm>
            <a:off x="1258920" y="1916280"/>
            <a:ext cx="6696000" cy="37972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900000" y="5734080"/>
            <a:ext cx="734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tocoenosis o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iotes aloide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na trisulc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sk regio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omtsevsky distric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k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ra River valle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620280"/>
            <a:ext cx="769644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S. aloides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 coenocomplex in </a:t>
            </a:r>
            <a:br>
              <a:rPr sz="24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the South part of Western Siberia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Номер слайда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D0E9-565E-4AEB-924A-C0AE2D635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Буфер обмена-2"/>
          <p:cNvPicPr/>
          <p:nvPr/>
        </p:nvPicPr>
        <p:blipFill>
          <a:blip r:embed="rId1"/>
          <a:stretch/>
        </p:blipFill>
        <p:spPr>
          <a:xfrm>
            <a:off x="1258920" y="1773360"/>
            <a:ext cx="6661080" cy="3995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539640" y="5661000"/>
            <a:ext cx="7993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tocoenosis o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iotes aloides pur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osibirsk regio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gerovsky distric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k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m River valle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69608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S. aloides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 coenocomplex in </a:t>
            </a:r>
            <a:br>
              <a:rPr sz="24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outh part of Western Siberia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Номер слайда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F132-0AC1-40FA-B4BC-C65E243D2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CIMG0058"/>
          <p:cNvPicPr/>
          <p:nvPr/>
        </p:nvPicPr>
        <p:blipFill>
          <a:blip r:embed="rId1"/>
          <a:stretch/>
        </p:blipFill>
        <p:spPr>
          <a:xfrm>
            <a:off x="1547640" y="1844640"/>
            <a:ext cx="6021720" cy="3954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332000" y="602136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971640" y="5805360"/>
            <a:ext cx="748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tocoenosis of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odea canadensi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iotes aloid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sk regio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vrychesky distric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aterbody in the Irtysh River valle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69608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S. aloides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 cyoenpcoplex in </a:t>
            </a:r>
            <a:br>
              <a:rPr sz="24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the South part of Western Siberia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6317-8C00-41A1-B5DD-EC9C148A2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Main synecological features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yntaxonomy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ion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2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tion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9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s of formati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es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of vegetati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verage number of associations in formati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1,8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ion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verage number of species in associati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8,9 ± 3,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2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ircle structure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l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stant specie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tamogeton perfoliatus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ydrocharis morsus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anae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eratophyllum demersu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pirodela polyrhiza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emna trisulca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tricularia vulgaris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ippuris vulgaris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yriophyllum spicatu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lisma plantago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quatic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uckenia pectinat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ypha angustifolia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choenoplectus lacustris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tamogeton lucens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hragmites australis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enanthe aquatica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tomus umbellatus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trachium circinatu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ichophullu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agittaria sagittifolia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ypha latifolia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emna minor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hytocoenotyp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dominan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1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ion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42,9 %)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ctato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ion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31,4 %)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ficato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9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ion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25,7 %)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ological optimum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 aloi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onnected with a Hydatophytetosa class (predominate in 69,2 % of association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5CD2-2250-4302-A93B-0333786F4E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249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Renewal and sexual structure of coenopopulations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5EB1-6F4A-45FD-9407-14F6F85A3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205000"/>
            <a:ext cx="7696440" cy="25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половой структуры популя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фертильности пыльцы ацетокарминовым методом, картирование разм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т) с различной фертильность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лабораторной всхожести семян.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ethods II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E40E-FA20-441E-AA31-3F9F529CE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6" name="Picture 4" descr="S"/>
          <p:cNvPicPr/>
          <p:nvPr/>
        </p:nvPicPr>
        <p:blipFill>
          <a:blip r:embed="rId1"/>
          <a:stretch/>
        </p:blipFill>
        <p:spPr>
          <a:xfrm>
            <a:off x="539640" y="476280"/>
            <a:ext cx="8209080" cy="4876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611280" y="5589720"/>
            <a:ext cx="820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 of different sexual type populations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loid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0759-A568-4B8D-BCB2-6FDA48C89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2922" t="3477" r="0" b="8320"/>
          <a:stretch/>
        </p:blipFill>
        <p:spPr>
          <a:xfrm>
            <a:off x="611280" y="476280"/>
            <a:ext cx="7921440" cy="50338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042920" y="55897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structure o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loid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enopopulation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B76F-22F3-4FAF-A57A-4775ACAF1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rcRect l="3156" t="2553" r="2611" b="4589"/>
          <a:stretch/>
        </p:blipFill>
        <p:spPr>
          <a:xfrm>
            <a:off x="684360" y="549360"/>
            <a:ext cx="7775280" cy="4489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468360" y="5229360"/>
            <a:ext cx="82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3-year-old change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. aloi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llen fertilization in stationary sites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ЦП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enopulatio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0F21-53BB-432D-B3DD-0533601E7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69608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Research area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Picture 4" descr="Fig 2-1 -2"/>
          <p:cNvPicPr/>
          <p:nvPr/>
        </p:nvPicPr>
        <p:blipFill>
          <a:blip r:embed="rId1"/>
          <a:stretch/>
        </p:blipFill>
        <p:spPr>
          <a:xfrm>
            <a:off x="1116000" y="1773360"/>
            <a:ext cx="6912000" cy="440676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C9C7-FA8C-4A54-B1E9-16DA135B2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схема 1"/>
          <p:cNvPicPr/>
          <p:nvPr/>
        </p:nvPicPr>
        <p:blipFill>
          <a:blip r:embed="rId1"/>
          <a:stretch/>
        </p:blipFill>
        <p:spPr>
          <a:xfrm>
            <a:off x="1619280" y="404640"/>
            <a:ext cx="5977080" cy="5392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755640" y="5805360"/>
            <a:ext cx="74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stribu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аloi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amet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with variou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o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enopopulatio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ke i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rty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iver valle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75DB-B1E4-4A8B-B850-DD6E222033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Efremov-Fig"/>
          <p:cNvPicPr/>
          <p:nvPr/>
        </p:nvPicPr>
        <p:blipFill>
          <a:blip r:embed="rId1"/>
          <a:stretch/>
        </p:blipFill>
        <p:spPr>
          <a:xfrm>
            <a:off x="1619280" y="333360"/>
            <a:ext cx="5545080" cy="53942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971640" y="5877000"/>
            <a:ext cx="74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. aloid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-stag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genesis o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ona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, Б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lona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В, Г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7C77-86E8-4DD8-9976-9719D8EE2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69608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Main features of renewal and sexual structure of coenopopulations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42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. aloid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ex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mainly 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oecio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populations (90 %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la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omin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3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yea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ong 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l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ertiliz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a little and m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62 ± 18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onal reproduction is presented constantly, however biological effect  is more characteristic of clonal reproduc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9DBC-DBC4-4955-9DCE-C3899F907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69608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Arial Black"/>
              </a:rPr>
              <a:t>Thanks for your attention</a:t>
            </a:r>
            <a:r>
              <a:rPr b="0" lang="ru-RU" sz="3600" spc="-1" strike="noStrike">
                <a:solidFill>
                  <a:srgbClr val="336666"/>
                </a:solidFill>
                <a:latin typeface="Arial Black"/>
              </a:rPr>
              <a:t>!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6" name="Номер слайда 2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DBF8-AD2B-4DAD-9914-3538B4C567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24000" y="2565000"/>
            <a:ext cx="518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Synecol</a:t>
            </a:r>
            <a:r>
              <a:rPr b="0" lang="ru-RU" sz="4000" spc="-1" strike="noStrike">
                <a:solidFill>
                  <a:srgbClr val="336666"/>
                </a:solidFill>
                <a:latin typeface="Arial Black"/>
              </a:rPr>
              <a:t>о</a:t>
            </a:r>
            <a:r>
              <a:rPr b="0" lang="en-US" sz="4000" spc="-1" strike="noStrike">
                <a:solidFill>
                  <a:srgbClr val="336666"/>
                </a:solidFill>
                <a:latin typeface="Arial Black"/>
              </a:rPr>
              <a:t>gy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Номер слайда 2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A939-DC0C-41BE-A4E0-88B870502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Methods I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7993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ой методологический подход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оминантно-эдификаторн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ём синтаксонов принят согласно эколого-морфологической классификации водной макрофитной растительности                                                                 Б. Ф. Свириденк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200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истическая обработка результатов выполне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азе паке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Statistic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6.1. Для оценки сходства флористического состава  использовался коэффициент Сьёренсена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0443-A8B1-4452-A9B8-075817D51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68360" y="5734080"/>
            <a:ext cx="81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nocomplex structure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. aloi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 result of claster analysis. On the X-axis there is                  Euclidean’s distance (Vard’s method ); on the Y-axis of ordinates there is a number of association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"/>
          <p:cNvPicPr/>
          <p:nvPr/>
        </p:nvPicPr>
        <p:blipFill>
          <a:blip r:embed="rId1"/>
          <a:stretch/>
        </p:blipFill>
        <p:spPr>
          <a:xfrm>
            <a:off x="684360" y="333360"/>
            <a:ext cx="7991280" cy="5357880"/>
          </a:xfrm>
          <a:prstGeom prst="rect">
            <a:avLst/>
          </a:prstGeom>
          <a:ln w="0">
            <a:noFill/>
          </a:ln>
        </p:spPr>
      </p:pic>
      <p:sp>
        <p:nvSpPr>
          <p:cNvPr id="101" name="Номер слайда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DCC3-6022-41F7-97C5-0DFD2CE8F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"/>
          <p:cNvSpPr/>
          <p:nvPr/>
        </p:nvSpPr>
        <p:spPr>
          <a:xfrm>
            <a:off x="857160" y="3786120"/>
            <a:ext cx="357120" cy="35712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Графика in Вар 2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5529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468360" y="5734080"/>
            <a:ext cx="820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oristic similarity associations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. aloi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enocomplex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X-axis there is an interclaster distance; on the Y-axis there is a number of association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B45E-3705-4940-837D-F1EC621AA8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8"/>
          <p:cNvSpPr/>
          <p:nvPr/>
        </p:nvSpPr>
        <p:spPr>
          <a:xfrm>
            <a:off x="857160" y="2714760"/>
            <a:ext cx="357120" cy="285480"/>
          </a:xfrm>
          <a:prstGeom prst="ellips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8000" y="1699920"/>
            <a:ext cx="4643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Класс 1.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elophytetosa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– Гелофитная (надводная) растительнос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Группа формаций 1.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Формации корневищных длиннопобеговых гелофитов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1.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Формация Phragmiteta australis (гидрофильная)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Ассоциация Phragmites australis – Hydrocharis morsus-ranae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hragmites australis – Elodea canadensis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hragmites australis – Stratiotes aloides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арианты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hragmites australis – Stratiotes aloides + Hydrocharis morsus-ranae;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б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hragmites australis – Nymphaea candida + Stratiotes aloides;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в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hragmites australis – Stratiotes aloides + Potamogeton lucens;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г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hragmites australis + Typha latifolia – Stratiotes aloides – Ceratophyllum demersum;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д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hragmites australis + Typha latifolia – Stratiotes aloides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2. Формация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Scolochloeta festucaceae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Ассоциация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colochloa festucacea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atiotes aloides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Группа формаций 2. Формации корневищных розеточных гелофитов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3. Формация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ypheta angustifoliae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Ассоциация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ha angustifolia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atiotes aloides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арианты ассоциации: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5а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ha angustifolia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phar pumila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atiotes aloides;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ha angustifolia – Nuphar lutea + Stratiotes aloides; 5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Typha angustifolia – Stratiotes aloides + Hydrocharis morsus-ranae;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Typha angustifolia – Stratiotes aloides + Spirodela polyrhiza;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Typha angustifolia – Stratiotes aloides + Salvinia natans;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Typha angustifolia – Stratiotes aloides + Potamogeton perfoliatu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4. Формация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Typheta latifoliae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(гидрофильная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Ассоциация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ha latifolia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rippa amphibia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 Вариант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Typha latifolia – Rorippa amphibia + Stratiotes aloid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00360" y="1699920"/>
            <a:ext cx="43542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5. Формация Acoreta calameti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i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Ассоциация Acorus calamus – Stratiotes aloides + Hydrocharis morsus-ranae.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ариант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Acorus calamus – Stratiotes aloides + Hydrocharis morsus-ranae + Salvinia nata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6. Формация Butometa umbellati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Ассоциация Butomus umbellatus + Alisma plantago-aquatic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7.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Формация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Schoenoplecteta lacustri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choenoplectus lacustris – Potamogeton lucens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choenoplectus lacustris – Stratiotes aloid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8.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Формация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Cariceta acuta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arex acuta + Equisetum fluviatile – Spirodela polyrhiza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arex acuta – Lemna trisulc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9.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Формация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Cariceta omskianae (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гидрофильная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Ассоциация Carex omskiana – Comarum palustre – Hydrocharis morsus-rana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Группа формаций 3. Формации клубневых розеточных гелофит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0.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Формация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Sparganieta erecti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Ассоциация Sparganium erectum – Stratiotes aloides.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ариант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parganium erectum – Stratiotes aloides – Potamogeton perfoliatus + P. luce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1.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Формация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Sagittarieta sagittifoliae.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 Субформация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Sagittarieta sagittifoliae (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надводная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форма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Ассоциация Sagittaria sagittifolia – Lemna trisulca + Utricularia vulgaris.16. Ассоциация Sagittaria sagittifolia – Stratiotes aloid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826920" y="549360"/>
            <a:ext cx="76964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 Black"/>
              </a:rPr>
              <a:t>С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oenocomplex</a:t>
            </a:r>
            <a:r>
              <a:rPr b="1" i="1" lang="en-US" sz="2400" spc="-1" strike="noStrike">
                <a:solidFill>
                  <a:srgbClr val="336666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of </a:t>
            </a:r>
            <a:r>
              <a:rPr b="1" i="1" lang="en-US" sz="2400" spc="-1" strike="noStrike">
                <a:solidFill>
                  <a:srgbClr val="336666"/>
                </a:solidFill>
                <a:latin typeface="Arial Black"/>
              </a:rPr>
              <a:t>S. aloides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 in</a:t>
            </a:r>
            <a:br>
              <a:rPr sz="2400"/>
            </a:b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the South Part of Western Siberia (part I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CF0D-83CB-4A30-835A-BB6DBDF40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431964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Группа формаций 4. Формации дву-, однолетних стержнекорневых длиннопобеговых гелофит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2.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Формация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Oenantheta aquatica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enanthe aquatica – Stratiotes aloid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Группа формаций 5. Формации корневищных хвощевидных гелофит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13. Формация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Equiseteta fluviatilis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(гидрофильная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Ассоциация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quisetum fluviatil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atiotes aloides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Класс 2.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Pleustophytetosa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 – Плейстофитная (наводная) растительнос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Группа формаций 6. Формации корневищных розеточных плейстофит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4.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Формация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Nymphaeeta candida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Nymphaea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ida + Stratiotes aioides.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ариант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Nymphaea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dida + Stratiotes aioides – Elodea canadensi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5.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Формация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Nuphareta lutea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Nuphar lutea + Stratiotes aloides.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ариант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Nuphar lutea + Hydrocharis morsus-ranae + Stratiotes aloides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Ассоциация Nuphar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utea – Lemna trisulca + Ceratophyllum demersu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6. Формация Nuphareta pumila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Ассоциация Nuphar pumila – Lemna trisulca + Ceratophyllum demersu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Класс 3.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ydatophytetosa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– Гидатофитная (подводная) растительнос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Группа формаций 7. Формации турионовых длиннопобеговых (укореняющихся) гидатофит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56000" y="1773360"/>
            <a:ext cx="460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17. Формация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Myriophylleta spicati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3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Myriophyllum spicatum + Stratiotes aloides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4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Myriophyllum spicatum +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trachium trichophyllu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8.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Формация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Elodeeta canadensi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5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lodea canadensis + Stratiotes aloid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Группа формаций 8. Формации турионовых розеточных (укореняющихся) гидатофит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19. Формация Stratioteta aloidi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6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Ассоциация Stratiotes aloides + Hydrocharis morsus-ranae.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арианты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й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tratiotes aloides + Hydrocharis morsusus-ranaea + Spirodela polyrhiza;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6б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tratiotes aloides + Hydrocharis morsus-ranae + Salvinia natans + Spirodela polyrhiza;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6в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tratiotes aloides + Hydrocharis morsusus-ranaea + Lemna trisulca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Ассоциация Stratiotes aloides + Myriophyllum verticillatum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8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tratiotes aloides purum.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ариант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 Stratiotes aloides purum + Warnstorfia exannulata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tratiotes aloides + Lemna trisulca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tratiotes aloides + Ceratophyllum demersum.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арианты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tratiotes aloides + Ceratophyllum demersum + Stuckenia pectinata;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б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tratiotes aloides + Ceratophyllum demersum + Potamogeton perfoliatus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1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Ассоциация Stratiotes aloides + Nuphar lutea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2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tratiotes aloides + Batrachium trichophullum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3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Ассоциация Stratiotes aloides + Hydrocharis morsus-ranae + Hydrilla verticillata +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lodea canadensis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Ассоциация Stratiotes aloides aquiherbos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Группа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формаций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9.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Формации турионовых листецовых гидатофит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20. Формация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Lemneta trisulcae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5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Lemna trisulca + Stratiotes aloid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title"/>
          </p:nvPr>
        </p:nvSpPr>
        <p:spPr>
          <a:xfrm>
            <a:off x="755640" y="476280"/>
            <a:ext cx="769608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 Black"/>
              </a:rPr>
              <a:t>С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oenocomplex</a:t>
            </a:r>
            <a:r>
              <a:rPr b="1" i="1" lang="en-US" sz="2400" spc="-1" strike="noStrike">
                <a:solidFill>
                  <a:srgbClr val="336666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of </a:t>
            </a:r>
            <a:r>
              <a:rPr b="1" i="1" lang="en-US" sz="2400" spc="-1" strike="noStrike">
                <a:solidFill>
                  <a:srgbClr val="336666"/>
                </a:solidFill>
                <a:latin typeface="Arial Black"/>
              </a:rPr>
              <a:t>S. aloides</a:t>
            </a: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 in</a:t>
            </a:r>
            <a:br>
              <a:rPr sz="2400"/>
            </a:br>
            <a:r>
              <a:rPr b="1" lang="en-US" sz="2400" spc="-1" strike="noStrike">
                <a:solidFill>
                  <a:srgbClr val="336666"/>
                </a:solidFill>
                <a:latin typeface="Arial Black"/>
              </a:rPr>
              <a:t>the South Part of Western Siberia (part II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Номер слайда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4A17-F31D-4EF7-9BCC-6912F16327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Example for association descrip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ссоци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iotes aloides + Hydrocharis morsus-ranae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65–80 %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ъяру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иниру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 aloi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60–65 %)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ейстофит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ъяру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обладае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. morsus-rana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5–30 %).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ratophyllum demersum, Lemna trisulca, Typha angustifol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II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Lemna minor, Nymphaea candida, Cladophora glomer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I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гранич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7,8±3,4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а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тречается в пересыхающих протоках долин рр. Иртыш, Омь, Тартас, Тара. Формируется на глубинах 0,3–1,0 м и органических илах. Изредка, преимущественно в водоемах лесостепной з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ы ассоциац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6а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iotes aloide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drocharis morsu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a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+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rodela polyrhiz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[Свириденко, 2000]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тречается в пресных озерах и заливах проток долин рр. Иртыш, Ишим, Омь, Тартас. Грунты: илы органические, детрит. Диапазон глубин – 0,6–2,8 м. Довольно часто в водоемах на всей территории исслед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6б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iotes aloide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drocharis morsu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a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vinia natan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rodela polyrhiz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тречается в долинных водоемах р. Иртыш на юге лесостепной и степной зон, ред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6в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iotes aloide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drocharis morsu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a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mna trisulc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тречается в пресных озерах долин рр. Иртыш, Омь. Грунты: ил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E32E-3F42-400F-9DAC-9C51378384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04:12:52Z</dcterms:created>
  <dc:creator>AEfremov</dc:creator>
  <dc:description/>
  <dc:language>en-US</dc:language>
  <cp:lastModifiedBy>Семья Гариных</cp:lastModifiedBy>
  <dcterms:modified xsi:type="dcterms:W3CDTF">2010-11-13T13:45:32Z</dcterms:modified>
  <cp:revision>97</cp:revision>
  <dc:subject/>
  <dc:title>Биологические особенности Stratiotes aloides L. (Hydrocharitaceae)</dc:title>
</cp:coreProperties>
</file>