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0A8A-3271-4903-AE0A-EEB4225F4C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9598-FF5A-4395-BB8D-D9DF9A09BB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ADB-4333-45E2-98ED-A915CE3331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6BC0-5313-4CDC-BBDE-9E1151345E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F3C4-3160-46D3-BA6B-3DD96CF83A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507E-FE2B-4F83-BA8D-1F37F0766C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550F-3BAC-474D-AD93-3EAB6CBBEB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0CAD-57BF-4061-BCDC-F437C9EA12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2AF1-C33A-4C24-8B5E-C64A497A0F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E788-20F4-4614-BE49-145DF6B742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79CB-D161-4DCB-B05C-DBF6BF1A8F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7953-9DA0-4FA7-9330-45D2377F6A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3261-5377-4EC8-87DD-7D5791A77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16B8-4011-4434-975B-F2B5178337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E667-2D2F-4FCC-A02E-44BF234D0D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F8D-F9A3-4F0E-B885-F3037F96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71D-8E57-4E50-BCF4-4874F72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556-35ED-40B5-A23F-FFB0D3B5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8F5-6193-40C3-827B-8B9629A4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8DE-BD99-4267-941A-7E1EC8E0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D83-EE83-40FC-BC06-035C59D2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7DA-BE27-4229-94D4-CB25DABE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B12-0D58-4B27-B1B6-73DE961D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8DE-1A1B-4D2A-88D8-ABDF1D0A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E59-5D27-4220-9EF5-D25AEA26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5F4-10A5-446F-8501-7E09828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E94-BEF2-4EA9-9CB0-5999044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887F-0A93-4C28-BB08-96E9B58AA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42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даптации некоторых прибрежно-водных растени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 жизн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 перманентной сред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еза 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2840" y="54100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льцева  Татья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г. Челябинс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Oenanthe aqua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2" name="Группа 874"/>
          <p:cNvGrpSpPr/>
          <p:nvPr/>
        </p:nvGrpSpPr>
        <p:grpSpPr>
          <a:xfrm>
            <a:off x="819720" y="1050480"/>
            <a:ext cx="4140360" cy="1640160"/>
            <a:chOff x="819720" y="1050480"/>
            <a:chExt cx="4140360" cy="1640160"/>
          </a:xfrm>
        </p:grpSpPr>
        <p:grpSp>
          <p:nvGrpSpPr>
            <p:cNvPr id="1313" name="Group 3"/>
            <p:cNvGrpSpPr/>
            <p:nvPr/>
          </p:nvGrpSpPr>
          <p:grpSpPr>
            <a:xfrm>
              <a:off x="1813320" y="1123200"/>
              <a:ext cx="618120" cy="999360"/>
              <a:chOff x="1813320" y="1123200"/>
              <a:chExt cx="618120" cy="999360"/>
            </a:xfrm>
          </p:grpSpPr>
          <p:grpSp>
            <p:nvGrpSpPr>
              <p:cNvPr id="1314" name="Group 4"/>
              <p:cNvGrpSpPr/>
              <p:nvPr/>
            </p:nvGrpSpPr>
            <p:grpSpPr>
              <a:xfrm>
                <a:off x="2057400" y="1291680"/>
                <a:ext cx="374040" cy="523800"/>
                <a:chOff x="2057400" y="1291680"/>
                <a:chExt cx="374040" cy="523800"/>
              </a:xfrm>
            </p:grpSpPr>
            <p:sp>
              <p:nvSpPr>
                <p:cNvPr id="1315" name="Arc 5"/>
                <p:cNvSpPr/>
                <p:nvPr/>
              </p:nvSpPr>
              <p:spPr>
                <a:xfrm flipV="1" rot="21094200">
                  <a:off x="2091600" y="1308240"/>
                  <a:ext cx="270720" cy="489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16" name="AutoShape 6"/>
                <p:cNvCxnSpPr/>
                <p:nvPr/>
              </p:nvCxnSpPr>
              <p:spPr>
                <a:xfrm flipH="1">
                  <a:off x="2336400" y="1430640"/>
                  <a:ext cx="95400" cy="36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17" name="AutoShape 7"/>
                <p:cNvCxnSpPr/>
                <p:nvPr/>
              </p:nvCxnSpPr>
              <p:spPr>
                <a:xfrm flipH="1">
                  <a:off x="2322360" y="1394280"/>
                  <a:ext cx="95400" cy="36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18" name="AutoShape 8"/>
                <p:cNvCxnSpPr/>
                <p:nvPr/>
              </p:nvCxnSpPr>
              <p:spPr>
                <a:xfrm>
                  <a:off x="2200680" y="1394280"/>
                  <a:ext cx="123120" cy="36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19" name="AutoShape 9"/>
                <p:cNvCxnSpPr/>
                <p:nvPr/>
              </p:nvCxnSpPr>
              <p:spPr>
                <a:xfrm>
                  <a:off x="2197440" y="1431720"/>
                  <a:ext cx="124200" cy="36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20" name="Group 10"/>
              <p:cNvGrpSpPr/>
              <p:nvPr/>
            </p:nvGrpSpPr>
            <p:grpSpPr>
              <a:xfrm>
                <a:off x="2074320" y="1708200"/>
                <a:ext cx="79200" cy="115200"/>
                <a:chOff x="2074320" y="1708200"/>
                <a:chExt cx="79200" cy="115200"/>
              </a:xfrm>
            </p:grpSpPr>
            <p:grpSp>
              <p:nvGrpSpPr>
                <p:cNvPr id="1321" name="Group 11"/>
                <p:cNvGrpSpPr/>
                <p:nvPr/>
              </p:nvGrpSpPr>
              <p:grpSpPr>
                <a:xfrm>
                  <a:off x="2074680" y="1708200"/>
                  <a:ext cx="78840" cy="115200"/>
                  <a:chOff x="2074680" y="1708200"/>
                  <a:chExt cx="78840" cy="115200"/>
                </a:xfrm>
              </p:grpSpPr>
              <p:sp>
                <p:nvSpPr>
                  <p:cNvPr id="1322" name="Arc 12"/>
                  <p:cNvSpPr/>
                  <p:nvPr/>
                </p:nvSpPr>
                <p:spPr>
                  <a:xfrm>
                    <a:off x="2114640" y="1708200"/>
                    <a:ext cx="38880" cy="115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Arc 13"/>
                  <p:cNvSpPr/>
                  <p:nvPr/>
                </p:nvSpPr>
                <p:spPr>
                  <a:xfrm flipH="1">
                    <a:off x="2074680" y="1708200"/>
                    <a:ext cx="38880" cy="115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4" name="Group 14"/>
                <p:cNvGrpSpPr/>
                <p:nvPr/>
              </p:nvGrpSpPr>
              <p:grpSpPr>
                <a:xfrm>
                  <a:off x="2091600" y="1759680"/>
                  <a:ext cx="42480" cy="60840"/>
                  <a:chOff x="2091600" y="1759680"/>
                  <a:chExt cx="42480" cy="60840"/>
                </a:xfrm>
              </p:grpSpPr>
              <p:sp>
                <p:nvSpPr>
                  <p:cNvPr id="1325" name="Arc 15"/>
                  <p:cNvSpPr/>
                  <p:nvPr/>
                </p:nvSpPr>
                <p:spPr>
                  <a:xfrm>
                    <a:off x="2113200" y="1759680"/>
                    <a:ext cx="20880" cy="60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Arc 16"/>
                  <p:cNvSpPr/>
                  <p:nvPr/>
                </p:nvSpPr>
                <p:spPr>
                  <a:xfrm flipH="1">
                    <a:off x="2091600" y="1759680"/>
                    <a:ext cx="20880" cy="60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327" name="AutoShape 17"/>
                <p:cNvCxnSpPr/>
                <p:nvPr/>
              </p:nvCxnSpPr>
              <p:spPr>
                <a:xfrm>
                  <a:off x="2074320" y="1820880"/>
                  <a:ext cx="795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328" name="Freeform 18"/>
              <p:cNvSpPr/>
              <p:nvPr/>
            </p:nvSpPr>
            <p:spPr>
              <a:xfrm>
                <a:off x="2128680" y="1846080"/>
                <a:ext cx="182880" cy="265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9"/>
              <p:cNvSpPr/>
              <p:nvPr/>
            </p:nvSpPr>
            <p:spPr>
              <a:xfrm>
                <a:off x="1829880" y="1829880"/>
                <a:ext cx="271440" cy="146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20"/>
              <p:cNvSpPr/>
              <p:nvPr/>
            </p:nvSpPr>
            <p:spPr>
              <a:xfrm>
                <a:off x="1973160" y="1832760"/>
                <a:ext cx="128160" cy="28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21"/>
              <p:cNvSpPr/>
              <p:nvPr/>
            </p:nvSpPr>
            <p:spPr>
              <a:xfrm>
                <a:off x="2153520" y="1831680"/>
                <a:ext cx="235800" cy="178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Rectangle 22"/>
              <p:cNvSpPr/>
              <p:nvPr/>
            </p:nvSpPr>
            <p:spPr>
              <a:xfrm>
                <a:off x="2109960" y="1818360"/>
                <a:ext cx="27720" cy="2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3" name="Group 23"/>
              <p:cNvGrpSpPr/>
              <p:nvPr/>
            </p:nvGrpSpPr>
            <p:grpSpPr>
              <a:xfrm>
                <a:off x="1993320" y="1123200"/>
                <a:ext cx="317520" cy="718560"/>
                <a:chOff x="1993320" y="1123200"/>
                <a:chExt cx="317520" cy="718560"/>
              </a:xfrm>
            </p:grpSpPr>
            <p:sp>
              <p:nvSpPr>
                <p:cNvPr id="1334" name="Arc 24"/>
                <p:cNvSpPr/>
                <p:nvPr/>
              </p:nvSpPr>
              <p:spPr>
                <a:xfrm flipV="1" rot="21094200">
                  <a:off x="2043000" y="1135080"/>
                  <a:ext cx="213480" cy="694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35" name="AutoShape 25"/>
                <p:cNvCxnSpPr/>
                <p:nvPr/>
              </p:nvCxnSpPr>
              <p:spPr>
                <a:xfrm flipH="1">
                  <a:off x="2235960" y="1306800"/>
                  <a:ext cx="75240" cy="507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36" name="AutoShape 26"/>
                <p:cNvCxnSpPr/>
                <p:nvPr/>
              </p:nvCxnSpPr>
              <p:spPr>
                <a:xfrm flipH="1">
                  <a:off x="2224800" y="1256040"/>
                  <a:ext cx="75240" cy="51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37" name="AutoShape 27"/>
                <p:cNvCxnSpPr/>
                <p:nvPr/>
              </p:nvCxnSpPr>
              <p:spPr>
                <a:xfrm>
                  <a:off x="2129040" y="1256040"/>
                  <a:ext cx="97200" cy="51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38" name="AutoShape 28"/>
                <p:cNvCxnSpPr/>
                <p:nvPr/>
              </p:nvCxnSpPr>
              <p:spPr>
                <a:xfrm>
                  <a:off x="2126520" y="1309320"/>
                  <a:ext cx="97920" cy="51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39" name="Group 29"/>
              <p:cNvGrpSpPr/>
              <p:nvPr/>
            </p:nvGrpSpPr>
            <p:grpSpPr>
              <a:xfrm>
                <a:off x="1813320" y="1289880"/>
                <a:ext cx="374040" cy="523440"/>
                <a:chOff x="1813320" y="1289880"/>
                <a:chExt cx="374040" cy="523440"/>
              </a:xfrm>
            </p:grpSpPr>
            <p:sp>
              <p:nvSpPr>
                <p:cNvPr id="1340" name="Arc 30"/>
                <p:cNvSpPr/>
                <p:nvPr/>
              </p:nvSpPr>
              <p:spPr>
                <a:xfrm flipH="1" flipV="1" rot="505800">
                  <a:off x="1882440" y="1306800"/>
                  <a:ext cx="270360" cy="489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41" name="AutoShape 31"/>
                <p:cNvCxnSpPr/>
                <p:nvPr/>
              </p:nvCxnSpPr>
              <p:spPr>
                <a:xfrm>
                  <a:off x="1813320" y="1428480"/>
                  <a:ext cx="95400" cy="36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42" name="AutoShape 32"/>
                <p:cNvCxnSpPr/>
                <p:nvPr/>
              </p:nvCxnSpPr>
              <p:spPr>
                <a:xfrm>
                  <a:off x="1827720" y="1392120"/>
                  <a:ext cx="95040" cy="36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43" name="AutoShape 33"/>
                <p:cNvCxnSpPr/>
                <p:nvPr/>
              </p:nvCxnSpPr>
              <p:spPr>
                <a:xfrm flipH="1">
                  <a:off x="1922760" y="1392120"/>
                  <a:ext cx="122400" cy="36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44" name="AutoShape 34"/>
                <p:cNvCxnSpPr/>
                <p:nvPr/>
              </p:nvCxnSpPr>
              <p:spPr>
                <a:xfrm flipH="1">
                  <a:off x="1923840" y="1429560"/>
                  <a:ext cx="123840" cy="36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</p:grpSp>
        <p:grpSp>
          <p:nvGrpSpPr>
            <p:cNvPr id="1345" name="Group 35"/>
            <p:cNvGrpSpPr/>
            <p:nvPr/>
          </p:nvGrpSpPr>
          <p:grpSpPr>
            <a:xfrm>
              <a:off x="2788920" y="1050480"/>
              <a:ext cx="735840" cy="1096920"/>
              <a:chOff x="2788920" y="1050480"/>
              <a:chExt cx="735840" cy="1096920"/>
            </a:xfrm>
          </p:grpSpPr>
          <p:sp>
            <p:nvSpPr>
              <p:cNvPr id="1346" name="Freeform 36"/>
              <p:cNvSpPr/>
              <p:nvPr/>
            </p:nvSpPr>
            <p:spPr>
              <a:xfrm>
                <a:off x="2820600" y="1851480"/>
                <a:ext cx="296640" cy="284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37"/>
              <p:cNvSpPr/>
              <p:nvPr/>
            </p:nvSpPr>
            <p:spPr>
              <a:xfrm>
                <a:off x="3175200" y="1829520"/>
                <a:ext cx="316800" cy="244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38"/>
              <p:cNvSpPr/>
              <p:nvPr/>
            </p:nvSpPr>
            <p:spPr>
              <a:xfrm>
                <a:off x="3150720" y="1871640"/>
                <a:ext cx="229680" cy="275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39"/>
              <p:cNvSpPr/>
              <p:nvPr/>
            </p:nvSpPr>
            <p:spPr>
              <a:xfrm>
                <a:off x="2788920" y="1843200"/>
                <a:ext cx="340920" cy="151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40"/>
              <p:cNvSpPr/>
              <p:nvPr/>
            </p:nvSpPr>
            <p:spPr>
              <a:xfrm>
                <a:off x="2968920" y="1845720"/>
                <a:ext cx="160560" cy="301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41"/>
              <p:cNvSpPr/>
              <p:nvPr/>
            </p:nvSpPr>
            <p:spPr>
              <a:xfrm>
                <a:off x="3195720" y="1845000"/>
                <a:ext cx="296280" cy="186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Rectangle 42"/>
              <p:cNvSpPr/>
              <p:nvPr/>
            </p:nvSpPr>
            <p:spPr>
              <a:xfrm>
                <a:off x="3140640" y="1831320"/>
                <a:ext cx="34200" cy="2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3" name="Group 43"/>
              <p:cNvGrpSpPr/>
              <p:nvPr/>
            </p:nvGrpSpPr>
            <p:grpSpPr>
              <a:xfrm>
                <a:off x="3004920" y="1103760"/>
                <a:ext cx="388080" cy="754200"/>
                <a:chOff x="3004920" y="1103760"/>
                <a:chExt cx="388080" cy="754200"/>
              </a:xfrm>
            </p:grpSpPr>
            <p:sp>
              <p:nvSpPr>
                <p:cNvPr id="1354" name="Arc 44"/>
                <p:cNvSpPr/>
                <p:nvPr/>
              </p:nvSpPr>
              <p:spPr>
                <a:xfrm flipV="1" rot="21094200">
                  <a:off x="3056040" y="1118880"/>
                  <a:ext cx="267840" cy="722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55" name="AutoShape 45"/>
                <p:cNvCxnSpPr/>
                <p:nvPr/>
              </p:nvCxnSpPr>
              <p:spPr>
                <a:xfrm flipH="1">
                  <a:off x="3299040" y="1298880"/>
                  <a:ext cx="94320" cy="52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56" name="AutoShape 46"/>
                <p:cNvCxnSpPr/>
                <p:nvPr/>
              </p:nvCxnSpPr>
              <p:spPr>
                <a:xfrm flipH="1">
                  <a:off x="3285000" y="1246320"/>
                  <a:ext cx="94320" cy="53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57" name="AutoShape 47"/>
                <p:cNvCxnSpPr/>
                <p:nvPr/>
              </p:nvCxnSpPr>
              <p:spPr>
                <a:xfrm>
                  <a:off x="3164040" y="1246320"/>
                  <a:ext cx="121680" cy="53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58" name="AutoShape 48"/>
                <p:cNvCxnSpPr/>
                <p:nvPr/>
              </p:nvCxnSpPr>
              <p:spPr>
                <a:xfrm>
                  <a:off x="3161160" y="1301400"/>
                  <a:ext cx="122400" cy="53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9" name="Group 49"/>
              <p:cNvGrpSpPr/>
              <p:nvPr/>
            </p:nvGrpSpPr>
            <p:grpSpPr>
              <a:xfrm>
                <a:off x="2887200" y="1237680"/>
                <a:ext cx="326880" cy="584640"/>
                <a:chOff x="2887200" y="1237680"/>
                <a:chExt cx="326880" cy="584640"/>
              </a:xfrm>
            </p:grpSpPr>
            <p:sp>
              <p:nvSpPr>
                <p:cNvPr id="1360" name="Arc 50"/>
                <p:cNvSpPr/>
                <p:nvPr/>
              </p:nvSpPr>
              <p:spPr>
                <a:xfrm flipH="1" flipV="1" rot="505800">
                  <a:off x="2945160" y="1251360"/>
                  <a:ext cx="228960" cy="557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61" name="AutoShape 51"/>
                <p:cNvCxnSpPr/>
                <p:nvPr/>
              </p:nvCxnSpPr>
              <p:spPr>
                <a:xfrm>
                  <a:off x="2887200" y="1389240"/>
                  <a:ext cx="81000" cy="40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62" name="AutoShape 52"/>
                <p:cNvCxnSpPr/>
                <p:nvPr/>
              </p:nvCxnSpPr>
              <p:spPr>
                <a:xfrm>
                  <a:off x="2899080" y="1348200"/>
                  <a:ext cx="80640" cy="41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63" name="AutoShape 53"/>
                <p:cNvCxnSpPr/>
                <p:nvPr/>
              </p:nvCxnSpPr>
              <p:spPr>
                <a:xfrm flipH="1">
                  <a:off x="2979360" y="1348200"/>
                  <a:ext cx="104040" cy="41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64" name="AutoShape 54"/>
                <p:cNvCxnSpPr/>
                <p:nvPr/>
              </p:nvCxnSpPr>
              <p:spPr>
                <a:xfrm flipH="1">
                  <a:off x="2980440" y="1391040"/>
                  <a:ext cx="105120" cy="41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65" name="Group 55"/>
              <p:cNvGrpSpPr/>
              <p:nvPr/>
            </p:nvGrpSpPr>
            <p:grpSpPr>
              <a:xfrm>
                <a:off x="2840040" y="1413360"/>
                <a:ext cx="326520" cy="410400"/>
                <a:chOff x="2840040" y="1413360"/>
                <a:chExt cx="326520" cy="410400"/>
              </a:xfrm>
            </p:grpSpPr>
            <p:sp>
              <p:nvSpPr>
                <p:cNvPr id="1366" name="Arc 56"/>
                <p:cNvSpPr/>
                <p:nvPr/>
              </p:nvSpPr>
              <p:spPr>
                <a:xfrm flipH="1" flipV="1" rot="505800">
                  <a:off x="2900520" y="1428480"/>
                  <a:ext cx="239040" cy="379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67" name="AutoShape 57"/>
                <p:cNvCxnSpPr/>
                <p:nvPr/>
              </p:nvCxnSpPr>
              <p:spPr>
                <a:xfrm>
                  <a:off x="2840040" y="1522800"/>
                  <a:ext cx="84240" cy="28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68" name="AutoShape 58"/>
                <p:cNvCxnSpPr/>
                <p:nvPr/>
              </p:nvCxnSpPr>
              <p:spPr>
                <a:xfrm>
                  <a:off x="2852640" y="1494720"/>
                  <a:ext cx="84240" cy="28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69" name="AutoShape 59"/>
                <p:cNvCxnSpPr/>
                <p:nvPr/>
              </p:nvCxnSpPr>
              <p:spPr>
                <a:xfrm flipH="1">
                  <a:off x="2935800" y="1494720"/>
                  <a:ext cx="108720" cy="28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70" name="AutoShape 60"/>
                <p:cNvCxnSpPr/>
                <p:nvPr/>
              </p:nvCxnSpPr>
              <p:spPr>
                <a:xfrm flipH="1">
                  <a:off x="2937600" y="1523880"/>
                  <a:ext cx="109440" cy="28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71" name="Group 61"/>
              <p:cNvGrpSpPr/>
              <p:nvPr/>
            </p:nvGrpSpPr>
            <p:grpSpPr>
              <a:xfrm>
                <a:off x="3096360" y="1716840"/>
                <a:ext cx="99360" cy="129240"/>
                <a:chOff x="3096360" y="1716840"/>
                <a:chExt cx="99360" cy="129240"/>
              </a:xfrm>
            </p:grpSpPr>
            <p:grpSp>
              <p:nvGrpSpPr>
                <p:cNvPr id="1372" name="Group 62"/>
                <p:cNvGrpSpPr/>
                <p:nvPr/>
              </p:nvGrpSpPr>
              <p:grpSpPr>
                <a:xfrm>
                  <a:off x="3096360" y="1716840"/>
                  <a:ext cx="99360" cy="119880"/>
                  <a:chOff x="3096360" y="1716840"/>
                  <a:chExt cx="99360" cy="119880"/>
                </a:xfrm>
              </p:grpSpPr>
              <p:sp>
                <p:nvSpPr>
                  <p:cNvPr id="1373" name="Arc 63"/>
                  <p:cNvSpPr/>
                  <p:nvPr/>
                </p:nvSpPr>
                <p:spPr>
                  <a:xfrm>
                    <a:off x="3147120" y="1716840"/>
                    <a:ext cx="48600" cy="119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Arc 64"/>
                  <p:cNvSpPr/>
                  <p:nvPr/>
                </p:nvSpPr>
                <p:spPr>
                  <a:xfrm flipH="1">
                    <a:off x="3096000" y="1716840"/>
                    <a:ext cx="48600" cy="119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" name="Group 65"/>
                <p:cNvGrpSpPr/>
                <p:nvPr/>
              </p:nvGrpSpPr>
              <p:grpSpPr>
                <a:xfrm>
                  <a:off x="3117600" y="1770120"/>
                  <a:ext cx="60120" cy="75960"/>
                  <a:chOff x="3117600" y="1770120"/>
                  <a:chExt cx="60120" cy="75960"/>
                </a:xfrm>
              </p:grpSpPr>
              <p:sp>
                <p:nvSpPr>
                  <p:cNvPr id="1376" name="Arc 66"/>
                  <p:cNvSpPr/>
                  <p:nvPr/>
                </p:nvSpPr>
                <p:spPr>
                  <a:xfrm>
                    <a:off x="3144960" y="1770120"/>
                    <a:ext cx="32760" cy="75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Arc 67"/>
                  <p:cNvSpPr/>
                  <p:nvPr/>
                </p:nvSpPr>
                <p:spPr>
                  <a:xfrm flipH="1">
                    <a:off x="3117240" y="1770120"/>
                    <a:ext cx="32760" cy="63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378" name="AutoShape 68"/>
                <p:cNvCxnSpPr/>
                <p:nvPr/>
              </p:nvCxnSpPr>
              <p:spPr>
                <a:xfrm>
                  <a:off x="3096360" y="1834200"/>
                  <a:ext cx="99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79" name="Group 69"/>
              <p:cNvGrpSpPr/>
              <p:nvPr/>
            </p:nvGrpSpPr>
            <p:grpSpPr>
              <a:xfrm>
                <a:off x="2912040" y="1050480"/>
                <a:ext cx="448920" cy="782640"/>
                <a:chOff x="2912040" y="1050480"/>
                <a:chExt cx="448920" cy="782640"/>
              </a:xfrm>
            </p:grpSpPr>
            <p:sp>
              <p:nvSpPr>
                <p:cNvPr id="1380" name="Arc 70"/>
                <p:cNvSpPr/>
                <p:nvPr/>
              </p:nvSpPr>
              <p:spPr>
                <a:xfrm flipH="1" flipV="1" rot="967800">
                  <a:off x="3009600" y="1070640"/>
                  <a:ext cx="252720" cy="741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81" name="AutoShape 71"/>
                <p:cNvCxnSpPr/>
                <p:nvPr/>
              </p:nvCxnSpPr>
              <p:spPr>
                <a:xfrm>
                  <a:off x="2971800" y="1230480"/>
                  <a:ext cx="81000" cy="65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82" name="AutoShape 72"/>
                <p:cNvCxnSpPr/>
                <p:nvPr/>
              </p:nvCxnSpPr>
              <p:spPr>
                <a:xfrm>
                  <a:off x="2992680" y="1179000"/>
                  <a:ext cx="81000" cy="66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83" name="AutoShape 73"/>
                <p:cNvCxnSpPr/>
                <p:nvPr/>
              </p:nvCxnSpPr>
              <p:spPr>
                <a:xfrm flipH="1">
                  <a:off x="3072960" y="1206000"/>
                  <a:ext cx="120960" cy="39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84" name="AutoShape 74"/>
                <p:cNvCxnSpPr/>
                <p:nvPr/>
              </p:nvCxnSpPr>
              <p:spPr>
                <a:xfrm flipH="1">
                  <a:off x="3066480" y="1262880"/>
                  <a:ext cx="122040" cy="3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385" name="Arc 75"/>
              <p:cNvSpPr/>
              <p:nvPr/>
            </p:nvSpPr>
            <p:spPr>
              <a:xfrm flipV="1" rot="21094200">
                <a:off x="3140280" y="1321920"/>
                <a:ext cx="305640" cy="48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86" name="AutoShape 76"/>
              <p:cNvCxnSpPr/>
              <p:nvPr/>
            </p:nvCxnSpPr>
            <p:spPr>
              <a:xfrm flipH="1">
                <a:off x="3417480" y="1443600"/>
                <a:ext cx="107640" cy="35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7" name="AutoShape 77"/>
              <p:cNvCxnSpPr/>
              <p:nvPr/>
            </p:nvCxnSpPr>
            <p:spPr>
              <a:xfrm flipH="1">
                <a:off x="3401280" y="1407960"/>
                <a:ext cx="107640" cy="3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8" name="AutoShape 78"/>
              <p:cNvCxnSpPr/>
              <p:nvPr/>
            </p:nvCxnSpPr>
            <p:spPr>
              <a:xfrm>
                <a:off x="3263400" y="1407960"/>
                <a:ext cx="138600" cy="3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9" name="AutoShape 79"/>
              <p:cNvCxnSpPr/>
              <p:nvPr/>
            </p:nvCxnSpPr>
            <p:spPr>
              <a:xfrm>
                <a:off x="3260880" y="1445400"/>
                <a:ext cx="139680" cy="3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0" name="AutoShape 80"/>
              <p:cNvCxnSpPr/>
              <p:nvPr/>
            </p:nvCxnSpPr>
            <p:spPr>
              <a:xfrm>
                <a:off x="3164040" y="1355760"/>
                <a:ext cx="139320" cy="3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1" name="AutoShape 81"/>
              <p:cNvCxnSpPr/>
              <p:nvPr/>
            </p:nvCxnSpPr>
            <p:spPr>
              <a:xfrm flipH="1">
                <a:off x="3285360" y="1322640"/>
                <a:ext cx="139320" cy="66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2" name="AutoShape 82"/>
              <p:cNvCxnSpPr/>
              <p:nvPr/>
            </p:nvCxnSpPr>
            <p:spPr>
              <a:xfrm>
                <a:off x="2957400" y="1287720"/>
                <a:ext cx="87120" cy="6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93" name="AutoShape 83"/>
              <p:cNvCxnSpPr/>
              <p:nvPr/>
            </p:nvCxnSpPr>
            <p:spPr>
              <a:xfrm flipH="1">
                <a:off x="3038760" y="1316160"/>
                <a:ext cx="139680" cy="3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394" name="Group 84"/>
            <p:cNvGrpSpPr/>
            <p:nvPr/>
          </p:nvGrpSpPr>
          <p:grpSpPr>
            <a:xfrm>
              <a:off x="3825720" y="1184400"/>
              <a:ext cx="1134360" cy="1056240"/>
              <a:chOff x="3825720" y="1184400"/>
              <a:chExt cx="1134360" cy="1056240"/>
            </a:xfrm>
          </p:grpSpPr>
          <p:grpSp>
            <p:nvGrpSpPr>
              <p:cNvPr id="1395" name="Group 85"/>
              <p:cNvGrpSpPr/>
              <p:nvPr/>
            </p:nvGrpSpPr>
            <p:grpSpPr>
              <a:xfrm>
                <a:off x="4317840" y="1734840"/>
                <a:ext cx="78480" cy="121320"/>
                <a:chOff x="4317840" y="1734840"/>
                <a:chExt cx="78480" cy="121320"/>
              </a:xfrm>
            </p:grpSpPr>
            <p:grpSp>
              <p:nvGrpSpPr>
                <p:cNvPr id="1396" name="Group 86"/>
                <p:cNvGrpSpPr/>
                <p:nvPr/>
              </p:nvGrpSpPr>
              <p:grpSpPr>
                <a:xfrm>
                  <a:off x="4317840" y="1734840"/>
                  <a:ext cx="78480" cy="121320"/>
                  <a:chOff x="4317840" y="1734840"/>
                  <a:chExt cx="78480" cy="121320"/>
                </a:xfrm>
              </p:grpSpPr>
              <p:sp>
                <p:nvSpPr>
                  <p:cNvPr id="1397" name="Arc 87"/>
                  <p:cNvSpPr/>
                  <p:nvPr/>
                </p:nvSpPr>
                <p:spPr>
                  <a:xfrm>
                    <a:off x="4357800" y="1734840"/>
                    <a:ext cx="38520" cy="121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Arc 88"/>
                  <p:cNvSpPr/>
                  <p:nvPr/>
                </p:nvSpPr>
                <p:spPr>
                  <a:xfrm flipH="1">
                    <a:off x="4317480" y="1734840"/>
                    <a:ext cx="38520" cy="121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9"/>
                <p:cNvGrpSpPr/>
                <p:nvPr/>
              </p:nvGrpSpPr>
              <p:grpSpPr>
                <a:xfrm>
                  <a:off x="4334760" y="1788840"/>
                  <a:ext cx="42120" cy="64080"/>
                  <a:chOff x="4334760" y="1788840"/>
                  <a:chExt cx="42120" cy="64080"/>
                </a:xfrm>
              </p:grpSpPr>
              <p:sp>
                <p:nvSpPr>
                  <p:cNvPr id="1400" name="Arc 90"/>
                  <p:cNvSpPr/>
                  <p:nvPr/>
                </p:nvSpPr>
                <p:spPr>
                  <a:xfrm>
                    <a:off x="4356360" y="1788840"/>
                    <a:ext cx="20520" cy="64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Arc 91"/>
                  <p:cNvSpPr/>
                  <p:nvPr/>
                </p:nvSpPr>
                <p:spPr>
                  <a:xfrm flipH="1">
                    <a:off x="4334400" y="1788840"/>
                    <a:ext cx="20520" cy="64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402" name="AutoShape 92"/>
                <p:cNvCxnSpPr/>
                <p:nvPr/>
              </p:nvCxnSpPr>
              <p:spPr>
                <a:xfrm>
                  <a:off x="4317840" y="1853640"/>
                  <a:ext cx="788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3" name="Group 93"/>
              <p:cNvGrpSpPr/>
              <p:nvPr/>
            </p:nvGrpSpPr>
            <p:grpSpPr>
              <a:xfrm>
                <a:off x="3968640" y="1328040"/>
                <a:ext cx="359280" cy="524880"/>
                <a:chOff x="3968640" y="1328040"/>
                <a:chExt cx="359280" cy="524880"/>
              </a:xfrm>
            </p:grpSpPr>
            <p:sp>
              <p:nvSpPr>
                <p:cNvPr id="1404" name="Arc 94"/>
                <p:cNvSpPr/>
                <p:nvPr/>
              </p:nvSpPr>
              <p:spPr>
                <a:xfrm flipH="1" flipV="1">
                  <a:off x="4060080" y="1383480"/>
                  <a:ext cx="267840" cy="469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5" name="Group 95"/>
                <p:cNvGrpSpPr/>
                <p:nvPr/>
              </p:nvGrpSpPr>
              <p:grpSpPr>
                <a:xfrm>
                  <a:off x="3968640" y="1328040"/>
                  <a:ext cx="159840" cy="333000"/>
                  <a:chOff x="3968640" y="1328040"/>
                  <a:chExt cx="159840" cy="333000"/>
                </a:xfrm>
              </p:grpSpPr>
              <p:cxnSp>
                <p:nvCxnSpPr>
                  <p:cNvPr id="1406" name="AutoShape 96"/>
                  <p:cNvCxnSpPr/>
                  <p:nvPr/>
                </p:nvCxnSpPr>
                <p:spPr>
                  <a:xfrm>
                    <a:off x="3987360" y="1328040"/>
                    <a:ext cx="86400" cy="103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07" name="AutoShape 97"/>
                  <p:cNvCxnSpPr/>
                  <p:nvPr/>
                </p:nvCxnSpPr>
                <p:spPr>
                  <a:xfrm>
                    <a:off x="3984120" y="1544040"/>
                    <a:ext cx="144720" cy="117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08" name="AutoShape 98"/>
                  <p:cNvCxnSpPr/>
                  <p:nvPr/>
                </p:nvCxnSpPr>
                <p:spPr>
                  <a:xfrm>
                    <a:off x="3968640" y="1405800"/>
                    <a:ext cx="90720" cy="84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09" name="AutoShape 99"/>
                  <p:cNvCxnSpPr/>
                  <p:nvPr/>
                </p:nvCxnSpPr>
                <p:spPr>
                  <a:xfrm>
                    <a:off x="3996000" y="1494360"/>
                    <a:ext cx="93240" cy="75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1410" name="Group 100"/>
                <p:cNvGrpSpPr/>
                <p:nvPr/>
              </p:nvGrpSpPr>
              <p:grpSpPr>
                <a:xfrm>
                  <a:off x="4047480" y="1340280"/>
                  <a:ext cx="130320" cy="346320"/>
                  <a:chOff x="4047480" y="1340280"/>
                  <a:chExt cx="130320" cy="346320"/>
                </a:xfrm>
              </p:grpSpPr>
              <p:cxnSp>
                <p:nvCxnSpPr>
                  <p:cNvPr id="1411" name="AutoShape 101"/>
                  <p:cNvCxnSpPr/>
                  <p:nvPr/>
                </p:nvCxnSpPr>
                <p:spPr>
                  <a:xfrm flipH="1">
                    <a:off x="4047480" y="1340280"/>
                    <a:ext cx="24480" cy="131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12" name="AutoShape 102"/>
                  <p:cNvCxnSpPr/>
                  <p:nvPr/>
                </p:nvCxnSpPr>
                <p:spPr>
                  <a:xfrm flipH="1">
                    <a:off x="4110120" y="1510920"/>
                    <a:ext cx="68040" cy="176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13" name="AutoShape 103"/>
                  <p:cNvCxnSpPr/>
                  <p:nvPr/>
                </p:nvCxnSpPr>
                <p:spPr>
                  <a:xfrm flipH="1">
                    <a:off x="4086720" y="1391760"/>
                    <a:ext cx="38160" cy="118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14" name="AutoShape 104"/>
                  <p:cNvCxnSpPr/>
                  <p:nvPr/>
                </p:nvCxnSpPr>
                <p:spPr>
                  <a:xfrm flipH="1">
                    <a:off x="4100400" y="1477800"/>
                    <a:ext cx="44280" cy="113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1415" name="Group 105"/>
              <p:cNvGrpSpPr/>
              <p:nvPr/>
            </p:nvGrpSpPr>
            <p:grpSpPr>
              <a:xfrm>
                <a:off x="4381560" y="1240560"/>
                <a:ext cx="331200" cy="614880"/>
                <a:chOff x="4381560" y="1240560"/>
                <a:chExt cx="331200" cy="614880"/>
              </a:xfrm>
            </p:grpSpPr>
            <p:sp>
              <p:nvSpPr>
                <p:cNvPr id="1416" name="Arc 106"/>
                <p:cNvSpPr/>
                <p:nvPr/>
              </p:nvSpPr>
              <p:spPr>
                <a:xfrm flipV="1">
                  <a:off x="4381560" y="1300320"/>
                  <a:ext cx="249840" cy="555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7" name="Group 107"/>
                <p:cNvGrpSpPr/>
                <p:nvPr/>
              </p:nvGrpSpPr>
              <p:grpSpPr>
                <a:xfrm>
                  <a:off x="4576320" y="1240560"/>
                  <a:ext cx="136440" cy="381600"/>
                  <a:chOff x="4576320" y="1240560"/>
                  <a:chExt cx="136440" cy="381600"/>
                </a:xfrm>
              </p:grpSpPr>
              <p:cxnSp>
                <p:nvCxnSpPr>
                  <p:cNvPr id="1418" name="AutoShape 108"/>
                  <p:cNvCxnSpPr/>
                  <p:nvPr/>
                </p:nvCxnSpPr>
                <p:spPr>
                  <a:xfrm flipH="1">
                    <a:off x="4615200" y="1240560"/>
                    <a:ext cx="75600" cy="115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19" name="AutoShape 109"/>
                  <p:cNvCxnSpPr/>
                  <p:nvPr/>
                </p:nvCxnSpPr>
                <p:spPr>
                  <a:xfrm flipH="1">
                    <a:off x="4576320" y="1493640"/>
                    <a:ext cx="130320" cy="128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20" name="AutoShape 110"/>
                  <p:cNvCxnSpPr/>
                  <p:nvPr/>
                </p:nvCxnSpPr>
                <p:spPr>
                  <a:xfrm flipH="1">
                    <a:off x="4631760" y="1332360"/>
                    <a:ext cx="81360" cy="92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21" name="AutoShape 111"/>
                  <p:cNvCxnSpPr/>
                  <p:nvPr/>
                </p:nvCxnSpPr>
                <p:spPr>
                  <a:xfrm flipH="1">
                    <a:off x="4608360" y="1434240"/>
                    <a:ext cx="83520" cy="828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1422" name="Group 112"/>
                <p:cNvGrpSpPr/>
                <p:nvPr/>
              </p:nvGrpSpPr>
              <p:grpSpPr>
                <a:xfrm>
                  <a:off x="4510440" y="1271520"/>
                  <a:ext cx="132480" cy="363240"/>
                  <a:chOff x="4510440" y="1271520"/>
                  <a:chExt cx="132480" cy="363240"/>
                </a:xfrm>
              </p:grpSpPr>
              <p:cxnSp>
                <p:nvCxnSpPr>
                  <p:cNvPr id="1423" name="AutoShape 113"/>
                  <p:cNvCxnSpPr/>
                  <p:nvPr/>
                </p:nvCxnSpPr>
                <p:spPr>
                  <a:xfrm>
                    <a:off x="4600800" y="1271520"/>
                    <a:ext cx="42480" cy="1425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24" name="AutoShape 114"/>
                  <p:cNvCxnSpPr/>
                  <p:nvPr/>
                </p:nvCxnSpPr>
                <p:spPr>
                  <a:xfrm>
                    <a:off x="4510440" y="1440000"/>
                    <a:ext cx="93960" cy="19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25" name="AutoShape 115"/>
                  <p:cNvCxnSpPr/>
                  <p:nvPr/>
                </p:nvCxnSpPr>
                <p:spPr>
                  <a:xfrm>
                    <a:off x="4551480" y="1319400"/>
                    <a:ext cx="54720" cy="130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26" name="AutoShape 116"/>
                  <p:cNvCxnSpPr/>
                  <p:nvPr/>
                </p:nvCxnSpPr>
                <p:spPr>
                  <a:xfrm>
                    <a:off x="4542120" y="1409400"/>
                    <a:ext cx="60480" cy="125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1427" name="Group 117"/>
              <p:cNvGrpSpPr/>
              <p:nvPr/>
            </p:nvGrpSpPr>
            <p:grpSpPr>
              <a:xfrm>
                <a:off x="4361040" y="1296720"/>
                <a:ext cx="570960" cy="572040"/>
                <a:chOff x="4361040" y="1296720"/>
                <a:chExt cx="570960" cy="572040"/>
              </a:xfrm>
            </p:grpSpPr>
            <p:sp>
              <p:nvSpPr>
                <p:cNvPr id="1428" name="Arc 118"/>
                <p:cNvSpPr/>
                <p:nvPr/>
              </p:nvSpPr>
              <p:spPr>
                <a:xfrm flipV="1" rot="21094200">
                  <a:off x="4395960" y="1326600"/>
                  <a:ext cx="450720" cy="511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19"/>
                <p:cNvGrpSpPr/>
                <p:nvPr/>
              </p:nvGrpSpPr>
              <p:grpSpPr>
                <a:xfrm>
                  <a:off x="4724280" y="1326960"/>
                  <a:ext cx="207720" cy="318240"/>
                  <a:chOff x="4724280" y="1326960"/>
                  <a:chExt cx="207720" cy="318240"/>
                </a:xfrm>
              </p:grpSpPr>
              <p:cxnSp>
                <p:nvCxnSpPr>
                  <p:cNvPr id="1430" name="AutoShape 120"/>
                  <p:cNvCxnSpPr/>
                  <p:nvPr/>
                </p:nvCxnSpPr>
                <p:spPr>
                  <a:xfrm flipH="1">
                    <a:off x="4827960" y="1326960"/>
                    <a:ext cx="104400" cy="878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31" name="AutoShape 121"/>
                  <p:cNvCxnSpPr/>
                  <p:nvPr/>
                </p:nvCxnSpPr>
                <p:spPr>
                  <a:xfrm flipH="1">
                    <a:off x="4724280" y="1557720"/>
                    <a:ext cx="162720" cy="878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32" name="AutoShape 122"/>
                  <p:cNvCxnSpPr/>
                  <p:nvPr/>
                </p:nvCxnSpPr>
                <p:spPr>
                  <a:xfrm flipH="1">
                    <a:off x="4827960" y="1414440"/>
                    <a:ext cx="104400" cy="65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33" name="AutoShape 123"/>
                  <p:cNvCxnSpPr/>
                  <p:nvPr/>
                </p:nvCxnSpPr>
                <p:spPr>
                  <a:xfrm flipH="1">
                    <a:off x="4781880" y="1501920"/>
                    <a:ext cx="104760" cy="56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1434" name="Group 124"/>
                <p:cNvGrpSpPr/>
                <p:nvPr/>
              </p:nvGrpSpPr>
              <p:grpSpPr>
                <a:xfrm>
                  <a:off x="4672800" y="1322640"/>
                  <a:ext cx="135720" cy="363960"/>
                  <a:chOff x="4672800" y="1322640"/>
                  <a:chExt cx="135720" cy="363960"/>
                </a:xfrm>
              </p:grpSpPr>
              <p:cxnSp>
                <p:nvCxnSpPr>
                  <p:cNvPr id="1435" name="AutoShape 125"/>
                  <p:cNvCxnSpPr/>
                  <p:nvPr/>
                </p:nvCxnSpPr>
                <p:spPr>
                  <a:xfrm>
                    <a:off x="4779360" y="1322640"/>
                    <a:ext cx="29520" cy="1389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36" name="AutoShape 126"/>
                  <p:cNvCxnSpPr/>
                  <p:nvPr/>
                </p:nvCxnSpPr>
                <p:spPr>
                  <a:xfrm>
                    <a:off x="4672800" y="1499760"/>
                    <a:ext cx="76680" cy="187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37" name="AutoShape 127"/>
                  <p:cNvCxnSpPr/>
                  <p:nvPr/>
                </p:nvCxnSpPr>
                <p:spPr>
                  <a:xfrm>
                    <a:off x="4725360" y="1374840"/>
                    <a:ext cx="43200" cy="126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38" name="AutoShape 128"/>
                  <p:cNvCxnSpPr/>
                  <p:nvPr/>
                </p:nvCxnSpPr>
                <p:spPr>
                  <a:xfrm>
                    <a:off x="4708080" y="1465920"/>
                    <a:ext cx="49320" cy="120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1439" name="Group 129"/>
              <p:cNvGrpSpPr/>
              <p:nvPr/>
            </p:nvGrpSpPr>
            <p:grpSpPr>
              <a:xfrm>
                <a:off x="3825720" y="1417320"/>
                <a:ext cx="584280" cy="480240"/>
                <a:chOff x="3825720" y="1417320"/>
                <a:chExt cx="584280" cy="480240"/>
              </a:xfrm>
            </p:grpSpPr>
            <p:sp>
              <p:nvSpPr>
                <p:cNvPr id="1440" name="Arc 130"/>
                <p:cNvSpPr/>
                <p:nvPr/>
              </p:nvSpPr>
              <p:spPr>
                <a:xfrm flipH="1" flipV="1" rot="21411600">
                  <a:off x="3912840" y="1430280"/>
                  <a:ext cx="484920" cy="454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1" name="Group 131"/>
                <p:cNvGrpSpPr/>
                <p:nvPr/>
              </p:nvGrpSpPr>
              <p:grpSpPr>
                <a:xfrm>
                  <a:off x="3825720" y="1489320"/>
                  <a:ext cx="214200" cy="204480"/>
                  <a:chOff x="3825720" y="1489320"/>
                  <a:chExt cx="214200" cy="204480"/>
                </a:xfrm>
              </p:grpSpPr>
              <p:cxnSp>
                <p:nvCxnSpPr>
                  <p:cNvPr id="1442" name="AutoShape 132"/>
                  <p:cNvCxnSpPr/>
                  <p:nvPr/>
                </p:nvCxnSpPr>
                <p:spPr>
                  <a:xfrm>
                    <a:off x="3831120" y="1603800"/>
                    <a:ext cx="94680" cy="19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43" name="AutoShape 133"/>
                  <p:cNvCxnSpPr/>
                  <p:nvPr/>
                </p:nvCxnSpPr>
                <p:spPr>
                  <a:xfrm>
                    <a:off x="3825720" y="1553400"/>
                    <a:ext cx="94680" cy="19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44" name="AutoShape 134"/>
                  <p:cNvCxnSpPr/>
                  <p:nvPr/>
                </p:nvCxnSpPr>
                <p:spPr>
                  <a:xfrm flipH="1">
                    <a:off x="3919320" y="1489320"/>
                    <a:ext cx="82800" cy="83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45" name="AutoShape 135"/>
                  <p:cNvCxnSpPr/>
                  <p:nvPr/>
                </p:nvCxnSpPr>
                <p:spPr>
                  <a:xfrm flipH="1">
                    <a:off x="3921480" y="1537200"/>
                    <a:ext cx="100440" cy="76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46" name="AutoShape 136"/>
                  <p:cNvCxnSpPr/>
                  <p:nvPr/>
                </p:nvCxnSpPr>
                <p:spPr>
                  <a:xfrm flipH="1">
                    <a:off x="3965040" y="1587600"/>
                    <a:ext cx="75240" cy="1065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47" name="AutoShape 137"/>
                  <p:cNvCxnSpPr/>
                  <p:nvPr/>
                </p:nvCxnSpPr>
                <p:spPr>
                  <a:xfrm>
                    <a:off x="3850920" y="1656360"/>
                    <a:ext cx="126000" cy="33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1448" name="Group 138"/>
              <p:cNvGrpSpPr/>
              <p:nvPr/>
            </p:nvGrpSpPr>
            <p:grpSpPr>
              <a:xfrm>
                <a:off x="4333680" y="1474200"/>
                <a:ext cx="626400" cy="416880"/>
                <a:chOff x="4333680" y="1474200"/>
                <a:chExt cx="626400" cy="416880"/>
              </a:xfrm>
            </p:grpSpPr>
            <p:sp>
              <p:nvSpPr>
                <p:cNvPr id="1449" name="Arc 139"/>
                <p:cNvSpPr/>
                <p:nvPr/>
              </p:nvSpPr>
              <p:spPr>
                <a:xfrm flipV="1" rot="188400">
                  <a:off x="4343760" y="1488240"/>
                  <a:ext cx="528480" cy="388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40"/>
                <p:cNvGrpSpPr/>
                <p:nvPr/>
              </p:nvGrpSpPr>
              <p:grpSpPr>
                <a:xfrm>
                  <a:off x="4735440" y="1531440"/>
                  <a:ext cx="224640" cy="183600"/>
                  <a:chOff x="4735440" y="1531440"/>
                  <a:chExt cx="224640" cy="183600"/>
                </a:xfrm>
              </p:grpSpPr>
              <p:cxnSp>
                <p:nvCxnSpPr>
                  <p:cNvPr id="1451" name="AutoShape 141"/>
                  <p:cNvCxnSpPr/>
                  <p:nvPr/>
                </p:nvCxnSpPr>
                <p:spPr>
                  <a:xfrm flipH="1">
                    <a:off x="4859640" y="1645560"/>
                    <a:ext cx="99000" cy="9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52" name="AutoShape 142"/>
                  <p:cNvCxnSpPr/>
                  <p:nvPr/>
                </p:nvCxnSpPr>
                <p:spPr>
                  <a:xfrm flipH="1">
                    <a:off x="4861800" y="1601280"/>
                    <a:ext cx="98640" cy="9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53" name="AutoShape 143"/>
                  <p:cNvCxnSpPr/>
                  <p:nvPr/>
                </p:nvCxnSpPr>
                <p:spPr>
                  <a:xfrm>
                    <a:off x="4768560" y="1531440"/>
                    <a:ext cx="93960" cy="79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54" name="AutoShape 144"/>
                  <p:cNvCxnSpPr/>
                  <p:nvPr/>
                </p:nvCxnSpPr>
                <p:spPr>
                  <a:xfrm>
                    <a:off x="4750920" y="1572480"/>
                    <a:ext cx="112320" cy="75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55" name="AutoShape 145"/>
                  <p:cNvCxnSpPr/>
                  <p:nvPr/>
                </p:nvCxnSpPr>
                <p:spPr>
                  <a:xfrm>
                    <a:off x="4735440" y="1615320"/>
                    <a:ext cx="87480" cy="10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56" name="AutoShape 146"/>
                  <p:cNvCxnSpPr/>
                  <p:nvPr/>
                </p:nvCxnSpPr>
                <p:spPr>
                  <a:xfrm flipH="1">
                    <a:off x="4810320" y="1690200"/>
                    <a:ext cx="13140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1457" name="Group 147"/>
              <p:cNvGrpSpPr/>
              <p:nvPr/>
            </p:nvGrpSpPr>
            <p:grpSpPr>
              <a:xfrm>
                <a:off x="4100400" y="1244160"/>
                <a:ext cx="278640" cy="619920"/>
                <a:chOff x="4100400" y="1244160"/>
                <a:chExt cx="278640" cy="619920"/>
              </a:xfrm>
            </p:grpSpPr>
            <p:sp>
              <p:nvSpPr>
                <p:cNvPr id="1458" name="Arc 148"/>
                <p:cNvSpPr/>
                <p:nvPr/>
              </p:nvSpPr>
              <p:spPr>
                <a:xfrm flipH="1" flipV="1">
                  <a:off x="4165920" y="1300320"/>
                  <a:ext cx="212760" cy="563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9" name="Group 149"/>
                <p:cNvGrpSpPr/>
                <p:nvPr/>
              </p:nvGrpSpPr>
              <p:grpSpPr>
                <a:xfrm>
                  <a:off x="4100400" y="1244160"/>
                  <a:ext cx="106920" cy="379440"/>
                  <a:chOff x="4100400" y="1244160"/>
                  <a:chExt cx="106920" cy="379440"/>
                </a:xfrm>
              </p:grpSpPr>
              <p:cxnSp>
                <p:nvCxnSpPr>
                  <p:cNvPr id="1460" name="AutoShape 150"/>
                  <p:cNvCxnSpPr/>
                  <p:nvPr/>
                </p:nvCxnSpPr>
                <p:spPr>
                  <a:xfrm>
                    <a:off x="4123080" y="1244160"/>
                    <a:ext cx="60840" cy="113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61" name="AutoShape 151"/>
                  <p:cNvCxnSpPr/>
                  <p:nvPr/>
                </p:nvCxnSpPr>
                <p:spPr>
                  <a:xfrm>
                    <a:off x="4100400" y="1499040"/>
                    <a:ext cx="107280" cy="124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62" name="AutoShape 152"/>
                  <p:cNvCxnSpPr/>
                  <p:nvPr/>
                </p:nvCxnSpPr>
                <p:spPr>
                  <a:xfrm>
                    <a:off x="4100760" y="1337040"/>
                    <a:ext cx="66600" cy="90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63" name="AutoShape 153"/>
                  <p:cNvCxnSpPr/>
                  <p:nvPr/>
                </p:nvCxnSpPr>
                <p:spPr>
                  <a:xfrm>
                    <a:off x="4114440" y="1439640"/>
                    <a:ext cx="69120" cy="79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1464" name="Group 154"/>
                <p:cNvGrpSpPr/>
                <p:nvPr/>
              </p:nvGrpSpPr>
              <p:grpSpPr>
                <a:xfrm>
                  <a:off x="4156560" y="1286280"/>
                  <a:ext cx="121320" cy="339840"/>
                  <a:chOff x="4156560" y="1286280"/>
                  <a:chExt cx="121320" cy="339840"/>
                </a:xfrm>
              </p:grpSpPr>
              <p:cxnSp>
                <p:nvCxnSpPr>
                  <p:cNvPr id="1465" name="AutoShape 155"/>
                  <p:cNvCxnSpPr/>
                  <p:nvPr/>
                </p:nvCxnSpPr>
                <p:spPr>
                  <a:xfrm flipH="1">
                    <a:off x="4156560" y="1286280"/>
                    <a:ext cx="50760" cy="137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66" name="AutoShape 156"/>
                  <p:cNvCxnSpPr/>
                  <p:nvPr/>
                </p:nvCxnSpPr>
                <p:spPr>
                  <a:xfrm flipH="1">
                    <a:off x="4174920" y="1436400"/>
                    <a:ext cx="103320" cy="19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67" name="AutoShape 157"/>
                  <p:cNvCxnSpPr/>
                  <p:nvPr/>
                </p:nvCxnSpPr>
                <p:spPr>
                  <a:xfrm flipH="1">
                    <a:off x="4188240" y="1327680"/>
                    <a:ext cx="61560" cy="126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68" name="AutoShape 158"/>
                  <p:cNvCxnSpPr/>
                  <p:nvPr/>
                </p:nvCxnSpPr>
                <p:spPr>
                  <a:xfrm flipH="1">
                    <a:off x="4185000" y="1410840"/>
                    <a:ext cx="66240" cy="122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1469" name="Group 159"/>
              <p:cNvGrpSpPr/>
              <p:nvPr/>
            </p:nvGrpSpPr>
            <p:grpSpPr>
              <a:xfrm>
                <a:off x="4256280" y="1184400"/>
                <a:ext cx="343080" cy="655920"/>
                <a:chOff x="4256280" y="1184400"/>
                <a:chExt cx="343080" cy="655920"/>
              </a:xfrm>
            </p:grpSpPr>
            <p:sp>
              <p:nvSpPr>
                <p:cNvPr id="1470" name="Arc 160"/>
                <p:cNvSpPr/>
                <p:nvPr/>
              </p:nvSpPr>
              <p:spPr>
                <a:xfrm flipV="1">
                  <a:off x="4256280" y="1243440"/>
                  <a:ext cx="249840" cy="596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1" name="Group 161"/>
                <p:cNvGrpSpPr/>
                <p:nvPr/>
              </p:nvGrpSpPr>
              <p:grpSpPr>
                <a:xfrm>
                  <a:off x="4462920" y="1184400"/>
                  <a:ext cx="136440" cy="382320"/>
                  <a:chOff x="4462920" y="1184400"/>
                  <a:chExt cx="136440" cy="382320"/>
                </a:xfrm>
              </p:grpSpPr>
              <p:cxnSp>
                <p:nvCxnSpPr>
                  <p:cNvPr id="1472" name="AutoShape 162"/>
                  <p:cNvCxnSpPr/>
                  <p:nvPr/>
                </p:nvCxnSpPr>
                <p:spPr>
                  <a:xfrm flipH="1">
                    <a:off x="4501800" y="1184400"/>
                    <a:ext cx="75960" cy="1162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73" name="AutoShape 163"/>
                  <p:cNvCxnSpPr/>
                  <p:nvPr/>
                </p:nvCxnSpPr>
                <p:spPr>
                  <a:xfrm flipH="1">
                    <a:off x="4462920" y="1437840"/>
                    <a:ext cx="130680" cy="129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74" name="AutoShape 164"/>
                  <p:cNvCxnSpPr/>
                  <p:nvPr/>
                </p:nvCxnSpPr>
                <p:spPr>
                  <a:xfrm flipH="1">
                    <a:off x="4518720" y="1276560"/>
                    <a:ext cx="81000" cy="93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75" name="AutoShape 165"/>
                  <p:cNvCxnSpPr/>
                  <p:nvPr/>
                </p:nvCxnSpPr>
                <p:spPr>
                  <a:xfrm flipH="1">
                    <a:off x="4494960" y="1379160"/>
                    <a:ext cx="84240" cy="83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1476" name="Group 166"/>
                <p:cNvGrpSpPr/>
                <p:nvPr/>
              </p:nvGrpSpPr>
              <p:grpSpPr>
                <a:xfrm>
                  <a:off x="4385160" y="1215000"/>
                  <a:ext cx="132480" cy="363600"/>
                  <a:chOff x="4385160" y="1215000"/>
                  <a:chExt cx="132480" cy="363600"/>
                </a:xfrm>
              </p:grpSpPr>
              <p:cxnSp>
                <p:nvCxnSpPr>
                  <p:cNvPr id="1477" name="AutoShape 167"/>
                  <p:cNvCxnSpPr/>
                  <p:nvPr/>
                </p:nvCxnSpPr>
                <p:spPr>
                  <a:xfrm>
                    <a:off x="4475520" y="1215000"/>
                    <a:ext cx="42480" cy="1425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78" name="AutoShape 168"/>
                  <p:cNvCxnSpPr/>
                  <p:nvPr/>
                </p:nvCxnSpPr>
                <p:spPr>
                  <a:xfrm>
                    <a:off x="4385160" y="1383480"/>
                    <a:ext cx="93960" cy="195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79" name="AutoShape 169"/>
                  <p:cNvCxnSpPr/>
                  <p:nvPr/>
                </p:nvCxnSpPr>
                <p:spPr>
                  <a:xfrm>
                    <a:off x="4426200" y="1262880"/>
                    <a:ext cx="54720" cy="130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480" name="AutoShape 170"/>
                  <p:cNvCxnSpPr/>
                  <p:nvPr/>
                </p:nvCxnSpPr>
                <p:spPr>
                  <a:xfrm>
                    <a:off x="4416840" y="1352880"/>
                    <a:ext cx="60480" cy="125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sp>
            <p:nvSpPr>
              <p:cNvPr id="1481" name="Freeform 171"/>
              <p:cNvSpPr/>
              <p:nvPr/>
            </p:nvSpPr>
            <p:spPr>
              <a:xfrm>
                <a:off x="4329720" y="1904040"/>
                <a:ext cx="245160" cy="323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72"/>
              <p:cNvSpPr/>
              <p:nvPr/>
            </p:nvSpPr>
            <p:spPr>
              <a:xfrm>
                <a:off x="4363920" y="1887480"/>
                <a:ext cx="315720" cy="217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73"/>
              <p:cNvSpPr/>
              <p:nvPr/>
            </p:nvSpPr>
            <p:spPr>
              <a:xfrm rot="772200">
                <a:off x="3973680" y="1840320"/>
                <a:ext cx="305640" cy="351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Rectangle 174"/>
              <p:cNvSpPr/>
              <p:nvPr/>
            </p:nvSpPr>
            <p:spPr>
              <a:xfrm>
                <a:off x="4311720" y="1850400"/>
                <a:ext cx="84240" cy="5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175"/>
              <p:cNvGrpSpPr/>
              <p:nvPr/>
            </p:nvGrpSpPr>
            <p:grpSpPr>
              <a:xfrm>
                <a:off x="3906360" y="1874880"/>
                <a:ext cx="480240" cy="365760"/>
                <a:chOff x="3906360" y="1874880"/>
                <a:chExt cx="480240" cy="365760"/>
              </a:xfrm>
            </p:grpSpPr>
            <p:sp>
              <p:nvSpPr>
                <p:cNvPr id="1486" name="Freeform 176"/>
                <p:cNvSpPr/>
                <p:nvPr/>
              </p:nvSpPr>
              <p:spPr>
                <a:xfrm>
                  <a:off x="3929400" y="1884600"/>
                  <a:ext cx="363600" cy="178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177"/>
                <p:cNvSpPr/>
                <p:nvPr/>
              </p:nvSpPr>
              <p:spPr>
                <a:xfrm>
                  <a:off x="4122000" y="1887120"/>
                  <a:ext cx="171000" cy="353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Freeform 178"/>
                <p:cNvSpPr/>
                <p:nvPr/>
              </p:nvSpPr>
              <p:spPr>
                <a:xfrm>
                  <a:off x="3906360" y="1874880"/>
                  <a:ext cx="386640" cy="118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Freeform 179"/>
                <p:cNvSpPr/>
                <p:nvPr/>
              </p:nvSpPr>
              <p:spPr>
                <a:xfrm flipH="1" rot="21135600">
                  <a:off x="3972960" y="1902600"/>
                  <a:ext cx="319320" cy="288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Freeform 180"/>
                <p:cNvSpPr/>
                <p:nvPr/>
              </p:nvSpPr>
              <p:spPr>
                <a:xfrm rot="18567600">
                  <a:off x="4074120" y="1985040"/>
                  <a:ext cx="312120" cy="147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1" name="Group 181"/>
              <p:cNvGrpSpPr/>
              <p:nvPr/>
            </p:nvGrpSpPr>
            <p:grpSpPr>
              <a:xfrm>
                <a:off x="4331880" y="1850400"/>
                <a:ext cx="480240" cy="365760"/>
                <a:chOff x="4331880" y="1850400"/>
                <a:chExt cx="480240" cy="365760"/>
              </a:xfrm>
            </p:grpSpPr>
            <p:sp>
              <p:nvSpPr>
                <p:cNvPr id="1492" name="Freeform 182"/>
                <p:cNvSpPr/>
                <p:nvPr/>
              </p:nvSpPr>
              <p:spPr>
                <a:xfrm flipH="1">
                  <a:off x="4425480" y="1860120"/>
                  <a:ext cx="363600" cy="178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Freeform 183"/>
                <p:cNvSpPr/>
                <p:nvPr/>
              </p:nvSpPr>
              <p:spPr>
                <a:xfrm flipH="1">
                  <a:off x="4425120" y="1862640"/>
                  <a:ext cx="171000" cy="353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Freeform 184"/>
                <p:cNvSpPr/>
                <p:nvPr/>
              </p:nvSpPr>
              <p:spPr>
                <a:xfrm flipH="1">
                  <a:off x="4425480" y="1850400"/>
                  <a:ext cx="386640" cy="118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Freeform 185"/>
                <p:cNvSpPr/>
                <p:nvPr/>
              </p:nvSpPr>
              <p:spPr>
                <a:xfrm rot="464400">
                  <a:off x="4425840" y="1878120"/>
                  <a:ext cx="319320" cy="288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186"/>
                <p:cNvSpPr/>
                <p:nvPr/>
              </p:nvSpPr>
              <p:spPr>
                <a:xfrm flipH="1" rot="3032400">
                  <a:off x="4331160" y="1960560"/>
                  <a:ext cx="312120" cy="147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7" name="Group 291"/>
            <p:cNvGrpSpPr/>
            <p:nvPr/>
          </p:nvGrpSpPr>
          <p:grpSpPr>
            <a:xfrm>
              <a:off x="819720" y="1530360"/>
              <a:ext cx="744480" cy="688680"/>
              <a:chOff x="819720" y="1530360"/>
              <a:chExt cx="744480" cy="688680"/>
            </a:xfrm>
          </p:grpSpPr>
          <p:grpSp>
            <p:nvGrpSpPr>
              <p:cNvPr id="1498" name="Group 292"/>
              <p:cNvGrpSpPr/>
              <p:nvPr/>
            </p:nvGrpSpPr>
            <p:grpSpPr>
              <a:xfrm>
                <a:off x="945000" y="1530360"/>
                <a:ext cx="304200" cy="313920"/>
                <a:chOff x="945000" y="1530360"/>
                <a:chExt cx="304200" cy="313920"/>
              </a:xfrm>
            </p:grpSpPr>
            <p:sp>
              <p:nvSpPr>
                <p:cNvPr id="1499" name="Arc 293"/>
                <p:cNvSpPr/>
                <p:nvPr/>
              </p:nvSpPr>
              <p:spPr>
                <a:xfrm flipV="1" rot="18771000">
                  <a:off x="1027800" y="1552320"/>
                  <a:ext cx="138240" cy="286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294"/>
                <p:cNvSpPr/>
                <p:nvPr/>
              </p:nvSpPr>
              <p:spPr>
                <a:xfrm rot="18525600">
                  <a:off x="1028520" y="1555920"/>
                  <a:ext cx="123480" cy="1188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1" name="Group 295"/>
              <p:cNvGrpSpPr/>
              <p:nvPr/>
            </p:nvGrpSpPr>
            <p:grpSpPr>
              <a:xfrm>
                <a:off x="1144440" y="1541880"/>
                <a:ext cx="209520" cy="315000"/>
                <a:chOff x="1144440" y="1541880"/>
                <a:chExt cx="209520" cy="315000"/>
              </a:xfrm>
            </p:grpSpPr>
            <p:sp>
              <p:nvSpPr>
                <p:cNvPr id="1502" name="Arc 296"/>
                <p:cNvSpPr/>
                <p:nvPr/>
              </p:nvSpPr>
              <p:spPr>
                <a:xfrm flipH="1" flipV="1" rot="2425800">
                  <a:off x="1195920" y="1647360"/>
                  <a:ext cx="106560" cy="198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297"/>
                <p:cNvSpPr/>
                <p:nvPr/>
              </p:nvSpPr>
              <p:spPr>
                <a:xfrm rot="243000">
                  <a:off x="1177560" y="1547280"/>
                  <a:ext cx="158400" cy="1461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4" name="Freeform 298"/>
              <p:cNvSpPr/>
              <p:nvPr/>
            </p:nvSpPr>
            <p:spPr>
              <a:xfrm rot="16678200">
                <a:off x="870480" y="1536120"/>
                <a:ext cx="289800" cy="354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299"/>
              <p:cNvSpPr/>
              <p:nvPr/>
            </p:nvSpPr>
            <p:spPr>
              <a:xfrm rot="11018400">
                <a:off x="1221480" y="1569240"/>
                <a:ext cx="333360" cy="30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300"/>
              <p:cNvSpPr/>
              <p:nvPr/>
            </p:nvSpPr>
            <p:spPr>
              <a:xfrm rot="5056800">
                <a:off x="1152000" y="2064240"/>
                <a:ext cx="161640" cy="3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301"/>
              <p:cNvSpPr/>
              <p:nvPr/>
            </p:nvSpPr>
            <p:spPr>
              <a:xfrm>
                <a:off x="1177560" y="1924200"/>
                <a:ext cx="20520" cy="135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302"/>
              <p:cNvSpPr/>
              <p:nvPr/>
            </p:nvSpPr>
            <p:spPr>
              <a:xfrm>
                <a:off x="1182240" y="1859040"/>
                <a:ext cx="23040" cy="360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9" name="Group 303"/>
              <p:cNvGrpSpPr/>
              <p:nvPr/>
            </p:nvGrpSpPr>
            <p:grpSpPr>
              <a:xfrm>
                <a:off x="1169280" y="1777320"/>
                <a:ext cx="59760" cy="90720"/>
                <a:chOff x="1169280" y="1777320"/>
                <a:chExt cx="59760" cy="90720"/>
              </a:xfrm>
            </p:grpSpPr>
            <p:grpSp>
              <p:nvGrpSpPr>
                <p:cNvPr id="1510" name="Group 304"/>
                <p:cNvGrpSpPr/>
                <p:nvPr/>
              </p:nvGrpSpPr>
              <p:grpSpPr>
                <a:xfrm>
                  <a:off x="1169280" y="1777320"/>
                  <a:ext cx="51480" cy="90720"/>
                  <a:chOff x="1169280" y="1777320"/>
                  <a:chExt cx="51480" cy="90720"/>
                </a:xfrm>
              </p:grpSpPr>
              <p:sp>
                <p:nvSpPr>
                  <p:cNvPr id="1511" name="Arc 305"/>
                  <p:cNvSpPr/>
                  <p:nvPr/>
                </p:nvSpPr>
                <p:spPr>
                  <a:xfrm>
                    <a:off x="1199520" y="1777320"/>
                    <a:ext cx="21240" cy="90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Arc 306"/>
                  <p:cNvSpPr/>
                  <p:nvPr/>
                </p:nvSpPr>
                <p:spPr>
                  <a:xfrm flipH="1">
                    <a:off x="1168920" y="1777320"/>
                    <a:ext cx="29160" cy="73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3" name="Group 307"/>
                <p:cNvGrpSpPr/>
                <p:nvPr/>
              </p:nvGrpSpPr>
              <p:grpSpPr>
                <a:xfrm>
                  <a:off x="1182240" y="1817640"/>
                  <a:ext cx="32040" cy="47880"/>
                  <a:chOff x="1182240" y="1817640"/>
                  <a:chExt cx="32040" cy="47880"/>
                </a:xfrm>
              </p:grpSpPr>
              <p:sp>
                <p:nvSpPr>
                  <p:cNvPr id="1514" name="Arc 308"/>
                  <p:cNvSpPr/>
                  <p:nvPr/>
                </p:nvSpPr>
                <p:spPr>
                  <a:xfrm>
                    <a:off x="1198440" y="1817640"/>
                    <a:ext cx="15840" cy="47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Arc 309"/>
                  <p:cNvSpPr/>
                  <p:nvPr/>
                </p:nvSpPr>
                <p:spPr>
                  <a:xfrm flipH="1">
                    <a:off x="1182240" y="1817640"/>
                    <a:ext cx="15840" cy="47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516" name="AutoShape 310"/>
                <p:cNvCxnSpPr/>
                <p:nvPr/>
              </p:nvCxnSpPr>
              <p:spPr>
                <a:xfrm>
                  <a:off x="1169640" y="1865880"/>
                  <a:ext cx="597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</p:grpSp>
        <p:sp>
          <p:nvSpPr>
            <p:cNvPr id="1517" name="TextBox 870"/>
            <p:cNvSpPr/>
            <p:nvPr/>
          </p:nvSpPr>
          <p:spPr>
            <a:xfrm>
              <a:off x="1063080" y="2230920"/>
              <a:ext cx="299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TextBox 871"/>
            <p:cNvSpPr/>
            <p:nvPr/>
          </p:nvSpPr>
          <p:spPr>
            <a:xfrm>
              <a:off x="2038320" y="2230920"/>
              <a:ext cx="299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TextBox 872"/>
            <p:cNvSpPr/>
            <p:nvPr/>
          </p:nvSpPr>
          <p:spPr>
            <a:xfrm>
              <a:off x="2819160" y="2209680"/>
              <a:ext cx="685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TextBox 873"/>
            <p:cNvSpPr/>
            <p:nvPr/>
          </p:nvSpPr>
          <p:spPr>
            <a:xfrm>
              <a:off x="4214520" y="2230920"/>
              <a:ext cx="299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Группа 1133"/>
          <p:cNvGrpSpPr/>
          <p:nvPr/>
        </p:nvGrpSpPr>
        <p:grpSpPr>
          <a:xfrm>
            <a:off x="5563440" y="990360"/>
            <a:ext cx="1141560" cy="1832040"/>
            <a:chOff x="5563440" y="990360"/>
            <a:chExt cx="1141560" cy="1832040"/>
          </a:xfrm>
        </p:grpSpPr>
        <p:grpSp>
          <p:nvGrpSpPr>
            <p:cNvPr id="1522" name="Group 187"/>
            <p:cNvGrpSpPr/>
            <p:nvPr/>
          </p:nvGrpSpPr>
          <p:grpSpPr>
            <a:xfrm>
              <a:off x="5563440" y="990360"/>
              <a:ext cx="1141560" cy="1575360"/>
              <a:chOff x="5563440" y="990360"/>
              <a:chExt cx="1141560" cy="1575360"/>
            </a:xfrm>
          </p:grpSpPr>
          <p:sp>
            <p:nvSpPr>
              <p:cNvPr id="1523" name="Line 188"/>
              <p:cNvSpPr/>
              <p:nvPr/>
            </p:nvSpPr>
            <p:spPr>
              <a:xfrm>
                <a:off x="6137640" y="1193400"/>
                <a:ext cx="6840" cy="9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AutoShape 189"/>
              <p:cNvSpPr/>
              <p:nvPr/>
            </p:nvSpPr>
            <p:spPr>
              <a:xfrm rot="10800000">
                <a:off x="6022440" y="990360"/>
                <a:ext cx="227880" cy="209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Arc 190"/>
              <p:cNvSpPr/>
              <p:nvPr/>
            </p:nvSpPr>
            <p:spPr>
              <a:xfrm flipV="1">
                <a:off x="6137640" y="1357920"/>
                <a:ext cx="114840" cy="182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Arc 191"/>
              <p:cNvSpPr/>
              <p:nvPr/>
            </p:nvSpPr>
            <p:spPr>
              <a:xfrm flipH="1" flipV="1" rot="1816200">
                <a:off x="6201360" y="1240560"/>
                <a:ext cx="73440" cy="12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Line 192"/>
              <p:cNvSpPr/>
              <p:nvPr/>
            </p:nvSpPr>
            <p:spPr>
              <a:xfrm flipV="1">
                <a:off x="6153480" y="1257120"/>
                <a:ext cx="17280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Line 193"/>
              <p:cNvSpPr/>
              <p:nvPr/>
            </p:nvSpPr>
            <p:spPr>
              <a:xfrm flipV="1">
                <a:off x="6246360" y="1245960"/>
                <a:ext cx="2160" cy="14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AutoShape 194"/>
              <p:cNvSpPr/>
              <p:nvPr/>
            </p:nvSpPr>
            <p:spPr>
              <a:xfrm rot="14044200">
                <a:off x="6294240" y="1152720"/>
                <a:ext cx="186480" cy="162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AutoShape 195"/>
              <p:cNvSpPr/>
              <p:nvPr/>
            </p:nvSpPr>
            <p:spPr>
              <a:xfrm rot="10800000">
                <a:off x="6179400" y="1147320"/>
                <a:ext cx="126360" cy="12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Arc 196"/>
              <p:cNvSpPr/>
              <p:nvPr/>
            </p:nvSpPr>
            <p:spPr>
              <a:xfrm flipH="1" flipV="1">
                <a:off x="6049800" y="1758600"/>
                <a:ext cx="102600" cy="155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Arc 197"/>
              <p:cNvSpPr/>
              <p:nvPr/>
            </p:nvSpPr>
            <p:spPr>
              <a:xfrm flipV="1" rot="19780800">
                <a:off x="6022440" y="1608840"/>
                <a:ext cx="61920" cy="81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Line 198"/>
              <p:cNvSpPr/>
              <p:nvPr/>
            </p:nvSpPr>
            <p:spPr>
              <a:xfrm>
                <a:off x="5967360" y="1576800"/>
                <a:ext cx="205920" cy="35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AutoShape 199"/>
              <p:cNvSpPr/>
              <p:nvPr/>
            </p:nvSpPr>
            <p:spPr>
              <a:xfrm flipH="1" rot="8721600">
                <a:off x="5800680" y="1460160"/>
                <a:ext cx="204840" cy="132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5" name="Group 200"/>
              <p:cNvGrpSpPr/>
              <p:nvPr/>
            </p:nvGrpSpPr>
            <p:grpSpPr>
              <a:xfrm>
                <a:off x="6045120" y="1753560"/>
                <a:ext cx="659880" cy="469080"/>
                <a:chOff x="6045120" y="1753560"/>
                <a:chExt cx="659880" cy="469080"/>
              </a:xfrm>
            </p:grpSpPr>
            <p:grpSp>
              <p:nvGrpSpPr>
                <p:cNvPr id="1536" name="Group 201"/>
                <p:cNvGrpSpPr/>
                <p:nvPr/>
              </p:nvGrpSpPr>
              <p:grpSpPr>
                <a:xfrm>
                  <a:off x="6206400" y="1753560"/>
                  <a:ext cx="498600" cy="334440"/>
                  <a:chOff x="6206400" y="1753560"/>
                  <a:chExt cx="498600" cy="334440"/>
                </a:xfrm>
              </p:grpSpPr>
              <p:grpSp>
                <p:nvGrpSpPr>
                  <p:cNvPr id="1537" name="Group 202"/>
                  <p:cNvGrpSpPr/>
                  <p:nvPr/>
                </p:nvGrpSpPr>
                <p:grpSpPr>
                  <a:xfrm>
                    <a:off x="6515640" y="1842120"/>
                    <a:ext cx="189360" cy="224280"/>
                    <a:chOff x="6515640" y="1842120"/>
                    <a:chExt cx="189360" cy="224280"/>
                  </a:xfrm>
                </p:grpSpPr>
                <p:cxnSp>
                  <p:nvCxnSpPr>
                    <p:cNvPr id="1538" name="AutoShape 203"/>
                    <p:cNvCxnSpPr/>
                    <p:nvPr/>
                  </p:nvCxnSpPr>
                  <p:spPr>
                    <a:xfrm flipH="1">
                      <a:off x="6609960" y="1842120"/>
                      <a:ext cx="9540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39" name="AutoShape 204"/>
                    <p:cNvCxnSpPr/>
                    <p:nvPr/>
                  </p:nvCxnSpPr>
                  <p:spPr>
                    <a:xfrm flipH="1">
                      <a:off x="6515640" y="2004480"/>
                      <a:ext cx="14832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40" name="AutoShape 205"/>
                    <p:cNvCxnSpPr/>
                    <p:nvPr/>
                  </p:nvCxnSpPr>
                  <p:spPr>
                    <a:xfrm flipH="1">
                      <a:off x="6609960" y="1904040"/>
                      <a:ext cx="95400" cy="46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41" name="AutoShape 206"/>
                    <p:cNvCxnSpPr/>
                    <p:nvPr/>
                  </p:nvCxnSpPr>
                  <p:spPr>
                    <a:xfrm flipH="1">
                      <a:off x="6568200" y="1965240"/>
                      <a:ext cx="95400" cy="39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42" name="Group 207"/>
                  <p:cNvGrpSpPr/>
                  <p:nvPr/>
                </p:nvGrpSpPr>
                <p:grpSpPr>
                  <a:xfrm>
                    <a:off x="6367680" y="1799640"/>
                    <a:ext cx="189360" cy="224640"/>
                    <a:chOff x="6367680" y="1799640"/>
                    <a:chExt cx="189360" cy="224640"/>
                  </a:xfrm>
                </p:grpSpPr>
                <p:cxnSp>
                  <p:nvCxnSpPr>
                    <p:cNvPr id="1543" name="AutoShape 208"/>
                    <p:cNvCxnSpPr/>
                    <p:nvPr/>
                  </p:nvCxnSpPr>
                  <p:spPr>
                    <a:xfrm flipH="1">
                      <a:off x="6462000" y="1799640"/>
                      <a:ext cx="9540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44" name="AutoShape 209"/>
                    <p:cNvCxnSpPr/>
                    <p:nvPr/>
                  </p:nvCxnSpPr>
                  <p:spPr>
                    <a:xfrm flipH="1">
                      <a:off x="6367680" y="1962360"/>
                      <a:ext cx="14832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45" name="AutoShape 210"/>
                    <p:cNvCxnSpPr/>
                    <p:nvPr/>
                  </p:nvCxnSpPr>
                  <p:spPr>
                    <a:xfrm flipH="1">
                      <a:off x="6462000" y="1861560"/>
                      <a:ext cx="95400" cy="46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46" name="AutoShape 211"/>
                    <p:cNvCxnSpPr/>
                    <p:nvPr/>
                  </p:nvCxnSpPr>
                  <p:spPr>
                    <a:xfrm flipH="1">
                      <a:off x="6420240" y="1922760"/>
                      <a:ext cx="95400" cy="39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47" name="Group 212"/>
                  <p:cNvGrpSpPr/>
                  <p:nvPr/>
                </p:nvGrpSpPr>
                <p:grpSpPr>
                  <a:xfrm>
                    <a:off x="6242040" y="1753560"/>
                    <a:ext cx="146160" cy="262440"/>
                    <a:chOff x="6242040" y="1753560"/>
                    <a:chExt cx="146160" cy="262440"/>
                  </a:xfrm>
                </p:grpSpPr>
                <p:cxnSp>
                  <p:nvCxnSpPr>
                    <p:cNvPr id="1548" name="AutoShape 213"/>
                    <p:cNvCxnSpPr/>
                    <p:nvPr/>
                  </p:nvCxnSpPr>
                  <p:spPr>
                    <a:xfrm flipH="1">
                      <a:off x="6295680" y="1753560"/>
                      <a:ext cx="78480" cy="82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49" name="AutoShape 214"/>
                    <p:cNvCxnSpPr/>
                    <p:nvPr/>
                  </p:nvCxnSpPr>
                  <p:spPr>
                    <a:xfrm flipH="1">
                      <a:off x="6242040" y="1921320"/>
                      <a:ext cx="129600" cy="95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50" name="AutoShape 215"/>
                    <p:cNvCxnSpPr/>
                    <p:nvPr/>
                  </p:nvCxnSpPr>
                  <p:spPr>
                    <a:xfrm flipH="1">
                      <a:off x="6306480" y="1814040"/>
                      <a:ext cx="82080" cy="67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51" name="AutoShape 216"/>
                    <p:cNvCxnSpPr/>
                    <p:nvPr/>
                  </p:nvCxnSpPr>
                  <p:spPr>
                    <a:xfrm flipH="1">
                      <a:off x="6278760" y="1883160"/>
                      <a:ext cx="83520" cy="61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52" name="Group 217"/>
                  <p:cNvGrpSpPr/>
                  <p:nvPr/>
                </p:nvGrpSpPr>
                <p:grpSpPr>
                  <a:xfrm>
                    <a:off x="6507000" y="1791360"/>
                    <a:ext cx="114120" cy="296640"/>
                    <a:chOff x="6507000" y="1791360"/>
                    <a:chExt cx="114120" cy="296640"/>
                  </a:xfrm>
                </p:grpSpPr>
                <p:cxnSp>
                  <p:nvCxnSpPr>
                    <p:cNvPr id="1553" name="AutoShape 218"/>
                    <p:cNvCxnSpPr/>
                    <p:nvPr/>
                  </p:nvCxnSpPr>
                  <p:spPr>
                    <a:xfrm>
                      <a:off x="6611400" y="1791360"/>
                      <a:ext cx="10080" cy="109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54" name="AutoShape 219"/>
                    <p:cNvCxnSpPr/>
                    <p:nvPr/>
                  </p:nvCxnSpPr>
                  <p:spPr>
                    <a:xfrm>
                      <a:off x="6507000" y="1944720"/>
                      <a:ext cx="43200" cy="1436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55" name="AutoShape 220"/>
                    <p:cNvCxnSpPr/>
                    <p:nvPr/>
                  </p:nvCxnSpPr>
                  <p:spPr>
                    <a:xfrm>
                      <a:off x="6562080" y="1839240"/>
                      <a:ext cx="22320" cy="97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56" name="AutoShape 221"/>
                    <p:cNvCxnSpPr/>
                    <p:nvPr/>
                  </p:nvCxnSpPr>
                  <p:spPr>
                    <a:xfrm>
                      <a:off x="6538680" y="1914480"/>
                      <a:ext cx="28080" cy="9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57" name="Group 222"/>
                  <p:cNvGrpSpPr/>
                  <p:nvPr/>
                </p:nvGrpSpPr>
                <p:grpSpPr>
                  <a:xfrm>
                    <a:off x="6206400" y="1755000"/>
                    <a:ext cx="110520" cy="288720"/>
                    <a:chOff x="6206400" y="1755000"/>
                    <a:chExt cx="110520" cy="288720"/>
                  </a:xfrm>
                </p:grpSpPr>
                <p:cxnSp>
                  <p:nvCxnSpPr>
                    <p:cNvPr id="1558" name="AutoShape 223"/>
                    <p:cNvCxnSpPr/>
                    <p:nvPr/>
                  </p:nvCxnSpPr>
                  <p:spPr>
                    <a:xfrm>
                      <a:off x="6304320" y="1755000"/>
                      <a:ext cx="12960" cy="107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59" name="AutoShape 224"/>
                    <p:cNvCxnSpPr/>
                    <p:nvPr/>
                  </p:nvCxnSpPr>
                  <p:spPr>
                    <a:xfrm>
                      <a:off x="6206400" y="1902600"/>
                      <a:ext cx="46080" cy="141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60" name="AutoShape 225"/>
                    <p:cNvCxnSpPr/>
                    <p:nvPr/>
                  </p:nvCxnSpPr>
                  <p:spPr>
                    <a:xfrm>
                      <a:off x="6257520" y="1800720"/>
                      <a:ext cx="24480" cy="95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61" name="AutoShape 226"/>
                    <p:cNvCxnSpPr/>
                    <p:nvPr/>
                  </p:nvCxnSpPr>
                  <p:spPr>
                    <a:xfrm>
                      <a:off x="6236640" y="1873080"/>
                      <a:ext cx="29880" cy="91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62" name="Group 227"/>
                  <p:cNvGrpSpPr/>
                  <p:nvPr/>
                </p:nvGrpSpPr>
                <p:grpSpPr>
                  <a:xfrm>
                    <a:off x="6330960" y="1776600"/>
                    <a:ext cx="114120" cy="296640"/>
                    <a:chOff x="6330960" y="1776600"/>
                    <a:chExt cx="114120" cy="296640"/>
                  </a:xfrm>
                </p:grpSpPr>
                <p:cxnSp>
                  <p:nvCxnSpPr>
                    <p:cNvPr id="1563" name="AutoShape 228"/>
                    <p:cNvCxnSpPr/>
                    <p:nvPr/>
                  </p:nvCxnSpPr>
                  <p:spPr>
                    <a:xfrm>
                      <a:off x="6435360" y="1776600"/>
                      <a:ext cx="10080" cy="109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64" name="AutoShape 229"/>
                    <p:cNvCxnSpPr/>
                    <p:nvPr/>
                  </p:nvCxnSpPr>
                  <p:spPr>
                    <a:xfrm>
                      <a:off x="6330960" y="1929960"/>
                      <a:ext cx="43200" cy="1436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65" name="AutoShape 230"/>
                    <p:cNvCxnSpPr/>
                    <p:nvPr/>
                  </p:nvCxnSpPr>
                  <p:spPr>
                    <a:xfrm>
                      <a:off x="6386040" y="1824480"/>
                      <a:ext cx="22320" cy="97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66" name="AutoShape 231"/>
                    <p:cNvCxnSpPr/>
                    <p:nvPr/>
                  </p:nvCxnSpPr>
                  <p:spPr>
                    <a:xfrm>
                      <a:off x="6362640" y="1899720"/>
                      <a:ext cx="28080" cy="9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1567" name="Group 232"/>
                <p:cNvGrpSpPr/>
                <p:nvPr/>
              </p:nvGrpSpPr>
              <p:grpSpPr>
                <a:xfrm>
                  <a:off x="6045120" y="1771560"/>
                  <a:ext cx="579600" cy="451080"/>
                  <a:chOff x="6045120" y="1771560"/>
                  <a:chExt cx="579600" cy="451080"/>
                </a:xfrm>
              </p:grpSpPr>
              <p:sp>
                <p:nvSpPr>
                  <p:cNvPr id="1568" name="Arc 233"/>
                  <p:cNvSpPr/>
                  <p:nvPr/>
                </p:nvSpPr>
                <p:spPr>
                  <a:xfrm flipV="1" rot="21094200">
                    <a:off x="6068880" y="1799280"/>
                    <a:ext cx="41076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Arc 234"/>
                  <p:cNvSpPr/>
                  <p:nvPr/>
                </p:nvSpPr>
                <p:spPr>
                  <a:xfrm flipV="1" rot="245400">
                    <a:off x="6198480" y="1799640"/>
                    <a:ext cx="412200" cy="408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Arc 235"/>
                  <p:cNvSpPr/>
                  <p:nvPr/>
                </p:nvSpPr>
                <p:spPr>
                  <a:xfrm flipV="1">
                    <a:off x="6069240" y="1799280"/>
                    <a:ext cx="23688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1" name="Group 236"/>
              <p:cNvGrpSpPr/>
              <p:nvPr/>
            </p:nvGrpSpPr>
            <p:grpSpPr>
              <a:xfrm>
                <a:off x="5563440" y="1755000"/>
                <a:ext cx="659880" cy="469080"/>
                <a:chOff x="5563440" y="1755000"/>
                <a:chExt cx="659880" cy="469080"/>
              </a:xfrm>
            </p:grpSpPr>
            <p:grpSp>
              <p:nvGrpSpPr>
                <p:cNvPr id="1572" name="Group 237"/>
                <p:cNvGrpSpPr/>
                <p:nvPr/>
              </p:nvGrpSpPr>
              <p:grpSpPr>
                <a:xfrm>
                  <a:off x="5563440" y="1755000"/>
                  <a:ext cx="498600" cy="334440"/>
                  <a:chOff x="5563440" y="1755000"/>
                  <a:chExt cx="498600" cy="334440"/>
                </a:xfrm>
              </p:grpSpPr>
              <p:grpSp>
                <p:nvGrpSpPr>
                  <p:cNvPr id="1573" name="Group 238"/>
                  <p:cNvGrpSpPr/>
                  <p:nvPr/>
                </p:nvGrpSpPr>
                <p:grpSpPr>
                  <a:xfrm>
                    <a:off x="5563440" y="1843560"/>
                    <a:ext cx="189360" cy="224280"/>
                    <a:chOff x="5563440" y="1843560"/>
                    <a:chExt cx="189360" cy="224280"/>
                  </a:xfrm>
                </p:grpSpPr>
                <p:cxnSp>
                  <p:nvCxnSpPr>
                    <p:cNvPr id="1574" name="AutoShape 239"/>
                    <p:cNvCxnSpPr/>
                    <p:nvPr/>
                  </p:nvCxnSpPr>
                  <p:spPr>
                    <a:xfrm>
                      <a:off x="5563440" y="1843560"/>
                      <a:ext cx="9540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75" name="AutoShape 240"/>
                    <p:cNvCxnSpPr/>
                    <p:nvPr/>
                  </p:nvCxnSpPr>
                  <p:spPr>
                    <a:xfrm>
                      <a:off x="5604840" y="2005920"/>
                      <a:ext cx="14832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76" name="AutoShape 241"/>
                    <p:cNvCxnSpPr/>
                    <p:nvPr/>
                  </p:nvCxnSpPr>
                  <p:spPr>
                    <a:xfrm>
                      <a:off x="5563440" y="1905480"/>
                      <a:ext cx="95400" cy="46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77" name="AutoShape 242"/>
                    <p:cNvCxnSpPr/>
                    <p:nvPr/>
                  </p:nvCxnSpPr>
                  <p:spPr>
                    <a:xfrm>
                      <a:off x="5605200" y="1966680"/>
                      <a:ext cx="95400" cy="39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78" name="Group 243"/>
                  <p:cNvGrpSpPr/>
                  <p:nvPr/>
                </p:nvGrpSpPr>
                <p:grpSpPr>
                  <a:xfrm>
                    <a:off x="5711400" y="1801080"/>
                    <a:ext cx="189360" cy="224640"/>
                    <a:chOff x="5711400" y="1801080"/>
                    <a:chExt cx="189360" cy="224640"/>
                  </a:xfrm>
                </p:grpSpPr>
                <p:cxnSp>
                  <p:nvCxnSpPr>
                    <p:cNvPr id="1579" name="AutoShape 244"/>
                    <p:cNvCxnSpPr/>
                    <p:nvPr/>
                  </p:nvCxnSpPr>
                  <p:spPr>
                    <a:xfrm>
                      <a:off x="5711400" y="1801080"/>
                      <a:ext cx="9540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80" name="AutoShape 245"/>
                    <p:cNvCxnSpPr/>
                    <p:nvPr/>
                  </p:nvCxnSpPr>
                  <p:spPr>
                    <a:xfrm>
                      <a:off x="5752800" y="1963800"/>
                      <a:ext cx="14832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81" name="AutoShape 246"/>
                    <p:cNvCxnSpPr/>
                    <p:nvPr/>
                  </p:nvCxnSpPr>
                  <p:spPr>
                    <a:xfrm>
                      <a:off x="5711400" y="1863000"/>
                      <a:ext cx="95400" cy="46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82" name="AutoShape 247"/>
                    <p:cNvCxnSpPr/>
                    <p:nvPr/>
                  </p:nvCxnSpPr>
                  <p:spPr>
                    <a:xfrm>
                      <a:off x="5753160" y="1924200"/>
                      <a:ext cx="95400" cy="39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83" name="Group 248"/>
                  <p:cNvGrpSpPr/>
                  <p:nvPr/>
                </p:nvGrpSpPr>
                <p:grpSpPr>
                  <a:xfrm>
                    <a:off x="5880240" y="1755000"/>
                    <a:ext cx="146160" cy="262440"/>
                    <a:chOff x="5880240" y="1755000"/>
                    <a:chExt cx="146160" cy="262440"/>
                  </a:xfrm>
                </p:grpSpPr>
                <p:cxnSp>
                  <p:nvCxnSpPr>
                    <p:cNvPr id="1584" name="AutoShape 249"/>
                    <p:cNvCxnSpPr/>
                    <p:nvPr/>
                  </p:nvCxnSpPr>
                  <p:spPr>
                    <a:xfrm>
                      <a:off x="5894640" y="1755000"/>
                      <a:ext cx="78480" cy="82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85" name="AutoShape 250"/>
                    <p:cNvCxnSpPr/>
                    <p:nvPr/>
                  </p:nvCxnSpPr>
                  <p:spPr>
                    <a:xfrm>
                      <a:off x="5897160" y="1922760"/>
                      <a:ext cx="129600" cy="95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86" name="AutoShape 251"/>
                    <p:cNvCxnSpPr/>
                    <p:nvPr/>
                  </p:nvCxnSpPr>
                  <p:spPr>
                    <a:xfrm>
                      <a:off x="5880240" y="1815480"/>
                      <a:ext cx="82080" cy="67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87" name="AutoShape 252"/>
                    <p:cNvCxnSpPr/>
                    <p:nvPr/>
                  </p:nvCxnSpPr>
                  <p:spPr>
                    <a:xfrm>
                      <a:off x="5906520" y="1884600"/>
                      <a:ext cx="83520" cy="61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88" name="Group 253"/>
                  <p:cNvGrpSpPr/>
                  <p:nvPr/>
                </p:nvGrpSpPr>
                <p:grpSpPr>
                  <a:xfrm>
                    <a:off x="5647320" y="1792800"/>
                    <a:ext cx="114120" cy="296640"/>
                    <a:chOff x="5647320" y="1792800"/>
                    <a:chExt cx="114120" cy="296640"/>
                  </a:xfrm>
                </p:grpSpPr>
                <p:cxnSp>
                  <p:nvCxnSpPr>
                    <p:cNvPr id="1589" name="AutoShape 254"/>
                    <p:cNvCxnSpPr/>
                    <p:nvPr/>
                  </p:nvCxnSpPr>
                  <p:spPr>
                    <a:xfrm flipH="1">
                      <a:off x="5647320" y="1792800"/>
                      <a:ext cx="10080" cy="109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90" name="AutoShape 255"/>
                    <p:cNvCxnSpPr/>
                    <p:nvPr/>
                  </p:nvCxnSpPr>
                  <p:spPr>
                    <a:xfrm flipH="1">
                      <a:off x="5718600" y="1946160"/>
                      <a:ext cx="43200" cy="1436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91" name="AutoShape 256"/>
                    <p:cNvCxnSpPr/>
                    <p:nvPr/>
                  </p:nvCxnSpPr>
                  <p:spPr>
                    <a:xfrm flipH="1">
                      <a:off x="5684400" y="1840680"/>
                      <a:ext cx="22320" cy="97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92" name="AutoShape 257"/>
                    <p:cNvCxnSpPr/>
                    <p:nvPr/>
                  </p:nvCxnSpPr>
                  <p:spPr>
                    <a:xfrm flipH="1">
                      <a:off x="5702040" y="1915920"/>
                      <a:ext cx="28080" cy="9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93" name="Group 258"/>
                  <p:cNvGrpSpPr/>
                  <p:nvPr/>
                </p:nvGrpSpPr>
                <p:grpSpPr>
                  <a:xfrm>
                    <a:off x="5951520" y="1756440"/>
                    <a:ext cx="110520" cy="288720"/>
                    <a:chOff x="5951520" y="1756440"/>
                    <a:chExt cx="110520" cy="288720"/>
                  </a:xfrm>
                </p:grpSpPr>
                <p:cxnSp>
                  <p:nvCxnSpPr>
                    <p:cNvPr id="1594" name="AutoShape 259"/>
                    <p:cNvCxnSpPr/>
                    <p:nvPr/>
                  </p:nvCxnSpPr>
                  <p:spPr>
                    <a:xfrm flipH="1">
                      <a:off x="5951520" y="1756440"/>
                      <a:ext cx="12960" cy="107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95" name="AutoShape 260"/>
                    <p:cNvCxnSpPr/>
                    <p:nvPr/>
                  </p:nvCxnSpPr>
                  <p:spPr>
                    <a:xfrm flipH="1">
                      <a:off x="6016320" y="1904040"/>
                      <a:ext cx="46080" cy="141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96" name="AutoShape 261"/>
                    <p:cNvCxnSpPr/>
                    <p:nvPr/>
                  </p:nvCxnSpPr>
                  <p:spPr>
                    <a:xfrm flipH="1">
                      <a:off x="5986800" y="1802160"/>
                      <a:ext cx="24480" cy="95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597" name="AutoShape 262"/>
                    <p:cNvCxnSpPr/>
                    <p:nvPr/>
                  </p:nvCxnSpPr>
                  <p:spPr>
                    <a:xfrm flipH="1">
                      <a:off x="6002280" y="1874520"/>
                      <a:ext cx="29880" cy="91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98" name="Group 263"/>
                  <p:cNvGrpSpPr/>
                  <p:nvPr/>
                </p:nvGrpSpPr>
                <p:grpSpPr>
                  <a:xfrm>
                    <a:off x="5823360" y="1778040"/>
                    <a:ext cx="114120" cy="296640"/>
                    <a:chOff x="5823360" y="1778040"/>
                    <a:chExt cx="114120" cy="296640"/>
                  </a:xfrm>
                </p:grpSpPr>
                <p:cxnSp>
                  <p:nvCxnSpPr>
                    <p:cNvPr id="1599" name="AutoShape 264"/>
                    <p:cNvCxnSpPr/>
                    <p:nvPr/>
                  </p:nvCxnSpPr>
                  <p:spPr>
                    <a:xfrm flipH="1">
                      <a:off x="5823360" y="1778040"/>
                      <a:ext cx="10080" cy="109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00" name="AutoShape 265"/>
                    <p:cNvCxnSpPr/>
                    <p:nvPr/>
                  </p:nvCxnSpPr>
                  <p:spPr>
                    <a:xfrm flipH="1">
                      <a:off x="5894640" y="1931400"/>
                      <a:ext cx="43200" cy="1436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01" name="AutoShape 266"/>
                    <p:cNvCxnSpPr/>
                    <p:nvPr/>
                  </p:nvCxnSpPr>
                  <p:spPr>
                    <a:xfrm flipH="1">
                      <a:off x="5860440" y="1825920"/>
                      <a:ext cx="22320" cy="97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02" name="AutoShape 267"/>
                    <p:cNvCxnSpPr/>
                    <p:nvPr/>
                  </p:nvCxnSpPr>
                  <p:spPr>
                    <a:xfrm flipH="1">
                      <a:off x="5878080" y="1901160"/>
                      <a:ext cx="28080" cy="9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1603" name="Group 268"/>
                <p:cNvGrpSpPr/>
                <p:nvPr/>
              </p:nvGrpSpPr>
              <p:grpSpPr>
                <a:xfrm>
                  <a:off x="5643720" y="1773000"/>
                  <a:ext cx="579600" cy="451080"/>
                  <a:chOff x="5643720" y="1773000"/>
                  <a:chExt cx="579600" cy="451080"/>
                </a:xfrm>
              </p:grpSpPr>
              <p:sp>
                <p:nvSpPr>
                  <p:cNvPr id="1604" name="Arc 269"/>
                  <p:cNvSpPr/>
                  <p:nvPr/>
                </p:nvSpPr>
                <p:spPr>
                  <a:xfrm flipH="1" flipV="1" rot="505800">
                    <a:off x="5787720" y="1800720"/>
                    <a:ext cx="41076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rc 270"/>
                  <p:cNvSpPr/>
                  <p:nvPr/>
                </p:nvSpPr>
                <p:spPr>
                  <a:xfrm flipH="1" flipV="1" rot="21354600">
                    <a:off x="5657400" y="1801080"/>
                    <a:ext cx="412200" cy="408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Arc 271"/>
                  <p:cNvSpPr/>
                  <p:nvPr/>
                </p:nvSpPr>
                <p:spPr>
                  <a:xfrm flipH="1" flipV="1">
                    <a:off x="5962320" y="1800720"/>
                    <a:ext cx="23688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7" name="Group 272"/>
              <p:cNvGrpSpPr/>
              <p:nvPr/>
            </p:nvGrpSpPr>
            <p:grpSpPr>
              <a:xfrm>
                <a:off x="5722560" y="2122200"/>
                <a:ext cx="838800" cy="443520"/>
                <a:chOff x="5722560" y="2122200"/>
                <a:chExt cx="838800" cy="443520"/>
              </a:xfrm>
            </p:grpSpPr>
            <p:sp>
              <p:nvSpPr>
                <p:cNvPr id="1608" name="Freeform 273"/>
                <p:cNvSpPr/>
                <p:nvPr/>
              </p:nvSpPr>
              <p:spPr>
                <a:xfrm>
                  <a:off x="6114600" y="2207520"/>
                  <a:ext cx="227160" cy="295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274"/>
                <p:cNvSpPr/>
                <p:nvPr/>
              </p:nvSpPr>
              <p:spPr>
                <a:xfrm>
                  <a:off x="6146280" y="2192040"/>
                  <a:ext cx="292320" cy="198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Freeform 275"/>
                <p:cNvSpPr/>
                <p:nvPr/>
              </p:nvSpPr>
              <p:spPr>
                <a:xfrm rot="772200">
                  <a:off x="5784480" y="2149560"/>
                  <a:ext cx="282960" cy="320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Freeform 276"/>
                <p:cNvSpPr/>
                <p:nvPr/>
              </p:nvSpPr>
              <p:spPr>
                <a:xfrm>
                  <a:off x="6113880" y="2189880"/>
                  <a:ext cx="295560" cy="262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Rectangle 277"/>
                <p:cNvSpPr/>
                <p:nvPr/>
              </p:nvSpPr>
              <p:spPr>
                <a:xfrm>
                  <a:off x="6068160" y="2158560"/>
                  <a:ext cx="124920" cy="8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Freeform 278"/>
                <p:cNvSpPr/>
                <p:nvPr/>
              </p:nvSpPr>
              <p:spPr>
                <a:xfrm rot="1519200">
                  <a:off x="6114240" y="2252160"/>
                  <a:ext cx="295200" cy="262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4" name="Group 279"/>
                <p:cNvGrpSpPr/>
                <p:nvPr/>
              </p:nvGrpSpPr>
              <p:grpSpPr>
                <a:xfrm>
                  <a:off x="5722560" y="2180880"/>
                  <a:ext cx="443160" cy="333720"/>
                  <a:chOff x="5722560" y="2180880"/>
                  <a:chExt cx="443160" cy="333720"/>
                </a:xfrm>
              </p:grpSpPr>
              <p:sp>
                <p:nvSpPr>
                  <p:cNvPr id="1615" name="Freeform 280"/>
                  <p:cNvSpPr/>
                  <p:nvPr/>
                </p:nvSpPr>
                <p:spPr>
                  <a:xfrm>
                    <a:off x="5743800" y="2189520"/>
                    <a:ext cx="336600" cy="162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Freeform 281"/>
                  <p:cNvSpPr/>
                  <p:nvPr/>
                </p:nvSpPr>
                <p:spPr>
                  <a:xfrm>
                    <a:off x="5922000" y="2192040"/>
                    <a:ext cx="158400" cy="32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Freeform 282"/>
                  <p:cNvSpPr/>
                  <p:nvPr/>
                </p:nvSpPr>
                <p:spPr>
                  <a:xfrm>
                    <a:off x="5722560" y="2180880"/>
                    <a:ext cx="358200" cy="108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Freeform 283"/>
                  <p:cNvSpPr/>
                  <p:nvPr/>
                </p:nvSpPr>
                <p:spPr>
                  <a:xfrm flipH="1" rot="21135600">
                    <a:off x="5784480" y="2206440"/>
                    <a:ext cx="295920" cy="263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284"/>
                  <p:cNvSpPr/>
                  <p:nvPr/>
                </p:nvSpPr>
                <p:spPr>
                  <a:xfrm rot="18567600">
                    <a:off x="5880240" y="2280240"/>
                    <a:ext cx="284760" cy="136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0" name="Group 285"/>
                <p:cNvGrpSpPr/>
                <p:nvPr/>
              </p:nvGrpSpPr>
              <p:grpSpPr>
                <a:xfrm>
                  <a:off x="6117840" y="2158560"/>
                  <a:ext cx="443520" cy="333720"/>
                  <a:chOff x="6117840" y="2158560"/>
                  <a:chExt cx="443520" cy="333720"/>
                </a:xfrm>
              </p:grpSpPr>
              <p:sp>
                <p:nvSpPr>
                  <p:cNvPr id="1621" name="Freeform 286"/>
                  <p:cNvSpPr/>
                  <p:nvPr/>
                </p:nvSpPr>
                <p:spPr>
                  <a:xfrm flipH="1">
                    <a:off x="6203160" y="2167200"/>
                    <a:ext cx="336600" cy="162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Freeform 287"/>
                  <p:cNvSpPr/>
                  <p:nvPr/>
                </p:nvSpPr>
                <p:spPr>
                  <a:xfrm flipH="1">
                    <a:off x="6203520" y="2169720"/>
                    <a:ext cx="158400" cy="32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Freeform 288"/>
                  <p:cNvSpPr/>
                  <p:nvPr/>
                </p:nvSpPr>
                <p:spPr>
                  <a:xfrm flipH="1">
                    <a:off x="6202800" y="2158560"/>
                    <a:ext cx="358200" cy="108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Freeform 289"/>
                  <p:cNvSpPr/>
                  <p:nvPr/>
                </p:nvSpPr>
                <p:spPr>
                  <a:xfrm rot="464400">
                    <a:off x="6202800" y="2184120"/>
                    <a:ext cx="295920" cy="263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Freeform 290"/>
                  <p:cNvSpPr/>
                  <p:nvPr/>
                </p:nvSpPr>
                <p:spPr>
                  <a:xfrm flipH="1" rot="3032400">
                    <a:off x="6118560" y="2257920"/>
                    <a:ext cx="284760" cy="136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26" name="TextBox 1120"/>
            <p:cNvSpPr/>
            <p:nvPr/>
          </p:nvSpPr>
          <p:spPr>
            <a:xfrm>
              <a:off x="5943600" y="2362680"/>
              <a:ext cx="533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Группа 1127"/>
          <p:cNvGrpSpPr/>
          <p:nvPr/>
        </p:nvGrpSpPr>
        <p:grpSpPr>
          <a:xfrm>
            <a:off x="305640" y="2819520"/>
            <a:ext cx="1149120" cy="1983960"/>
            <a:chOff x="305640" y="2819520"/>
            <a:chExt cx="1149120" cy="1983960"/>
          </a:xfrm>
        </p:grpSpPr>
        <p:grpSp>
          <p:nvGrpSpPr>
            <p:cNvPr id="1628" name="Group 311"/>
            <p:cNvGrpSpPr/>
            <p:nvPr/>
          </p:nvGrpSpPr>
          <p:grpSpPr>
            <a:xfrm>
              <a:off x="305640" y="2819520"/>
              <a:ext cx="1149120" cy="1726200"/>
              <a:chOff x="305640" y="2819520"/>
              <a:chExt cx="1149120" cy="1726200"/>
            </a:xfrm>
          </p:grpSpPr>
          <p:sp>
            <p:nvSpPr>
              <p:cNvPr id="1629" name="Line 312"/>
              <p:cNvSpPr/>
              <p:nvPr/>
            </p:nvSpPr>
            <p:spPr>
              <a:xfrm>
                <a:off x="884160" y="3042000"/>
                <a:ext cx="6840" cy="10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AutoShape 313"/>
              <p:cNvSpPr/>
              <p:nvPr/>
            </p:nvSpPr>
            <p:spPr>
              <a:xfrm rot="10800000">
                <a:off x="767880" y="2819520"/>
                <a:ext cx="229320" cy="23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Line 314"/>
              <p:cNvSpPr/>
              <p:nvPr/>
            </p:nvSpPr>
            <p:spPr>
              <a:xfrm flipH="1" flipV="1">
                <a:off x="988920" y="3121920"/>
                <a:ext cx="1152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Arc 315"/>
              <p:cNvSpPr/>
              <p:nvPr/>
            </p:nvSpPr>
            <p:spPr>
              <a:xfrm flipH="1" flipV="1">
                <a:off x="795600" y="3664080"/>
                <a:ext cx="103320" cy="171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Arc 316"/>
              <p:cNvSpPr/>
              <p:nvPr/>
            </p:nvSpPr>
            <p:spPr>
              <a:xfrm flipV="1" rot="19780800">
                <a:off x="861840" y="3538800"/>
                <a:ext cx="132120" cy="89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317"/>
              <p:cNvGrpSpPr/>
              <p:nvPr/>
            </p:nvGrpSpPr>
            <p:grpSpPr>
              <a:xfrm>
                <a:off x="788040" y="3660840"/>
                <a:ext cx="666720" cy="511920"/>
                <a:chOff x="788040" y="3660840"/>
                <a:chExt cx="666720" cy="511920"/>
              </a:xfrm>
            </p:grpSpPr>
            <p:grpSp>
              <p:nvGrpSpPr>
                <p:cNvPr id="1635" name="Group 318"/>
                <p:cNvGrpSpPr/>
                <p:nvPr/>
              </p:nvGrpSpPr>
              <p:grpSpPr>
                <a:xfrm>
                  <a:off x="950040" y="3660840"/>
                  <a:ext cx="504720" cy="356760"/>
                  <a:chOff x="950040" y="3660840"/>
                  <a:chExt cx="504720" cy="356760"/>
                </a:xfrm>
              </p:grpSpPr>
              <p:grpSp>
                <p:nvGrpSpPr>
                  <p:cNvPr id="1636" name="Group 319"/>
                  <p:cNvGrpSpPr/>
                  <p:nvPr/>
                </p:nvGrpSpPr>
                <p:grpSpPr>
                  <a:xfrm>
                    <a:off x="1264320" y="3755880"/>
                    <a:ext cx="190440" cy="245880"/>
                    <a:chOff x="1264320" y="3755880"/>
                    <a:chExt cx="190440" cy="245880"/>
                  </a:xfrm>
                </p:grpSpPr>
                <p:cxnSp>
                  <p:nvCxnSpPr>
                    <p:cNvPr id="1637" name="AutoShape 320"/>
                    <p:cNvCxnSpPr/>
                    <p:nvPr/>
                  </p:nvCxnSpPr>
                  <p:spPr>
                    <a:xfrm flipH="1">
                      <a:off x="1359360" y="3755880"/>
                      <a:ext cx="95760" cy="68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38" name="AutoShape 321"/>
                    <p:cNvCxnSpPr/>
                    <p:nvPr/>
                  </p:nvCxnSpPr>
                  <p:spPr>
                    <a:xfrm flipH="1">
                      <a:off x="1264320" y="3934080"/>
                      <a:ext cx="149040" cy="68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39" name="AutoShape 322"/>
                    <p:cNvCxnSpPr/>
                    <p:nvPr/>
                  </p:nvCxnSpPr>
                  <p:spPr>
                    <a:xfrm flipH="1">
                      <a:off x="1359360" y="3823560"/>
                      <a:ext cx="95760" cy="51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40" name="AutoShape 323"/>
                    <p:cNvCxnSpPr/>
                    <p:nvPr/>
                  </p:nvCxnSpPr>
                  <p:spPr>
                    <a:xfrm flipH="1">
                      <a:off x="1316880" y="3890880"/>
                      <a:ext cx="96120" cy="43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41" name="Group 324"/>
                  <p:cNvGrpSpPr/>
                  <p:nvPr/>
                </p:nvGrpSpPr>
                <p:grpSpPr>
                  <a:xfrm>
                    <a:off x="1115640" y="3709440"/>
                    <a:ext cx="190440" cy="246600"/>
                    <a:chOff x="1115640" y="3709440"/>
                    <a:chExt cx="190440" cy="246600"/>
                  </a:xfrm>
                </p:grpSpPr>
                <p:cxnSp>
                  <p:nvCxnSpPr>
                    <p:cNvPr id="1642" name="AutoShape 325"/>
                    <p:cNvCxnSpPr/>
                    <p:nvPr/>
                  </p:nvCxnSpPr>
                  <p:spPr>
                    <a:xfrm flipH="1">
                      <a:off x="1210680" y="3709440"/>
                      <a:ext cx="95760" cy="68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43" name="AutoShape 326"/>
                    <p:cNvCxnSpPr/>
                    <p:nvPr/>
                  </p:nvCxnSpPr>
                  <p:spPr>
                    <a:xfrm flipH="1">
                      <a:off x="1115640" y="3888000"/>
                      <a:ext cx="149040" cy="68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44" name="AutoShape 327"/>
                    <p:cNvCxnSpPr/>
                    <p:nvPr/>
                  </p:nvCxnSpPr>
                  <p:spPr>
                    <a:xfrm flipH="1">
                      <a:off x="1210680" y="3777120"/>
                      <a:ext cx="95760" cy="51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45" name="AutoShape 328"/>
                    <p:cNvCxnSpPr/>
                    <p:nvPr/>
                  </p:nvCxnSpPr>
                  <p:spPr>
                    <a:xfrm flipH="1">
                      <a:off x="1168200" y="3844800"/>
                      <a:ext cx="96120" cy="43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46" name="Group 329"/>
                  <p:cNvGrpSpPr/>
                  <p:nvPr/>
                </p:nvGrpSpPr>
                <p:grpSpPr>
                  <a:xfrm>
                    <a:off x="991080" y="3660840"/>
                    <a:ext cx="144000" cy="283680"/>
                    <a:chOff x="991080" y="3660840"/>
                    <a:chExt cx="144000" cy="283680"/>
                  </a:xfrm>
                </p:grpSpPr>
                <p:cxnSp>
                  <p:nvCxnSpPr>
                    <p:cNvPr id="1647" name="AutoShape 330"/>
                    <p:cNvCxnSpPr/>
                    <p:nvPr/>
                  </p:nvCxnSpPr>
                  <p:spPr>
                    <a:xfrm flipH="1">
                      <a:off x="1041840" y="3660840"/>
                      <a:ext cx="77760" cy="88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48" name="AutoShape 331"/>
                    <p:cNvCxnSpPr/>
                    <p:nvPr/>
                  </p:nvCxnSpPr>
                  <p:spPr>
                    <a:xfrm flipH="1">
                      <a:off x="991080" y="3843720"/>
                      <a:ext cx="129960" cy="101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49" name="AutoShape 332"/>
                    <p:cNvCxnSpPr/>
                    <p:nvPr/>
                  </p:nvCxnSpPr>
                  <p:spPr>
                    <a:xfrm flipH="1">
                      <a:off x="1053720" y="3726360"/>
                      <a:ext cx="81720" cy="72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50" name="AutoShape 333"/>
                    <p:cNvCxnSpPr/>
                    <p:nvPr/>
                  </p:nvCxnSpPr>
                  <p:spPr>
                    <a:xfrm flipH="1">
                      <a:off x="1026720" y="3801960"/>
                      <a:ext cx="83520" cy="64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51" name="Group 334"/>
                  <p:cNvGrpSpPr/>
                  <p:nvPr/>
                </p:nvGrpSpPr>
                <p:grpSpPr>
                  <a:xfrm>
                    <a:off x="1252080" y="3708000"/>
                    <a:ext cx="117720" cy="309600"/>
                    <a:chOff x="1252080" y="3708000"/>
                    <a:chExt cx="117720" cy="309600"/>
                  </a:xfrm>
                </p:grpSpPr>
                <p:cxnSp>
                  <p:nvCxnSpPr>
                    <p:cNvPr id="1652" name="AutoShape 335"/>
                    <p:cNvCxnSpPr/>
                    <p:nvPr/>
                  </p:nvCxnSpPr>
                  <p:spPr>
                    <a:xfrm>
                      <a:off x="1354680" y="3708000"/>
                      <a:ext cx="15480" cy="115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53" name="AutoShape 336"/>
                    <p:cNvCxnSpPr/>
                    <p:nvPr/>
                  </p:nvCxnSpPr>
                  <p:spPr>
                    <a:xfrm>
                      <a:off x="1252080" y="3864960"/>
                      <a:ext cx="52200" cy="153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54" name="AutoShape 337"/>
                    <p:cNvCxnSpPr/>
                    <p:nvPr/>
                  </p:nvCxnSpPr>
                  <p:spPr>
                    <a:xfrm>
                      <a:off x="1305000" y="3756240"/>
                      <a:ext cx="28080" cy="103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55" name="AutoShape 338"/>
                    <p:cNvCxnSpPr/>
                    <p:nvPr/>
                  </p:nvCxnSpPr>
                  <p:spPr>
                    <a:xfrm>
                      <a:off x="1284120" y="3834000"/>
                      <a:ext cx="33480" cy="98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56" name="Group 339"/>
                  <p:cNvGrpSpPr/>
                  <p:nvPr/>
                </p:nvGrpSpPr>
                <p:grpSpPr>
                  <a:xfrm>
                    <a:off x="950040" y="3668040"/>
                    <a:ext cx="114480" cy="301320"/>
                    <a:chOff x="950040" y="3668040"/>
                    <a:chExt cx="114480" cy="301320"/>
                  </a:xfrm>
                </p:grpSpPr>
                <p:cxnSp>
                  <p:nvCxnSpPr>
                    <p:cNvPr id="1657" name="AutoShape 340"/>
                    <p:cNvCxnSpPr/>
                    <p:nvPr/>
                  </p:nvCxnSpPr>
                  <p:spPr>
                    <a:xfrm>
                      <a:off x="1046520" y="3668040"/>
                      <a:ext cx="18360" cy="113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58" name="AutoShape 341"/>
                    <p:cNvCxnSpPr/>
                    <p:nvPr/>
                  </p:nvCxnSpPr>
                  <p:spPr>
                    <a:xfrm>
                      <a:off x="950040" y="3818880"/>
                      <a:ext cx="54720" cy="150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59" name="AutoShape 342"/>
                    <p:cNvCxnSpPr/>
                    <p:nvPr/>
                  </p:nvCxnSpPr>
                  <p:spPr>
                    <a:xfrm>
                      <a:off x="999360" y="3714120"/>
                      <a:ext cx="30240" cy="101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60" name="AutoShape 343"/>
                    <p:cNvCxnSpPr/>
                    <p:nvPr/>
                  </p:nvCxnSpPr>
                  <p:spPr>
                    <a:xfrm>
                      <a:off x="981000" y="3789720"/>
                      <a:ext cx="35280" cy="96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61" name="Group 344"/>
                  <p:cNvGrpSpPr/>
                  <p:nvPr/>
                </p:nvGrpSpPr>
                <p:grpSpPr>
                  <a:xfrm>
                    <a:off x="1074960" y="3691800"/>
                    <a:ext cx="117720" cy="309600"/>
                    <a:chOff x="1074960" y="3691800"/>
                    <a:chExt cx="117720" cy="309600"/>
                  </a:xfrm>
                </p:grpSpPr>
                <p:cxnSp>
                  <p:nvCxnSpPr>
                    <p:cNvPr id="1662" name="AutoShape 345"/>
                    <p:cNvCxnSpPr/>
                    <p:nvPr/>
                  </p:nvCxnSpPr>
                  <p:spPr>
                    <a:xfrm>
                      <a:off x="1177560" y="3691800"/>
                      <a:ext cx="15480" cy="115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63" name="AutoShape 346"/>
                    <p:cNvCxnSpPr/>
                    <p:nvPr/>
                  </p:nvCxnSpPr>
                  <p:spPr>
                    <a:xfrm>
                      <a:off x="1074960" y="3848760"/>
                      <a:ext cx="52200" cy="153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64" name="AutoShape 347"/>
                    <p:cNvCxnSpPr/>
                    <p:nvPr/>
                  </p:nvCxnSpPr>
                  <p:spPr>
                    <a:xfrm>
                      <a:off x="1127880" y="3740040"/>
                      <a:ext cx="28080" cy="103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65" name="AutoShape 348"/>
                    <p:cNvCxnSpPr/>
                    <p:nvPr/>
                  </p:nvCxnSpPr>
                  <p:spPr>
                    <a:xfrm>
                      <a:off x="1107000" y="3817800"/>
                      <a:ext cx="33480" cy="98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1666" name="Group 349"/>
                <p:cNvGrpSpPr/>
                <p:nvPr/>
              </p:nvGrpSpPr>
              <p:grpSpPr>
                <a:xfrm>
                  <a:off x="788040" y="3681360"/>
                  <a:ext cx="587160" cy="491400"/>
                  <a:chOff x="788040" y="3681360"/>
                  <a:chExt cx="587160" cy="491400"/>
                </a:xfrm>
              </p:grpSpPr>
              <p:sp>
                <p:nvSpPr>
                  <p:cNvPr id="1667" name="Arc 350"/>
                  <p:cNvSpPr/>
                  <p:nvPr/>
                </p:nvSpPr>
                <p:spPr>
                  <a:xfrm flipV="1" rot="21094200">
                    <a:off x="814680" y="3709440"/>
                    <a:ext cx="413640" cy="396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Arc 351"/>
                  <p:cNvSpPr/>
                  <p:nvPr/>
                </p:nvSpPr>
                <p:spPr>
                  <a:xfrm flipV="1" rot="245400">
                    <a:off x="944280" y="3708720"/>
                    <a:ext cx="415080" cy="449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Arc 352"/>
                  <p:cNvSpPr/>
                  <p:nvPr/>
                </p:nvSpPr>
                <p:spPr>
                  <a:xfrm flipV="1">
                    <a:off x="814680" y="3708720"/>
                    <a:ext cx="238320" cy="396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70" name="Group 353"/>
              <p:cNvGrpSpPr/>
              <p:nvPr/>
            </p:nvGrpSpPr>
            <p:grpSpPr>
              <a:xfrm>
                <a:off x="305640" y="3662640"/>
                <a:ext cx="666720" cy="511920"/>
                <a:chOff x="305640" y="3662640"/>
                <a:chExt cx="666720" cy="511920"/>
              </a:xfrm>
            </p:grpSpPr>
            <p:grpSp>
              <p:nvGrpSpPr>
                <p:cNvPr id="1671" name="Group 354"/>
                <p:cNvGrpSpPr/>
                <p:nvPr/>
              </p:nvGrpSpPr>
              <p:grpSpPr>
                <a:xfrm>
                  <a:off x="305640" y="3662640"/>
                  <a:ext cx="504720" cy="356760"/>
                  <a:chOff x="305640" y="3662640"/>
                  <a:chExt cx="504720" cy="356760"/>
                </a:xfrm>
              </p:grpSpPr>
              <p:grpSp>
                <p:nvGrpSpPr>
                  <p:cNvPr id="1672" name="Group 355"/>
                  <p:cNvGrpSpPr/>
                  <p:nvPr/>
                </p:nvGrpSpPr>
                <p:grpSpPr>
                  <a:xfrm>
                    <a:off x="305640" y="3757680"/>
                    <a:ext cx="190440" cy="245880"/>
                    <a:chOff x="305640" y="3757680"/>
                    <a:chExt cx="190440" cy="245880"/>
                  </a:xfrm>
                </p:grpSpPr>
                <p:cxnSp>
                  <p:nvCxnSpPr>
                    <p:cNvPr id="1673" name="AutoShape 356"/>
                    <p:cNvCxnSpPr/>
                    <p:nvPr/>
                  </p:nvCxnSpPr>
                  <p:spPr>
                    <a:xfrm>
                      <a:off x="305640" y="3757680"/>
                      <a:ext cx="95760" cy="68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74" name="AutoShape 357"/>
                    <p:cNvCxnSpPr/>
                    <p:nvPr/>
                  </p:nvCxnSpPr>
                  <p:spPr>
                    <a:xfrm>
                      <a:off x="347400" y="3935880"/>
                      <a:ext cx="149040" cy="68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75" name="AutoShape 358"/>
                    <p:cNvCxnSpPr/>
                    <p:nvPr/>
                  </p:nvCxnSpPr>
                  <p:spPr>
                    <a:xfrm>
                      <a:off x="305640" y="3825360"/>
                      <a:ext cx="95760" cy="51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76" name="AutoShape 359"/>
                    <p:cNvCxnSpPr/>
                    <p:nvPr/>
                  </p:nvCxnSpPr>
                  <p:spPr>
                    <a:xfrm>
                      <a:off x="347760" y="3892680"/>
                      <a:ext cx="96120" cy="43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77" name="Group 360"/>
                  <p:cNvGrpSpPr/>
                  <p:nvPr/>
                </p:nvGrpSpPr>
                <p:grpSpPr>
                  <a:xfrm>
                    <a:off x="454320" y="3711240"/>
                    <a:ext cx="190440" cy="246600"/>
                    <a:chOff x="454320" y="3711240"/>
                    <a:chExt cx="190440" cy="246600"/>
                  </a:xfrm>
                </p:grpSpPr>
                <p:cxnSp>
                  <p:nvCxnSpPr>
                    <p:cNvPr id="1678" name="AutoShape 361"/>
                    <p:cNvCxnSpPr/>
                    <p:nvPr/>
                  </p:nvCxnSpPr>
                  <p:spPr>
                    <a:xfrm>
                      <a:off x="454320" y="3711240"/>
                      <a:ext cx="95760" cy="68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79" name="AutoShape 362"/>
                    <p:cNvCxnSpPr/>
                    <p:nvPr/>
                  </p:nvCxnSpPr>
                  <p:spPr>
                    <a:xfrm>
                      <a:off x="496080" y="3889800"/>
                      <a:ext cx="149040" cy="68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80" name="AutoShape 363"/>
                    <p:cNvCxnSpPr/>
                    <p:nvPr/>
                  </p:nvCxnSpPr>
                  <p:spPr>
                    <a:xfrm>
                      <a:off x="454320" y="3778920"/>
                      <a:ext cx="95760" cy="51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81" name="AutoShape 364"/>
                    <p:cNvCxnSpPr/>
                    <p:nvPr/>
                  </p:nvCxnSpPr>
                  <p:spPr>
                    <a:xfrm>
                      <a:off x="496440" y="3846600"/>
                      <a:ext cx="96120" cy="43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82" name="Group 365"/>
                  <p:cNvGrpSpPr/>
                  <p:nvPr/>
                </p:nvGrpSpPr>
                <p:grpSpPr>
                  <a:xfrm>
                    <a:off x="625320" y="3662640"/>
                    <a:ext cx="144000" cy="283680"/>
                    <a:chOff x="625320" y="3662640"/>
                    <a:chExt cx="144000" cy="283680"/>
                  </a:xfrm>
                </p:grpSpPr>
                <p:cxnSp>
                  <p:nvCxnSpPr>
                    <p:cNvPr id="1683" name="AutoShape 366"/>
                    <p:cNvCxnSpPr/>
                    <p:nvPr/>
                  </p:nvCxnSpPr>
                  <p:spPr>
                    <a:xfrm>
                      <a:off x="641160" y="3662640"/>
                      <a:ext cx="77760" cy="88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84" name="AutoShape 367"/>
                    <p:cNvCxnSpPr/>
                    <p:nvPr/>
                  </p:nvCxnSpPr>
                  <p:spPr>
                    <a:xfrm>
                      <a:off x="639720" y="3845520"/>
                      <a:ext cx="129960" cy="101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85" name="AutoShape 368"/>
                    <p:cNvCxnSpPr/>
                    <p:nvPr/>
                  </p:nvCxnSpPr>
                  <p:spPr>
                    <a:xfrm>
                      <a:off x="625320" y="3728160"/>
                      <a:ext cx="81720" cy="72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86" name="AutoShape 369"/>
                    <p:cNvCxnSpPr/>
                    <p:nvPr/>
                  </p:nvCxnSpPr>
                  <p:spPr>
                    <a:xfrm>
                      <a:off x="650520" y="3803760"/>
                      <a:ext cx="83520" cy="64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87" name="Group 370"/>
                  <p:cNvGrpSpPr/>
                  <p:nvPr/>
                </p:nvGrpSpPr>
                <p:grpSpPr>
                  <a:xfrm>
                    <a:off x="390600" y="3709800"/>
                    <a:ext cx="117720" cy="309600"/>
                    <a:chOff x="390600" y="3709800"/>
                    <a:chExt cx="117720" cy="309600"/>
                  </a:xfrm>
                </p:grpSpPr>
                <p:cxnSp>
                  <p:nvCxnSpPr>
                    <p:cNvPr id="1688" name="AutoShape 371"/>
                    <p:cNvCxnSpPr/>
                    <p:nvPr/>
                  </p:nvCxnSpPr>
                  <p:spPr>
                    <a:xfrm flipH="1">
                      <a:off x="390600" y="3709800"/>
                      <a:ext cx="15480" cy="115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89" name="AutoShape 372"/>
                    <p:cNvCxnSpPr/>
                    <p:nvPr/>
                  </p:nvCxnSpPr>
                  <p:spPr>
                    <a:xfrm flipH="1">
                      <a:off x="456480" y="3866760"/>
                      <a:ext cx="52200" cy="153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90" name="AutoShape 373"/>
                    <p:cNvCxnSpPr/>
                    <p:nvPr/>
                  </p:nvCxnSpPr>
                  <p:spPr>
                    <a:xfrm flipH="1">
                      <a:off x="427680" y="3758040"/>
                      <a:ext cx="28080" cy="103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91" name="AutoShape 374"/>
                    <p:cNvCxnSpPr/>
                    <p:nvPr/>
                  </p:nvCxnSpPr>
                  <p:spPr>
                    <a:xfrm flipH="1">
                      <a:off x="443160" y="3835800"/>
                      <a:ext cx="33480" cy="98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92" name="Group 375"/>
                  <p:cNvGrpSpPr/>
                  <p:nvPr/>
                </p:nvGrpSpPr>
                <p:grpSpPr>
                  <a:xfrm>
                    <a:off x="695880" y="3669840"/>
                    <a:ext cx="114480" cy="301320"/>
                    <a:chOff x="695880" y="3669840"/>
                    <a:chExt cx="114480" cy="301320"/>
                  </a:xfrm>
                </p:grpSpPr>
                <p:cxnSp>
                  <p:nvCxnSpPr>
                    <p:cNvPr id="1693" name="AutoShape 376"/>
                    <p:cNvCxnSpPr/>
                    <p:nvPr/>
                  </p:nvCxnSpPr>
                  <p:spPr>
                    <a:xfrm flipH="1">
                      <a:off x="695880" y="3669840"/>
                      <a:ext cx="18360" cy="113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94" name="AutoShape 377"/>
                    <p:cNvCxnSpPr/>
                    <p:nvPr/>
                  </p:nvCxnSpPr>
                  <p:spPr>
                    <a:xfrm flipH="1">
                      <a:off x="756000" y="3820680"/>
                      <a:ext cx="54720" cy="150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95" name="AutoShape 378"/>
                    <p:cNvCxnSpPr/>
                    <p:nvPr/>
                  </p:nvCxnSpPr>
                  <p:spPr>
                    <a:xfrm flipH="1">
                      <a:off x="731160" y="3715920"/>
                      <a:ext cx="30240" cy="101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96" name="AutoShape 379"/>
                    <p:cNvCxnSpPr/>
                    <p:nvPr/>
                  </p:nvCxnSpPr>
                  <p:spPr>
                    <a:xfrm flipH="1">
                      <a:off x="744480" y="3791520"/>
                      <a:ext cx="35280" cy="96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697" name="Group 380"/>
                  <p:cNvGrpSpPr/>
                  <p:nvPr/>
                </p:nvGrpSpPr>
                <p:grpSpPr>
                  <a:xfrm>
                    <a:off x="567720" y="3693600"/>
                    <a:ext cx="117720" cy="309600"/>
                    <a:chOff x="567720" y="3693600"/>
                    <a:chExt cx="117720" cy="309600"/>
                  </a:xfrm>
                </p:grpSpPr>
                <p:cxnSp>
                  <p:nvCxnSpPr>
                    <p:cNvPr id="1698" name="AutoShape 381"/>
                    <p:cNvCxnSpPr/>
                    <p:nvPr/>
                  </p:nvCxnSpPr>
                  <p:spPr>
                    <a:xfrm flipH="1">
                      <a:off x="567720" y="3693600"/>
                      <a:ext cx="15480" cy="115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699" name="AutoShape 382"/>
                    <p:cNvCxnSpPr/>
                    <p:nvPr/>
                  </p:nvCxnSpPr>
                  <p:spPr>
                    <a:xfrm flipH="1">
                      <a:off x="633600" y="3850560"/>
                      <a:ext cx="52200" cy="153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00" name="AutoShape 383"/>
                    <p:cNvCxnSpPr/>
                    <p:nvPr/>
                  </p:nvCxnSpPr>
                  <p:spPr>
                    <a:xfrm flipH="1">
                      <a:off x="604800" y="3741840"/>
                      <a:ext cx="28080" cy="103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01" name="AutoShape 384"/>
                    <p:cNvCxnSpPr/>
                    <p:nvPr/>
                  </p:nvCxnSpPr>
                  <p:spPr>
                    <a:xfrm flipH="1">
                      <a:off x="620280" y="3819600"/>
                      <a:ext cx="33480" cy="98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1702" name="Group 385"/>
                <p:cNvGrpSpPr/>
                <p:nvPr/>
              </p:nvGrpSpPr>
              <p:grpSpPr>
                <a:xfrm>
                  <a:off x="385200" y="3683160"/>
                  <a:ext cx="587160" cy="491400"/>
                  <a:chOff x="385200" y="3683160"/>
                  <a:chExt cx="587160" cy="491400"/>
                </a:xfrm>
              </p:grpSpPr>
              <p:sp>
                <p:nvSpPr>
                  <p:cNvPr id="1703" name="Arc 386"/>
                  <p:cNvSpPr/>
                  <p:nvPr/>
                </p:nvSpPr>
                <p:spPr>
                  <a:xfrm flipH="1" flipV="1" rot="505800">
                    <a:off x="531720" y="3711240"/>
                    <a:ext cx="413640" cy="396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Arc 387"/>
                  <p:cNvSpPr/>
                  <p:nvPr/>
                </p:nvSpPr>
                <p:spPr>
                  <a:xfrm flipH="1" flipV="1" rot="21354600">
                    <a:off x="399960" y="3710520"/>
                    <a:ext cx="415080" cy="449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Arc 388"/>
                  <p:cNvSpPr/>
                  <p:nvPr/>
                </p:nvSpPr>
                <p:spPr>
                  <a:xfrm flipH="1" flipV="1">
                    <a:off x="707400" y="3710520"/>
                    <a:ext cx="238320" cy="396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6" name="Group 389"/>
              <p:cNvGrpSpPr/>
              <p:nvPr/>
            </p:nvGrpSpPr>
            <p:grpSpPr>
              <a:xfrm>
                <a:off x="465840" y="4066920"/>
                <a:ext cx="844920" cy="478800"/>
                <a:chOff x="465840" y="4066920"/>
                <a:chExt cx="844920" cy="478800"/>
              </a:xfrm>
            </p:grpSpPr>
            <p:sp>
              <p:nvSpPr>
                <p:cNvPr id="1707" name="Freeform 390"/>
                <p:cNvSpPr/>
                <p:nvPr/>
              </p:nvSpPr>
              <p:spPr>
                <a:xfrm>
                  <a:off x="860760" y="4158000"/>
                  <a:ext cx="228960" cy="324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391"/>
                <p:cNvSpPr/>
                <p:nvPr/>
              </p:nvSpPr>
              <p:spPr>
                <a:xfrm>
                  <a:off x="892440" y="4141080"/>
                  <a:ext cx="294480" cy="218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392"/>
                <p:cNvSpPr/>
                <p:nvPr/>
              </p:nvSpPr>
              <p:spPr>
                <a:xfrm rot="772200">
                  <a:off x="528480" y="4093920"/>
                  <a:ext cx="285120" cy="352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393"/>
                <p:cNvSpPr/>
                <p:nvPr/>
              </p:nvSpPr>
              <p:spPr>
                <a:xfrm>
                  <a:off x="860040" y="4138560"/>
                  <a:ext cx="297720" cy="288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Rectangle 394"/>
                <p:cNvSpPr/>
                <p:nvPr/>
              </p:nvSpPr>
              <p:spPr>
                <a:xfrm>
                  <a:off x="813960" y="4104360"/>
                  <a:ext cx="126000" cy="8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Freeform 395"/>
                <p:cNvSpPr/>
                <p:nvPr/>
              </p:nvSpPr>
              <p:spPr>
                <a:xfrm rot="1519200">
                  <a:off x="860400" y="4207320"/>
                  <a:ext cx="297360" cy="288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3" name="Group 396"/>
                <p:cNvGrpSpPr/>
                <p:nvPr/>
              </p:nvGrpSpPr>
              <p:grpSpPr>
                <a:xfrm>
                  <a:off x="465840" y="4128840"/>
                  <a:ext cx="454320" cy="366840"/>
                  <a:chOff x="465840" y="4128840"/>
                  <a:chExt cx="454320" cy="366840"/>
                </a:xfrm>
              </p:grpSpPr>
              <p:sp>
                <p:nvSpPr>
                  <p:cNvPr id="1714" name="Freeform 397"/>
                  <p:cNvSpPr/>
                  <p:nvPr/>
                </p:nvSpPr>
                <p:spPr>
                  <a:xfrm>
                    <a:off x="487080" y="4138560"/>
                    <a:ext cx="339480" cy="178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Freeform 398"/>
                  <p:cNvSpPr/>
                  <p:nvPr/>
                </p:nvSpPr>
                <p:spPr>
                  <a:xfrm>
                    <a:off x="667080" y="4141080"/>
                    <a:ext cx="159480" cy="354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Freeform 399"/>
                  <p:cNvSpPr/>
                  <p:nvPr/>
                </p:nvSpPr>
                <p:spPr>
                  <a:xfrm>
                    <a:off x="465840" y="4128840"/>
                    <a:ext cx="360720" cy="119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Freeform 400"/>
                  <p:cNvSpPr/>
                  <p:nvPr/>
                </p:nvSpPr>
                <p:spPr>
                  <a:xfrm flipH="1" rot="21135600">
                    <a:off x="528120" y="4156560"/>
                    <a:ext cx="297360" cy="289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Freeform 401"/>
                  <p:cNvSpPr/>
                  <p:nvPr/>
                </p:nvSpPr>
                <p:spPr>
                  <a:xfrm rot="18567600">
                    <a:off x="611280" y="4244400"/>
                    <a:ext cx="312840" cy="137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9" name="Group 402"/>
                <p:cNvGrpSpPr/>
                <p:nvPr/>
              </p:nvGrpSpPr>
              <p:grpSpPr>
                <a:xfrm>
                  <a:off x="856440" y="4104360"/>
                  <a:ext cx="454320" cy="366840"/>
                  <a:chOff x="856440" y="4104360"/>
                  <a:chExt cx="454320" cy="366840"/>
                </a:xfrm>
              </p:grpSpPr>
              <p:sp>
                <p:nvSpPr>
                  <p:cNvPr id="1720" name="Freeform 403"/>
                  <p:cNvSpPr/>
                  <p:nvPr/>
                </p:nvSpPr>
                <p:spPr>
                  <a:xfrm flipH="1">
                    <a:off x="949680" y="4114080"/>
                    <a:ext cx="339480" cy="178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Freeform 404"/>
                  <p:cNvSpPr/>
                  <p:nvPr/>
                </p:nvSpPr>
                <p:spPr>
                  <a:xfrm flipH="1">
                    <a:off x="949680" y="4116600"/>
                    <a:ext cx="159480" cy="354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Freeform 405"/>
                  <p:cNvSpPr/>
                  <p:nvPr/>
                </p:nvSpPr>
                <p:spPr>
                  <a:xfrm flipH="1">
                    <a:off x="950040" y="4104360"/>
                    <a:ext cx="360720" cy="119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Freeform 406"/>
                  <p:cNvSpPr/>
                  <p:nvPr/>
                </p:nvSpPr>
                <p:spPr>
                  <a:xfrm rot="464400">
                    <a:off x="950400" y="4132080"/>
                    <a:ext cx="297360" cy="289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Freeform 407"/>
                  <p:cNvSpPr/>
                  <p:nvPr/>
                </p:nvSpPr>
                <p:spPr>
                  <a:xfrm flipH="1" rot="3032400">
                    <a:off x="852120" y="4219560"/>
                    <a:ext cx="312840" cy="137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25" name="Arc 408"/>
              <p:cNvSpPr/>
              <p:nvPr/>
            </p:nvSpPr>
            <p:spPr>
              <a:xfrm flipV="1" rot="1060800">
                <a:off x="891720" y="3193200"/>
                <a:ext cx="93960" cy="156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Arc 409"/>
              <p:cNvSpPr/>
              <p:nvPr/>
            </p:nvSpPr>
            <p:spPr>
              <a:xfrm flipH="1" flipV="1" rot="2876400">
                <a:off x="959760" y="3111120"/>
                <a:ext cx="70560" cy="7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410"/>
              <p:cNvSpPr/>
              <p:nvPr/>
            </p:nvSpPr>
            <p:spPr>
              <a:xfrm flipV="1">
                <a:off x="874800" y="3138840"/>
                <a:ext cx="20952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AutoShape 411"/>
              <p:cNvSpPr/>
              <p:nvPr/>
            </p:nvSpPr>
            <p:spPr>
              <a:xfrm rot="15104400">
                <a:off x="1051920" y="3064680"/>
                <a:ext cx="160560" cy="132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AutoShape 412"/>
              <p:cNvSpPr/>
              <p:nvPr/>
            </p:nvSpPr>
            <p:spPr>
              <a:xfrm rot="11860200">
                <a:off x="960840" y="3032640"/>
                <a:ext cx="10296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Arc 413"/>
              <p:cNvSpPr/>
              <p:nvPr/>
            </p:nvSpPr>
            <p:spPr>
              <a:xfrm flipH="1" flipV="1">
                <a:off x="779760" y="3295440"/>
                <a:ext cx="103320" cy="171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Oval 414"/>
              <p:cNvSpPr/>
              <p:nvPr/>
            </p:nvSpPr>
            <p:spPr>
              <a:xfrm rot="1800000">
                <a:off x="891720" y="3594600"/>
                <a:ext cx="26280" cy="52560"/>
              </a:xfrm>
              <a:prstGeom prst="ellipse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Oval 415"/>
              <p:cNvSpPr/>
              <p:nvPr/>
            </p:nvSpPr>
            <p:spPr>
              <a:xfrm flipH="1" rot="19800000">
                <a:off x="853920" y="3416040"/>
                <a:ext cx="26280" cy="51480"/>
              </a:xfrm>
              <a:prstGeom prst="ellipse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Oval 416"/>
              <p:cNvSpPr/>
              <p:nvPr/>
            </p:nvSpPr>
            <p:spPr>
              <a:xfrm flipH="1" rot="19800000">
                <a:off x="856440" y="3785760"/>
                <a:ext cx="26280" cy="51480"/>
              </a:xfrm>
              <a:prstGeom prst="ellipse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4" name="TextBox 1121"/>
            <p:cNvSpPr/>
            <p:nvPr/>
          </p:nvSpPr>
          <p:spPr>
            <a:xfrm>
              <a:off x="762120" y="4343760"/>
              <a:ext cx="60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Группа 1132"/>
          <p:cNvGrpSpPr/>
          <p:nvPr/>
        </p:nvGrpSpPr>
        <p:grpSpPr>
          <a:xfrm>
            <a:off x="457560" y="4876560"/>
            <a:ext cx="2285640" cy="1908360"/>
            <a:chOff x="457560" y="4876560"/>
            <a:chExt cx="2285640" cy="1908360"/>
          </a:xfrm>
        </p:grpSpPr>
        <p:grpSp>
          <p:nvGrpSpPr>
            <p:cNvPr id="1736" name="Группа 1119"/>
            <p:cNvGrpSpPr/>
            <p:nvPr/>
          </p:nvGrpSpPr>
          <p:grpSpPr>
            <a:xfrm>
              <a:off x="457560" y="4876560"/>
              <a:ext cx="2285640" cy="1569960"/>
              <a:chOff x="457560" y="4876560"/>
              <a:chExt cx="2285640" cy="1569960"/>
            </a:xfrm>
          </p:grpSpPr>
          <p:grpSp>
            <p:nvGrpSpPr>
              <p:cNvPr id="1737" name="Group 872"/>
              <p:cNvGrpSpPr/>
              <p:nvPr/>
            </p:nvGrpSpPr>
            <p:grpSpPr>
              <a:xfrm>
                <a:off x="2366280" y="6150600"/>
                <a:ext cx="130680" cy="247320"/>
                <a:chOff x="2366280" y="6150600"/>
                <a:chExt cx="130680" cy="247320"/>
              </a:xfrm>
            </p:grpSpPr>
            <p:sp>
              <p:nvSpPr>
                <p:cNvPr id="1738" name="Freeform 873"/>
                <p:cNvSpPr/>
                <p:nvPr/>
              </p:nvSpPr>
              <p:spPr>
                <a:xfrm>
                  <a:off x="2425320" y="6159240"/>
                  <a:ext cx="37440" cy="186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Freeform 874"/>
                <p:cNvSpPr/>
                <p:nvPr/>
              </p:nvSpPr>
              <p:spPr>
                <a:xfrm rot="21000000">
                  <a:off x="2443320" y="6151680"/>
                  <a:ext cx="34560" cy="223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Freeform 875"/>
                <p:cNvSpPr/>
                <p:nvPr/>
              </p:nvSpPr>
              <p:spPr>
                <a:xfrm flipH="1" rot="600000">
                  <a:off x="2385360" y="6172920"/>
                  <a:ext cx="34920" cy="223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1" name="Group 876"/>
              <p:cNvGrpSpPr/>
              <p:nvPr/>
            </p:nvGrpSpPr>
            <p:grpSpPr>
              <a:xfrm>
                <a:off x="2000520" y="6135480"/>
                <a:ext cx="127800" cy="247320"/>
                <a:chOff x="2000520" y="6135480"/>
                <a:chExt cx="127800" cy="247320"/>
              </a:xfrm>
            </p:grpSpPr>
            <p:sp>
              <p:nvSpPr>
                <p:cNvPr id="1742" name="Freeform 877"/>
                <p:cNvSpPr/>
                <p:nvPr/>
              </p:nvSpPr>
              <p:spPr>
                <a:xfrm>
                  <a:off x="2056680" y="6143760"/>
                  <a:ext cx="37080" cy="186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Freeform 878"/>
                <p:cNvSpPr/>
                <p:nvPr/>
              </p:nvSpPr>
              <p:spPr>
                <a:xfrm rot="21000000">
                  <a:off x="2074680" y="6136560"/>
                  <a:ext cx="34200" cy="223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Freeform 879"/>
                <p:cNvSpPr/>
                <p:nvPr/>
              </p:nvSpPr>
              <p:spPr>
                <a:xfrm flipH="1" rot="600000">
                  <a:off x="2018880" y="6157800"/>
                  <a:ext cx="34200" cy="223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5" name="Group 880"/>
              <p:cNvGrpSpPr/>
              <p:nvPr/>
            </p:nvGrpSpPr>
            <p:grpSpPr>
              <a:xfrm>
                <a:off x="1595520" y="6107400"/>
                <a:ext cx="130680" cy="247320"/>
                <a:chOff x="1595520" y="6107400"/>
                <a:chExt cx="130680" cy="247320"/>
              </a:xfrm>
            </p:grpSpPr>
            <p:sp>
              <p:nvSpPr>
                <p:cNvPr id="1746" name="Freeform 881"/>
                <p:cNvSpPr/>
                <p:nvPr/>
              </p:nvSpPr>
              <p:spPr>
                <a:xfrm>
                  <a:off x="1654560" y="6116040"/>
                  <a:ext cx="37440" cy="186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Freeform 882"/>
                <p:cNvSpPr/>
                <p:nvPr/>
              </p:nvSpPr>
              <p:spPr>
                <a:xfrm rot="21000000">
                  <a:off x="1672560" y="6108480"/>
                  <a:ext cx="34560" cy="223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Freeform 883"/>
                <p:cNvSpPr/>
                <p:nvPr/>
              </p:nvSpPr>
              <p:spPr>
                <a:xfrm flipH="1" rot="600000">
                  <a:off x="1614600" y="6129720"/>
                  <a:ext cx="34920" cy="223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9" name="Freeform 884"/>
              <p:cNvSpPr/>
              <p:nvPr/>
            </p:nvSpPr>
            <p:spPr>
              <a:xfrm>
                <a:off x="1038240" y="5962320"/>
                <a:ext cx="1470240" cy="181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50" name="AutoShape 888"/>
              <p:cNvCxnSpPr/>
              <p:nvPr/>
            </p:nvCxnSpPr>
            <p:spPr>
              <a:xfrm>
                <a:off x="491760" y="6138360"/>
                <a:ext cx="2251800" cy="15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751" name="Line 889"/>
              <p:cNvSpPr/>
              <p:nvPr/>
            </p:nvSpPr>
            <p:spPr>
              <a:xfrm>
                <a:off x="983160" y="5079960"/>
                <a:ext cx="6120" cy="9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AutoShape 890"/>
              <p:cNvSpPr/>
              <p:nvPr/>
            </p:nvSpPr>
            <p:spPr>
              <a:xfrm rot="10800000">
                <a:off x="878040" y="4876560"/>
                <a:ext cx="208080" cy="209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Arc 891"/>
              <p:cNvSpPr/>
              <p:nvPr/>
            </p:nvSpPr>
            <p:spPr>
              <a:xfrm flipV="1">
                <a:off x="983160" y="5244480"/>
                <a:ext cx="105120" cy="182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Arc 892"/>
              <p:cNvSpPr/>
              <p:nvPr/>
            </p:nvSpPr>
            <p:spPr>
              <a:xfrm flipH="1" flipV="1" rot="1816200">
                <a:off x="1040760" y="5126400"/>
                <a:ext cx="66960" cy="12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893"/>
              <p:cNvSpPr/>
              <p:nvPr/>
            </p:nvSpPr>
            <p:spPr>
              <a:xfrm flipV="1">
                <a:off x="997560" y="5143320"/>
                <a:ext cx="15804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Line 894"/>
              <p:cNvSpPr/>
              <p:nvPr/>
            </p:nvSpPr>
            <p:spPr>
              <a:xfrm flipV="1">
                <a:off x="1082520" y="5132160"/>
                <a:ext cx="1440" cy="14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AutoShape 895"/>
              <p:cNvSpPr/>
              <p:nvPr/>
            </p:nvSpPr>
            <p:spPr>
              <a:xfrm rot="14044200">
                <a:off x="1118160" y="5045760"/>
                <a:ext cx="186480" cy="147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AutoShape 896"/>
              <p:cNvSpPr/>
              <p:nvPr/>
            </p:nvSpPr>
            <p:spPr>
              <a:xfrm rot="10800000">
                <a:off x="1021320" y="5033880"/>
                <a:ext cx="115560" cy="126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Arc 897"/>
              <p:cNvSpPr/>
              <p:nvPr/>
            </p:nvSpPr>
            <p:spPr>
              <a:xfrm flipH="1" flipV="1">
                <a:off x="902880" y="5644800"/>
                <a:ext cx="94320" cy="155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Arc 898"/>
              <p:cNvSpPr/>
              <p:nvPr/>
            </p:nvSpPr>
            <p:spPr>
              <a:xfrm flipV="1" rot="19780800">
                <a:off x="878040" y="5494680"/>
                <a:ext cx="56520" cy="81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Line 899"/>
              <p:cNvSpPr/>
              <p:nvPr/>
            </p:nvSpPr>
            <p:spPr>
              <a:xfrm>
                <a:off x="817200" y="5463720"/>
                <a:ext cx="206280" cy="35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AutoShape 900"/>
              <p:cNvSpPr/>
              <p:nvPr/>
            </p:nvSpPr>
            <p:spPr>
              <a:xfrm flipH="1" rot="8721600">
                <a:off x="675360" y="5347080"/>
                <a:ext cx="187920" cy="132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3" name="Group 901"/>
              <p:cNvGrpSpPr/>
              <p:nvPr/>
            </p:nvGrpSpPr>
            <p:grpSpPr>
              <a:xfrm>
                <a:off x="457560" y="5643000"/>
                <a:ext cx="605160" cy="465840"/>
                <a:chOff x="457560" y="5643000"/>
                <a:chExt cx="605160" cy="465840"/>
              </a:xfrm>
            </p:grpSpPr>
            <p:grpSp>
              <p:nvGrpSpPr>
                <p:cNvPr id="1764" name="Group 902"/>
                <p:cNvGrpSpPr/>
                <p:nvPr/>
              </p:nvGrpSpPr>
              <p:grpSpPr>
                <a:xfrm>
                  <a:off x="457560" y="5643000"/>
                  <a:ext cx="458280" cy="325080"/>
                  <a:chOff x="457560" y="5643000"/>
                  <a:chExt cx="458280" cy="325080"/>
                </a:xfrm>
              </p:grpSpPr>
              <p:grpSp>
                <p:nvGrpSpPr>
                  <p:cNvPr id="1765" name="Group 903"/>
                  <p:cNvGrpSpPr/>
                  <p:nvPr/>
                </p:nvGrpSpPr>
                <p:grpSpPr>
                  <a:xfrm>
                    <a:off x="457560" y="5729760"/>
                    <a:ext cx="173520" cy="224280"/>
                    <a:chOff x="457560" y="5729760"/>
                    <a:chExt cx="173520" cy="224280"/>
                  </a:xfrm>
                </p:grpSpPr>
                <p:cxnSp>
                  <p:nvCxnSpPr>
                    <p:cNvPr id="1766" name="AutoShape 904"/>
                    <p:cNvCxnSpPr/>
                    <p:nvPr/>
                  </p:nvCxnSpPr>
                  <p:spPr>
                    <a:xfrm>
                      <a:off x="457560" y="5729760"/>
                      <a:ext cx="8712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67" name="AutoShape 905"/>
                    <p:cNvCxnSpPr/>
                    <p:nvPr/>
                  </p:nvCxnSpPr>
                  <p:spPr>
                    <a:xfrm>
                      <a:off x="495720" y="5892120"/>
                      <a:ext cx="13572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68" name="AutoShape 906"/>
                    <p:cNvCxnSpPr/>
                    <p:nvPr/>
                  </p:nvCxnSpPr>
                  <p:spPr>
                    <a:xfrm>
                      <a:off x="457560" y="5791680"/>
                      <a:ext cx="87120" cy="46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69" name="AutoShape 907"/>
                    <p:cNvCxnSpPr/>
                    <p:nvPr/>
                  </p:nvCxnSpPr>
                  <p:spPr>
                    <a:xfrm>
                      <a:off x="495720" y="5852880"/>
                      <a:ext cx="87120" cy="39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770" name="Group 908"/>
                  <p:cNvGrpSpPr/>
                  <p:nvPr/>
                </p:nvGrpSpPr>
                <p:grpSpPr>
                  <a:xfrm>
                    <a:off x="592560" y="5687280"/>
                    <a:ext cx="173520" cy="224640"/>
                    <a:chOff x="592560" y="5687280"/>
                    <a:chExt cx="173520" cy="224640"/>
                  </a:xfrm>
                </p:grpSpPr>
                <p:cxnSp>
                  <p:nvCxnSpPr>
                    <p:cNvPr id="1771" name="AutoShape 909"/>
                    <p:cNvCxnSpPr/>
                    <p:nvPr/>
                  </p:nvCxnSpPr>
                  <p:spPr>
                    <a:xfrm>
                      <a:off x="592560" y="5687280"/>
                      <a:ext cx="8712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72" name="AutoShape 910"/>
                    <p:cNvCxnSpPr/>
                    <p:nvPr/>
                  </p:nvCxnSpPr>
                  <p:spPr>
                    <a:xfrm>
                      <a:off x="630720" y="5850000"/>
                      <a:ext cx="135720" cy="62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73" name="AutoShape 911"/>
                    <p:cNvCxnSpPr/>
                    <p:nvPr/>
                  </p:nvCxnSpPr>
                  <p:spPr>
                    <a:xfrm>
                      <a:off x="592560" y="5749200"/>
                      <a:ext cx="87120" cy="46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74" name="AutoShape 912"/>
                    <p:cNvCxnSpPr/>
                    <p:nvPr/>
                  </p:nvCxnSpPr>
                  <p:spPr>
                    <a:xfrm>
                      <a:off x="630720" y="5810400"/>
                      <a:ext cx="87120" cy="39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775" name="Group 913"/>
                  <p:cNvGrpSpPr/>
                  <p:nvPr/>
                </p:nvGrpSpPr>
                <p:grpSpPr>
                  <a:xfrm>
                    <a:off x="747720" y="5643000"/>
                    <a:ext cx="130680" cy="258840"/>
                    <a:chOff x="747720" y="5643000"/>
                    <a:chExt cx="130680" cy="258840"/>
                  </a:xfrm>
                </p:grpSpPr>
                <p:cxnSp>
                  <p:nvCxnSpPr>
                    <p:cNvPr id="1776" name="AutoShape 914"/>
                    <p:cNvCxnSpPr/>
                    <p:nvPr/>
                  </p:nvCxnSpPr>
                  <p:spPr>
                    <a:xfrm>
                      <a:off x="762480" y="5643000"/>
                      <a:ext cx="70200" cy="81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77" name="AutoShape 915"/>
                    <p:cNvCxnSpPr/>
                    <p:nvPr/>
                  </p:nvCxnSpPr>
                  <p:spPr>
                    <a:xfrm>
                      <a:off x="761400" y="5810040"/>
                      <a:ext cx="11736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78" name="AutoShape 916"/>
                    <p:cNvCxnSpPr/>
                    <p:nvPr/>
                  </p:nvCxnSpPr>
                  <p:spPr>
                    <a:xfrm>
                      <a:off x="747720" y="5703480"/>
                      <a:ext cx="74160" cy="65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79" name="AutoShape 917"/>
                    <p:cNvCxnSpPr/>
                    <p:nvPr/>
                  </p:nvCxnSpPr>
                  <p:spPr>
                    <a:xfrm>
                      <a:off x="770760" y="5771880"/>
                      <a:ext cx="7560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780" name="Group 918"/>
                  <p:cNvGrpSpPr/>
                  <p:nvPr/>
                </p:nvGrpSpPr>
                <p:grpSpPr>
                  <a:xfrm>
                    <a:off x="534240" y="5686560"/>
                    <a:ext cx="107280" cy="281520"/>
                    <a:chOff x="534240" y="5686560"/>
                    <a:chExt cx="107280" cy="281520"/>
                  </a:xfrm>
                </p:grpSpPr>
                <p:cxnSp>
                  <p:nvCxnSpPr>
                    <p:cNvPr id="1781" name="AutoShape 919"/>
                    <p:cNvCxnSpPr/>
                    <p:nvPr/>
                  </p:nvCxnSpPr>
                  <p:spPr>
                    <a:xfrm flipH="1">
                      <a:off x="534240" y="5686560"/>
                      <a:ext cx="14760" cy="105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82" name="AutoShape 920"/>
                    <p:cNvCxnSpPr/>
                    <p:nvPr/>
                  </p:nvCxnSpPr>
                  <p:spPr>
                    <a:xfrm flipH="1">
                      <a:off x="594000" y="5829120"/>
                      <a:ext cx="47880" cy="1393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83" name="AutoShape 921"/>
                    <p:cNvCxnSpPr/>
                    <p:nvPr/>
                  </p:nvCxnSpPr>
                  <p:spPr>
                    <a:xfrm flipH="1">
                      <a:off x="567720" y="5730480"/>
                      <a:ext cx="25920" cy="93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84" name="AutoShape 922"/>
                    <p:cNvCxnSpPr/>
                    <p:nvPr/>
                  </p:nvCxnSpPr>
                  <p:spPr>
                    <a:xfrm flipH="1">
                      <a:off x="581760" y="5801040"/>
                      <a:ext cx="30600" cy="89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785" name="Group 923"/>
                  <p:cNvGrpSpPr/>
                  <p:nvPr/>
                </p:nvGrpSpPr>
                <p:grpSpPr>
                  <a:xfrm>
                    <a:off x="812520" y="5649840"/>
                    <a:ext cx="103320" cy="274320"/>
                    <a:chOff x="812520" y="5649840"/>
                    <a:chExt cx="103320" cy="274320"/>
                  </a:xfrm>
                </p:grpSpPr>
                <p:cxnSp>
                  <p:nvCxnSpPr>
                    <p:cNvPr id="1786" name="AutoShape 924"/>
                    <p:cNvCxnSpPr/>
                    <p:nvPr/>
                  </p:nvCxnSpPr>
                  <p:spPr>
                    <a:xfrm flipH="1">
                      <a:off x="812520" y="5649840"/>
                      <a:ext cx="16560" cy="1033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87" name="AutoShape 925"/>
                    <p:cNvCxnSpPr/>
                    <p:nvPr/>
                  </p:nvCxnSpPr>
                  <p:spPr>
                    <a:xfrm flipH="1">
                      <a:off x="866160" y="5787000"/>
                      <a:ext cx="50040" cy="137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88" name="AutoShape 926"/>
                    <p:cNvCxnSpPr/>
                    <p:nvPr/>
                  </p:nvCxnSpPr>
                  <p:spPr>
                    <a:xfrm flipH="1">
                      <a:off x="844200" y="5691600"/>
                      <a:ext cx="27720" cy="92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89" name="AutoShape 927"/>
                    <p:cNvCxnSpPr/>
                    <p:nvPr/>
                  </p:nvCxnSpPr>
                  <p:spPr>
                    <a:xfrm flipH="1">
                      <a:off x="856440" y="5760000"/>
                      <a:ext cx="32400" cy="88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790" name="Group 928"/>
                  <p:cNvGrpSpPr/>
                  <p:nvPr/>
                </p:nvGrpSpPr>
                <p:grpSpPr>
                  <a:xfrm>
                    <a:off x="694800" y="5671800"/>
                    <a:ext cx="107280" cy="281520"/>
                    <a:chOff x="694800" y="5671800"/>
                    <a:chExt cx="107280" cy="281520"/>
                  </a:xfrm>
                </p:grpSpPr>
                <p:cxnSp>
                  <p:nvCxnSpPr>
                    <p:cNvPr id="1791" name="AutoShape 929"/>
                    <p:cNvCxnSpPr/>
                    <p:nvPr/>
                  </p:nvCxnSpPr>
                  <p:spPr>
                    <a:xfrm flipH="1">
                      <a:off x="694800" y="5671800"/>
                      <a:ext cx="14760" cy="105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92" name="AutoShape 930"/>
                    <p:cNvCxnSpPr/>
                    <p:nvPr/>
                  </p:nvCxnSpPr>
                  <p:spPr>
                    <a:xfrm flipH="1">
                      <a:off x="754560" y="5814360"/>
                      <a:ext cx="47880" cy="1393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93" name="AutoShape 931"/>
                    <p:cNvCxnSpPr/>
                    <p:nvPr/>
                  </p:nvCxnSpPr>
                  <p:spPr>
                    <a:xfrm flipH="1">
                      <a:off x="728280" y="5715720"/>
                      <a:ext cx="25920" cy="93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1794" name="AutoShape 932"/>
                    <p:cNvCxnSpPr/>
                    <p:nvPr/>
                  </p:nvCxnSpPr>
                  <p:spPr>
                    <a:xfrm flipH="1">
                      <a:off x="742320" y="5786280"/>
                      <a:ext cx="30600" cy="89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1795" name="Group 933"/>
                <p:cNvGrpSpPr/>
                <p:nvPr/>
              </p:nvGrpSpPr>
              <p:grpSpPr>
                <a:xfrm>
                  <a:off x="529200" y="5661720"/>
                  <a:ext cx="533520" cy="447120"/>
                  <a:chOff x="529200" y="5661720"/>
                  <a:chExt cx="533520" cy="447120"/>
                </a:xfrm>
              </p:grpSpPr>
              <p:sp>
                <p:nvSpPr>
                  <p:cNvPr id="1796" name="Arc 934"/>
                  <p:cNvSpPr/>
                  <p:nvPr/>
                </p:nvSpPr>
                <p:spPr>
                  <a:xfrm flipH="1" flipV="1" rot="505800">
                    <a:off x="662040" y="5686920"/>
                    <a:ext cx="37548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Arc 935"/>
                  <p:cNvSpPr/>
                  <p:nvPr/>
                </p:nvSpPr>
                <p:spPr>
                  <a:xfrm flipH="1" flipV="1" rot="21354600">
                    <a:off x="542880" y="5686920"/>
                    <a:ext cx="376560" cy="408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Arc 936"/>
                  <p:cNvSpPr/>
                  <p:nvPr/>
                </p:nvSpPr>
                <p:spPr>
                  <a:xfrm flipH="1" flipV="1">
                    <a:off x="821520" y="5686920"/>
                    <a:ext cx="21636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9" name="Group 937"/>
              <p:cNvGrpSpPr/>
              <p:nvPr/>
            </p:nvGrpSpPr>
            <p:grpSpPr>
              <a:xfrm>
                <a:off x="603360" y="6010920"/>
                <a:ext cx="766440" cy="435600"/>
                <a:chOff x="603360" y="6010920"/>
                <a:chExt cx="766440" cy="435600"/>
              </a:xfrm>
            </p:grpSpPr>
            <p:sp>
              <p:nvSpPr>
                <p:cNvPr id="1800" name="Freeform 938"/>
                <p:cNvSpPr/>
                <p:nvPr/>
              </p:nvSpPr>
              <p:spPr>
                <a:xfrm>
                  <a:off x="961560" y="6093720"/>
                  <a:ext cx="207720" cy="295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Freeform 939"/>
                <p:cNvSpPr/>
                <p:nvPr/>
              </p:nvSpPr>
              <p:spPr>
                <a:xfrm>
                  <a:off x="990720" y="6078240"/>
                  <a:ext cx="267120" cy="198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Freeform 940"/>
                <p:cNvSpPr/>
                <p:nvPr/>
              </p:nvSpPr>
              <p:spPr>
                <a:xfrm rot="772200">
                  <a:off x="659880" y="6035400"/>
                  <a:ext cx="258840" cy="320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Freeform 941"/>
                <p:cNvSpPr/>
                <p:nvPr/>
              </p:nvSpPr>
              <p:spPr>
                <a:xfrm>
                  <a:off x="960840" y="6076080"/>
                  <a:ext cx="270000" cy="262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Rectangle 942"/>
                <p:cNvSpPr/>
                <p:nvPr/>
              </p:nvSpPr>
              <p:spPr>
                <a:xfrm>
                  <a:off x="919440" y="6044760"/>
                  <a:ext cx="114120" cy="8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Freeform 943"/>
                <p:cNvSpPr/>
                <p:nvPr/>
              </p:nvSpPr>
              <p:spPr>
                <a:xfrm rot="1519200">
                  <a:off x="961200" y="6138360"/>
                  <a:ext cx="270000" cy="262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06" name="Group 944"/>
                <p:cNvGrpSpPr/>
                <p:nvPr/>
              </p:nvGrpSpPr>
              <p:grpSpPr>
                <a:xfrm>
                  <a:off x="603360" y="6067080"/>
                  <a:ext cx="412920" cy="333720"/>
                  <a:chOff x="603360" y="6067080"/>
                  <a:chExt cx="412920" cy="333720"/>
                </a:xfrm>
              </p:grpSpPr>
              <p:sp>
                <p:nvSpPr>
                  <p:cNvPr id="1807" name="Freeform 945"/>
                  <p:cNvSpPr/>
                  <p:nvPr/>
                </p:nvSpPr>
                <p:spPr>
                  <a:xfrm>
                    <a:off x="622800" y="6075720"/>
                    <a:ext cx="308160" cy="162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8" name="Freeform 946"/>
                  <p:cNvSpPr/>
                  <p:nvPr/>
                </p:nvSpPr>
                <p:spPr>
                  <a:xfrm>
                    <a:off x="785880" y="6078240"/>
                    <a:ext cx="144720" cy="32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Freeform 947"/>
                  <p:cNvSpPr/>
                  <p:nvPr/>
                </p:nvSpPr>
                <p:spPr>
                  <a:xfrm>
                    <a:off x="603360" y="6067080"/>
                    <a:ext cx="327600" cy="108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0" name="Freeform 948"/>
                  <p:cNvSpPr/>
                  <p:nvPr/>
                </p:nvSpPr>
                <p:spPr>
                  <a:xfrm flipH="1" rot="21135600">
                    <a:off x="660240" y="6092640"/>
                    <a:ext cx="270360" cy="263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1" name="Freeform 949"/>
                  <p:cNvSpPr/>
                  <p:nvPr/>
                </p:nvSpPr>
                <p:spPr>
                  <a:xfrm rot="18567600">
                    <a:off x="735120" y="6172200"/>
                    <a:ext cx="284760" cy="124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2" name="Group 950"/>
                <p:cNvGrpSpPr/>
                <p:nvPr/>
              </p:nvGrpSpPr>
              <p:grpSpPr>
                <a:xfrm>
                  <a:off x="956880" y="6044760"/>
                  <a:ext cx="412920" cy="333720"/>
                  <a:chOff x="956880" y="6044760"/>
                  <a:chExt cx="412920" cy="333720"/>
                </a:xfrm>
              </p:grpSpPr>
              <p:sp>
                <p:nvSpPr>
                  <p:cNvPr id="1813" name="Freeform 951"/>
                  <p:cNvSpPr/>
                  <p:nvPr/>
                </p:nvSpPr>
                <p:spPr>
                  <a:xfrm flipH="1">
                    <a:off x="1042200" y="6053400"/>
                    <a:ext cx="307800" cy="162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Freeform 952"/>
                  <p:cNvSpPr/>
                  <p:nvPr/>
                </p:nvSpPr>
                <p:spPr>
                  <a:xfrm flipH="1">
                    <a:off x="1042560" y="6055920"/>
                    <a:ext cx="144720" cy="32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Freeform 953"/>
                  <p:cNvSpPr/>
                  <p:nvPr/>
                </p:nvSpPr>
                <p:spPr>
                  <a:xfrm flipH="1">
                    <a:off x="1042200" y="6044760"/>
                    <a:ext cx="327240" cy="108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Freeform 954"/>
                  <p:cNvSpPr/>
                  <p:nvPr/>
                </p:nvSpPr>
                <p:spPr>
                  <a:xfrm rot="464400">
                    <a:off x="1042920" y="6070320"/>
                    <a:ext cx="270000" cy="263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Freeform 955"/>
                  <p:cNvSpPr/>
                  <p:nvPr/>
                </p:nvSpPr>
                <p:spPr>
                  <a:xfrm flipH="1" rot="3032400">
                    <a:off x="952920" y="6149880"/>
                    <a:ext cx="284760" cy="124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18" name="Arc 956"/>
              <p:cNvSpPr/>
              <p:nvPr/>
            </p:nvSpPr>
            <p:spPr>
              <a:xfrm flipV="1" rot="21094200">
                <a:off x="920520" y="5685840"/>
                <a:ext cx="375840" cy="360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Arc 957"/>
              <p:cNvSpPr/>
              <p:nvPr/>
            </p:nvSpPr>
            <p:spPr>
              <a:xfrm flipV="1">
                <a:off x="920520" y="5685840"/>
                <a:ext cx="216720" cy="360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0" name="Group 958"/>
              <p:cNvGrpSpPr/>
              <p:nvPr/>
            </p:nvGrpSpPr>
            <p:grpSpPr>
              <a:xfrm>
                <a:off x="1193400" y="5685480"/>
                <a:ext cx="173520" cy="224640"/>
                <a:chOff x="1193400" y="5685480"/>
                <a:chExt cx="173520" cy="224640"/>
              </a:xfrm>
            </p:grpSpPr>
            <p:cxnSp>
              <p:nvCxnSpPr>
                <p:cNvPr id="1821" name="AutoShape 959"/>
                <p:cNvCxnSpPr/>
                <p:nvPr/>
              </p:nvCxnSpPr>
              <p:spPr>
                <a:xfrm flipH="1">
                  <a:off x="1280160" y="5685480"/>
                  <a:ext cx="87120" cy="62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22" name="AutoShape 960"/>
                <p:cNvCxnSpPr/>
                <p:nvPr/>
              </p:nvCxnSpPr>
              <p:spPr>
                <a:xfrm flipH="1">
                  <a:off x="1193400" y="5848200"/>
                  <a:ext cx="135720" cy="62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23" name="AutoShape 961"/>
                <p:cNvCxnSpPr/>
                <p:nvPr/>
              </p:nvCxnSpPr>
              <p:spPr>
                <a:xfrm flipH="1">
                  <a:off x="1280160" y="5747400"/>
                  <a:ext cx="87120" cy="46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24" name="AutoShape 962"/>
                <p:cNvCxnSpPr/>
                <p:nvPr/>
              </p:nvCxnSpPr>
              <p:spPr>
                <a:xfrm flipH="1">
                  <a:off x="1242000" y="5808600"/>
                  <a:ext cx="87120" cy="39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25" name="Group 963"/>
              <p:cNvGrpSpPr/>
              <p:nvPr/>
            </p:nvGrpSpPr>
            <p:grpSpPr>
              <a:xfrm>
                <a:off x="1081080" y="5641200"/>
                <a:ext cx="130680" cy="259200"/>
                <a:chOff x="1081080" y="5641200"/>
                <a:chExt cx="130680" cy="259200"/>
              </a:xfrm>
            </p:grpSpPr>
            <p:cxnSp>
              <p:nvCxnSpPr>
                <p:cNvPr id="1826" name="AutoShape 964"/>
                <p:cNvCxnSpPr/>
                <p:nvPr/>
              </p:nvCxnSpPr>
              <p:spPr>
                <a:xfrm flipH="1">
                  <a:off x="1126800" y="5641200"/>
                  <a:ext cx="70560" cy="81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27" name="AutoShape 965"/>
                <p:cNvCxnSpPr/>
                <p:nvPr/>
              </p:nvCxnSpPr>
              <p:spPr>
                <a:xfrm flipH="1">
                  <a:off x="1081080" y="5808600"/>
                  <a:ext cx="117720" cy="92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28" name="AutoShape 966"/>
                <p:cNvCxnSpPr/>
                <p:nvPr/>
              </p:nvCxnSpPr>
              <p:spPr>
                <a:xfrm flipH="1">
                  <a:off x="1137600" y="5701680"/>
                  <a:ext cx="74520" cy="65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29" name="AutoShape 967"/>
                <p:cNvCxnSpPr/>
                <p:nvPr/>
              </p:nvCxnSpPr>
              <p:spPr>
                <a:xfrm flipH="1">
                  <a:off x="1113120" y="5770080"/>
                  <a:ext cx="75600" cy="59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30" name="Group 968"/>
              <p:cNvGrpSpPr/>
              <p:nvPr/>
            </p:nvGrpSpPr>
            <p:grpSpPr>
              <a:xfrm>
                <a:off x="1042920" y="5648760"/>
                <a:ext cx="103320" cy="274680"/>
                <a:chOff x="1042920" y="5648760"/>
                <a:chExt cx="103320" cy="274680"/>
              </a:xfrm>
            </p:grpSpPr>
            <p:cxnSp>
              <p:nvCxnSpPr>
                <p:cNvPr id="1831" name="AutoShape 969"/>
                <p:cNvCxnSpPr/>
                <p:nvPr/>
              </p:nvCxnSpPr>
              <p:spPr>
                <a:xfrm>
                  <a:off x="1130040" y="5648760"/>
                  <a:ext cx="16560" cy="103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32" name="AutoShape 970"/>
                <p:cNvCxnSpPr/>
                <p:nvPr/>
              </p:nvCxnSpPr>
              <p:spPr>
                <a:xfrm>
                  <a:off x="1042920" y="5785920"/>
                  <a:ext cx="50040" cy="13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33" name="AutoShape 971"/>
                <p:cNvCxnSpPr/>
                <p:nvPr/>
              </p:nvCxnSpPr>
              <p:spPr>
                <a:xfrm>
                  <a:off x="1087200" y="5690520"/>
                  <a:ext cx="27720" cy="92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34" name="AutoShape 972"/>
                <p:cNvCxnSpPr/>
                <p:nvPr/>
              </p:nvCxnSpPr>
              <p:spPr>
                <a:xfrm>
                  <a:off x="1070280" y="5758920"/>
                  <a:ext cx="32400" cy="88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35" name="Group 973"/>
              <p:cNvGrpSpPr/>
              <p:nvPr/>
            </p:nvGrpSpPr>
            <p:grpSpPr>
              <a:xfrm>
                <a:off x="1157760" y="5670000"/>
                <a:ext cx="106560" cy="281160"/>
                <a:chOff x="1157760" y="5670000"/>
                <a:chExt cx="106560" cy="281160"/>
              </a:xfrm>
            </p:grpSpPr>
            <p:cxnSp>
              <p:nvCxnSpPr>
                <p:cNvPr id="1836" name="AutoShape 974"/>
                <p:cNvCxnSpPr/>
                <p:nvPr/>
              </p:nvCxnSpPr>
              <p:spPr>
                <a:xfrm>
                  <a:off x="1250280" y="5670000"/>
                  <a:ext cx="14400" cy="105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37" name="AutoShape 975"/>
                <p:cNvCxnSpPr/>
                <p:nvPr/>
              </p:nvCxnSpPr>
              <p:spPr>
                <a:xfrm>
                  <a:off x="1157760" y="5812920"/>
                  <a:ext cx="47160" cy="138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38" name="AutoShape 976"/>
                <p:cNvCxnSpPr/>
                <p:nvPr/>
              </p:nvCxnSpPr>
              <p:spPr>
                <a:xfrm>
                  <a:off x="1205640" y="5713920"/>
                  <a:ext cx="25560" cy="93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39" name="AutoShape 977"/>
                <p:cNvCxnSpPr/>
                <p:nvPr/>
              </p:nvCxnSpPr>
              <p:spPr>
                <a:xfrm>
                  <a:off x="1186920" y="5784480"/>
                  <a:ext cx="30600" cy="88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40" name="Group 3"/>
              <p:cNvGrpSpPr/>
              <p:nvPr/>
            </p:nvGrpSpPr>
            <p:grpSpPr>
              <a:xfrm>
                <a:off x="2260440" y="5706360"/>
                <a:ext cx="379800" cy="573480"/>
                <a:chOff x="2260440" y="5706360"/>
                <a:chExt cx="379800" cy="573480"/>
              </a:xfrm>
            </p:grpSpPr>
            <p:grpSp>
              <p:nvGrpSpPr>
                <p:cNvPr id="1841" name="Group 4"/>
                <p:cNvGrpSpPr/>
                <p:nvPr/>
              </p:nvGrpSpPr>
              <p:grpSpPr>
                <a:xfrm>
                  <a:off x="2410560" y="5803200"/>
                  <a:ext cx="229680" cy="301680"/>
                  <a:chOff x="2410560" y="5803200"/>
                  <a:chExt cx="229680" cy="301680"/>
                </a:xfrm>
              </p:grpSpPr>
              <p:sp>
                <p:nvSpPr>
                  <p:cNvPr id="1842" name="Arc 5"/>
                  <p:cNvSpPr/>
                  <p:nvPr/>
                </p:nvSpPr>
                <p:spPr>
                  <a:xfrm flipV="1" rot="21094200">
                    <a:off x="2429640" y="5813640"/>
                    <a:ext cx="168120" cy="280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843" name="AutoShape 6"/>
                  <p:cNvCxnSpPr/>
                  <p:nvPr/>
                </p:nvCxnSpPr>
                <p:spPr>
                  <a:xfrm flipH="1">
                    <a:off x="2581200" y="5883480"/>
                    <a:ext cx="5940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844" name="AutoShape 7"/>
                  <p:cNvCxnSpPr/>
                  <p:nvPr/>
                </p:nvCxnSpPr>
                <p:spPr>
                  <a:xfrm flipH="1">
                    <a:off x="2572560" y="5862960"/>
                    <a:ext cx="5940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845" name="AutoShape 8"/>
                  <p:cNvCxnSpPr/>
                  <p:nvPr/>
                </p:nvCxnSpPr>
                <p:spPr>
                  <a:xfrm>
                    <a:off x="2496960" y="5862960"/>
                    <a:ext cx="76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846" name="AutoShape 9"/>
                  <p:cNvCxnSpPr/>
                  <p:nvPr/>
                </p:nvCxnSpPr>
                <p:spPr>
                  <a:xfrm>
                    <a:off x="2495160" y="5884200"/>
                    <a:ext cx="7740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1847" name="Group 10"/>
                <p:cNvGrpSpPr/>
                <p:nvPr/>
              </p:nvGrpSpPr>
              <p:grpSpPr>
                <a:xfrm>
                  <a:off x="2420280" y="6042600"/>
                  <a:ext cx="49680" cy="65880"/>
                  <a:chOff x="2420280" y="6042600"/>
                  <a:chExt cx="49680" cy="65880"/>
                </a:xfrm>
              </p:grpSpPr>
              <p:grpSp>
                <p:nvGrpSpPr>
                  <p:cNvPr id="1848" name="Group 11"/>
                  <p:cNvGrpSpPr/>
                  <p:nvPr/>
                </p:nvGrpSpPr>
                <p:grpSpPr>
                  <a:xfrm>
                    <a:off x="2420280" y="6042600"/>
                    <a:ext cx="49320" cy="65880"/>
                    <a:chOff x="2420280" y="6042600"/>
                    <a:chExt cx="49320" cy="65880"/>
                  </a:xfrm>
                </p:grpSpPr>
                <p:sp>
                  <p:nvSpPr>
                    <p:cNvPr id="1849" name="Arc 12"/>
                    <p:cNvSpPr/>
                    <p:nvPr/>
                  </p:nvSpPr>
                  <p:spPr>
                    <a:xfrm>
                      <a:off x="2445480" y="6042600"/>
                      <a:ext cx="24120" cy="65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Arc 13"/>
                    <p:cNvSpPr/>
                    <p:nvPr/>
                  </p:nvSpPr>
                  <p:spPr>
                    <a:xfrm flipH="1">
                      <a:off x="2419920" y="6042600"/>
                      <a:ext cx="24120" cy="65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1" name="Group 14"/>
                  <p:cNvGrpSpPr/>
                  <p:nvPr/>
                </p:nvGrpSpPr>
                <p:grpSpPr>
                  <a:xfrm>
                    <a:off x="2430000" y="6071760"/>
                    <a:ext cx="26280" cy="34920"/>
                    <a:chOff x="2430000" y="6071760"/>
                    <a:chExt cx="26280" cy="34920"/>
                  </a:xfrm>
                </p:grpSpPr>
                <p:sp>
                  <p:nvSpPr>
                    <p:cNvPr id="1852" name="Arc 15"/>
                    <p:cNvSpPr/>
                    <p:nvPr/>
                  </p:nvSpPr>
                  <p:spPr>
                    <a:xfrm>
                      <a:off x="2443320" y="6071760"/>
                      <a:ext cx="12960" cy="349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Arc 16"/>
                    <p:cNvSpPr/>
                    <p:nvPr/>
                  </p:nvSpPr>
                  <p:spPr>
                    <a:xfrm flipH="1">
                      <a:off x="2430000" y="6071760"/>
                      <a:ext cx="12960" cy="349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854" name="AutoShape 17"/>
                  <p:cNvCxnSpPr/>
                  <p:nvPr/>
                </p:nvCxnSpPr>
                <p:spPr>
                  <a:xfrm>
                    <a:off x="2420640" y="6107040"/>
                    <a:ext cx="496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1855" name="Freeform 18"/>
                <p:cNvSpPr/>
                <p:nvPr/>
              </p:nvSpPr>
              <p:spPr>
                <a:xfrm>
                  <a:off x="2454120" y="6121440"/>
                  <a:ext cx="113760" cy="151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Freeform 19"/>
                <p:cNvSpPr/>
                <p:nvPr/>
              </p:nvSpPr>
              <p:spPr>
                <a:xfrm>
                  <a:off x="2268360" y="6112080"/>
                  <a:ext cx="168840" cy="83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Freeform 20"/>
                <p:cNvSpPr/>
                <p:nvPr/>
              </p:nvSpPr>
              <p:spPr>
                <a:xfrm>
                  <a:off x="2357640" y="6113880"/>
                  <a:ext cx="79560" cy="16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Freeform 21"/>
                <p:cNvSpPr/>
                <p:nvPr/>
              </p:nvSpPr>
              <p:spPr>
                <a:xfrm>
                  <a:off x="2469600" y="6113520"/>
                  <a:ext cx="146520" cy="102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Rectangle 22"/>
                <p:cNvSpPr/>
                <p:nvPr/>
              </p:nvSpPr>
              <p:spPr>
                <a:xfrm>
                  <a:off x="2442600" y="6105600"/>
                  <a:ext cx="16920" cy="1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0" name="Group 23"/>
                <p:cNvGrpSpPr/>
                <p:nvPr/>
              </p:nvGrpSpPr>
              <p:grpSpPr>
                <a:xfrm>
                  <a:off x="2372400" y="5706360"/>
                  <a:ext cx="194760" cy="412920"/>
                  <a:chOff x="2372400" y="5706360"/>
                  <a:chExt cx="194760" cy="412920"/>
                </a:xfrm>
              </p:grpSpPr>
              <p:sp>
                <p:nvSpPr>
                  <p:cNvPr id="1861" name="Arc 24"/>
                  <p:cNvSpPr/>
                  <p:nvPr/>
                </p:nvSpPr>
                <p:spPr>
                  <a:xfrm flipV="1" rot="21094200">
                    <a:off x="2400480" y="5713560"/>
                    <a:ext cx="132480" cy="397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862" name="AutoShape 25"/>
                  <p:cNvCxnSpPr/>
                  <p:nvPr/>
                </p:nvCxnSpPr>
                <p:spPr>
                  <a:xfrm flipH="1">
                    <a:off x="2520360" y="5812920"/>
                    <a:ext cx="47160" cy="29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863" name="AutoShape 26"/>
                  <p:cNvCxnSpPr/>
                  <p:nvPr/>
                </p:nvCxnSpPr>
                <p:spPr>
                  <a:xfrm flipH="1">
                    <a:off x="2513880" y="5783760"/>
                    <a:ext cx="46800" cy="29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864" name="AutoShape 27"/>
                  <p:cNvCxnSpPr/>
                  <p:nvPr/>
                </p:nvCxnSpPr>
                <p:spPr>
                  <a:xfrm>
                    <a:off x="2454120" y="5783760"/>
                    <a:ext cx="60480" cy="29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865" name="AutoShape 28"/>
                  <p:cNvCxnSpPr/>
                  <p:nvPr/>
                </p:nvCxnSpPr>
                <p:spPr>
                  <a:xfrm>
                    <a:off x="2452680" y="5814360"/>
                    <a:ext cx="61200" cy="29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1866" name="Group 29"/>
                <p:cNvGrpSpPr/>
                <p:nvPr/>
              </p:nvGrpSpPr>
              <p:grpSpPr>
                <a:xfrm>
                  <a:off x="2260440" y="5802120"/>
                  <a:ext cx="229680" cy="301680"/>
                  <a:chOff x="2260440" y="5802120"/>
                  <a:chExt cx="229680" cy="301680"/>
                </a:xfrm>
              </p:grpSpPr>
              <p:sp>
                <p:nvSpPr>
                  <p:cNvPr id="1867" name="Arc 30"/>
                  <p:cNvSpPr/>
                  <p:nvPr/>
                </p:nvSpPr>
                <p:spPr>
                  <a:xfrm flipH="1" flipV="1" rot="505800">
                    <a:off x="2301840" y="5812560"/>
                    <a:ext cx="168120" cy="280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868" name="AutoShape 31"/>
                  <p:cNvCxnSpPr/>
                  <p:nvPr/>
                </p:nvCxnSpPr>
                <p:spPr>
                  <a:xfrm>
                    <a:off x="2260440" y="5882400"/>
                    <a:ext cx="5940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869" name="AutoShape 32"/>
                  <p:cNvCxnSpPr/>
                  <p:nvPr/>
                </p:nvCxnSpPr>
                <p:spPr>
                  <a:xfrm>
                    <a:off x="2269080" y="5861880"/>
                    <a:ext cx="5940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870" name="AutoShape 33"/>
                  <p:cNvCxnSpPr/>
                  <p:nvPr/>
                </p:nvCxnSpPr>
                <p:spPr>
                  <a:xfrm flipH="1">
                    <a:off x="2327400" y="5861880"/>
                    <a:ext cx="76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871" name="AutoShape 34"/>
                  <p:cNvCxnSpPr/>
                  <p:nvPr/>
                </p:nvCxnSpPr>
                <p:spPr>
                  <a:xfrm flipH="1">
                    <a:off x="2328480" y="5883120"/>
                    <a:ext cx="7740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  <p:sp>
          <p:nvSpPr>
            <p:cNvPr id="1872" name="TextBox 1122"/>
            <p:cNvSpPr/>
            <p:nvPr/>
          </p:nvSpPr>
          <p:spPr>
            <a:xfrm>
              <a:off x="761760" y="632520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Группа 1128"/>
          <p:cNvGrpSpPr/>
          <p:nvPr/>
        </p:nvGrpSpPr>
        <p:grpSpPr>
          <a:xfrm>
            <a:off x="1752480" y="3505320"/>
            <a:ext cx="2804760" cy="1298160"/>
            <a:chOff x="1752480" y="3505320"/>
            <a:chExt cx="2804760" cy="1298160"/>
          </a:xfrm>
        </p:grpSpPr>
        <p:grpSp>
          <p:nvGrpSpPr>
            <p:cNvPr id="1874" name="Group 417"/>
            <p:cNvGrpSpPr/>
            <p:nvPr/>
          </p:nvGrpSpPr>
          <p:grpSpPr>
            <a:xfrm>
              <a:off x="1752480" y="3505320"/>
              <a:ext cx="2804760" cy="857160"/>
              <a:chOff x="1752480" y="3505320"/>
              <a:chExt cx="2804760" cy="857160"/>
            </a:xfrm>
          </p:grpSpPr>
          <p:sp>
            <p:nvSpPr>
              <p:cNvPr id="1875" name="Arc 418"/>
              <p:cNvSpPr/>
              <p:nvPr/>
            </p:nvSpPr>
            <p:spPr>
              <a:xfrm flipV="1">
                <a:off x="2352960" y="3656520"/>
                <a:ext cx="440280" cy="353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6" name="Group 419"/>
              <p:cNvGrpSpPr/>
              <p:nvPr/>
            </p:nvGrpSpPr>
            <p:grpSpPr>
              <a:xfrm>
                <a:off x="3479760" y="3974760"/>
                <a:ext cx="138600" cy="169560"/>
                <a:chOff x="3479760" y="3974760"/>
                <a:chExt cx="138600" cy="169560"/>
              </a:xfrm>
            </p:grpSpPr>
            <p:cxnSp>
              <p:nvCxnSpPr>
                <p:cNvPr id="1877" name="AutoShape 420"/>
                <p:cNvCxnSpPr/>
                <p:nvPr/>
              </p:nvCxnSpPr>
              <p:spPr>
                <a:xfrm>
                  <a:off x="3497040" y="3974760"/>
                  <a:ext cx="121680" cy="1699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78" name="AutoShape 421"/>
                <p:cNvCxnSpPr/>
                <p:nvPr/>
              </p:nvCxnSpPr>
              <p:spPr>
                <a:xfrm flipH="1">
                  <a:off x="3479760" y="3974760"/>
                  <a:ext cx="138960" cy="1699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79" name="Group 422"/>
              <p:cNvGrpSpPr/>
              <p:nvPr/>
            </p:nvGrpSpPr>
            <p:grpSpPr>
              <a:xfrm>
                <a:off x="2670480" y="3888720"/>
                <a:ext cx="138600" cy="168480"/>
                <a:chOff x="2670480" y="3888720"/>
                <a:chExt cx="138600" cy="168480"/>
              </a:xfrm>
            </p:grpSpPr>
            <p:cxnSp>
              <p:nvCxnSpPr>
                <p:cNvPr id="1880" name="AutoShape 423"/>
                <p:cNvCxnSpPr/>
                <p:nvPr/>
              </p:nvCxnSpPr>
              <p:spPr>
                <a:xfrm>
                  <a:off x="2687760" y="3888720"/>
                  <a:ext cx="121680" cy="16884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81" name="AutoShape 424"/>
                <p:cNvCxnSpPr/>
                <p:nvPr/>
              </p:nvCxnSpPr>
              <p:spPr>
                <a:xfrm flipH="1">
                  <a:off x="2670480" y="3888720"/>
                  <a:ext cx="138960" cy="16884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82" name="Group 425"/>
              <p:cNvGrpSpPr/>
              <p:nvPr/>
            </p:nvGrpSpPr>
            <p:grpSpPr>
              <a:xfrm>
                <a:off x="3118680" y="3958920"/>
                <a:ext cx="138600" cy="169560"/>
                <a:chOff x="3118680" y="3958920"/>
                <a:chExt cx="138600" cy="169560"/>
              </a:xfrm>
            </p:grpSpPr>
            <p:cxnSp>
              <p:nvCxnSpPr>
                <p:cNvPr id="1883" name="AutoShape 426"/>
                <p:cNvCxnSpPr/>
                <p:nvPr/>
              </p:nvCxnSpPr>
              <p:spPr>
                <a:xfrm>
                  <a:off x="3135960" y="3958920"/>
                  <a:ext cx="121680" cy="1699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84" name="AutoShape 427"/>
                <p:cNvCxnSpPr/>
                <p:nvPr/>
              </p:nvCxnSpPr>
              <p:spPr>
                <a:xfrm flipH="1">
                  <a:off x="3118680" y="3958920"/>
                  <a:ext cx="138960" cy="1699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85" name="Group 428"/>
              <p:cNvGrpSpPr/>
              <p:nvPr/>
            </p:nvGrpSpPr>
            <p:grpSpPr>
              <a:xfrm>
                <a:off x="3930480" y="3972960"/>
                <a:ext cx="137520" cy="168120"/>
                <a:chOff x="3930480" y="3972960"/>
                <a:chExt cx="137520" cy="168120"/>
              </a:xfrm>
            </p:grpSpPr>
            <p:cxnSp>
              <p:nvCxnSpPr>
                <p:cNvPr id="1886" name="AutoShape 429"/>
                <p:cNvCxnSpPr/>
                <p:nvPr/>
              </p:nvCxnSpPr>
              <p:spPr>
                <a:xfrm>
                  <a:off x="3947040" y="3972960"/>
                  <a:ext cx="121320" cy="1684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887" name="AutoShape 430"/>
                <p:cNvCxnSpPr/>
                <p:nvPr/>
              </p:nvCxnSpPr>
              <p:spPr>
                <a:xfrm flipH="1">
                  <a:off x="3930480" y="3972960"/>
                  <a:ext cx="137880" cy="1684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888" name="Arc 431"/>
              <p:cNvSpPr/>
              <p:nvPr/>
            </p:nvSpPr>
            <p:spPr>
              <a:xfrm flipV="1">
                <a:off x="1793520" y="3620880"/>
                <a:ext cx="440280" cy="387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Arc 432"/>
              <p:cNvSpPr/>
              <p:nvPr/>
            </p:nvSpPr>
            <p:spPr>
              <a:xfrm flipV="1">
                <a:off x="1752480" y="3746520"/>
                <a:ext cx="489240" cy="299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0" name="Group 433"/>
              <p:cNvGrpSpPr/>
              <p:nvPr/>
            </p:nvGrpSpPr>
            <p:grpSpPr>
              <a:xfrm>
                <a:off x="2922120" y="3924000"/>
                <a:ext cx="268560" cy="263520"/>
                <a:chOff x="2922120" y="3924000"/>
                <a:chExt cx="268560" cy="263520"/>
              </a:xfrm>
            </p:grpSpPr>
            <p:sp>
              <p:nvSpPr>
                <p:cNvPr id="1891" name="Arc 434"/>
                <p:cNvSpPr/>
                <p:nvPr/>
              </p:nvSpPr>
              <p:spPr>
                <a:xfrm flipV="1" rot="2984400">
                  <a:off x="2973600" y="3949560"/>
                  <a:ext cx="165600" cy="212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Line 435"/>
                <p:cNvSpPr/>
                <p:nvPr/>
              </p:nvSpPr>
              <p:spPr>
                <a:xfrm>
                  <a:off x="3115080" y="4111560"/>
                  <a:ext cx="403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3" name="Freeform 436"/>
              <p:cNvSpPr/>
              <p:nvPr/>
            </p:nvSpPr>
            <p:spPr>
              <a:xfrm>
                <a:off x="2299320" y="3505320"/>
                <a:ext cx="2140200" cy="602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AutoShape 437"/>
              <p:cNvSpPr/>
              <p:nvPr/>
            </p:nvSpPr>
            <p:spPr>
              <a:xfrm rot="5400000">
                <a:off x="4428360" y="3945600"/>
                <a:ext cx="91080" cy="166680"/>
              </a:xfrm>
              <a:prstGeom prst="triangle">
                <a:avLst>
                  <a:gd name="adj" fmla="val 38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5" name="Group 438"/>
              <p:cNvGrpSpPr/>
              <p:nvPr/>
            </p:nvGrpSpPr>
            <p:grpSpPr>
              <a:xfrm>
                <a:off x="3214440" y="3808080"/>
                <a:ext cx="268560" cy="262800"/>
                <a:chOff x="3214440" y="3808080"/>
                <a:chExt cx="268560" cy="262800"/>
              </a:xfrm>
            </p:grpSpPr>
            <p:sp>
              <p:nvSpPr>
                <p:cNvPr id="1896" name="Arc 439"/>
                <p:cNvSpPr/>
                <p:nvPr/>
              </p:nvSpPr>
              <p:spPr>
                <a:xfrm rot="13800000">
                  <a:off x="3265920" y="3833280"/>
                  <a:ext cx="165240" cy="212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Line 440"/>
                <p:cNvSpPr/>
                <p:nvPr/>
              </p:nvSpPr>
              <p:spPr>
                <a:xfrm flipH="1" flipV="1">
                  <a:off x="3263040" y="3823920"/>
                  <a:ext cx="4068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8" name="Group 441"/>
              <p:cNvGrpSpPr/>
              <p:nvPr/>
            </p:nvGrpSpPr>
            <p:grpSpPr>
              <a:xfrm>
                <a:off x="3659400" y="4087800"/>
                <a:ext cx="141480" cy="274680"/>
                <a:chOff x="3659400" y="4087800"/>
                <a:chExt cx="141480" cy="274680"/>
              </a:xfrm>
            </p:grpSpPr>
            <p:sp>
              <p:nvSpPr>
                <p:cNvPr id="1899" name="Freeform 442"/>
                <p:cNvSpPr/>
                <p:nvPr/>
              </p:nvSpPr>
              <p:spPr>
                <a:xfrm>
                  <a:off x="3722760" y="4097160"/>
                  <a:ext cx="40320" cy="207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Freeform 443"/>
                <p:cNvSpPr/>
                <p:nvPr/>
              </p:nvSpPr>
              <p:spPr>
                <a:xfrm rot="21000000">
                  <a:off x="3742200" y="4088880"/>
                  <a:ext cx="37440" cy="248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44"/>
                <p:cNvSpPr/>
                <p:nvPr/>
              </p:nvSpPr>
              <p:spPr>
                <a:xfrm flipH="1" rot="600000">
                  <a:off x="3680640" y="4112640"/>
                  <a:ext cx="37440" cy="248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45"/>
              <p:cNvGrpSpPr/>
              <p:nvPr/>
            </p:nvGrpSpPr>
            <p:grpSpPr>
              <a:xfrm>
                <a:off x="3258000" y="4042800"/>
                <a:ext cx="142560" cy="274680"/>
                <a:chOff x="3258000" y="4042800"/>
                <a:chExt cx="142560" cy="274680"/>
              </a:xfrm>
            </p:grpSpPr>
            <p:sp>
              <p:nvSpPr>
                <p:cNvPr id="1903" name="Freeform 446"/>
                <p:cNvSpPr/>
                <p:nvPr/>
              </p:nvSpPr>
              <p:spPr>
                <a:xfrm>
                  <a:off x="3321720" y="4052160"/>
                  <a:ext cx="40680" cy="207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447"/>
                <p:cNvSpPr/>
                <p:nvPr/>
              </p:nvSpPr>
              <p:spPr>
                <a:xfrm rot="21000000">
                  <a:off x="3341520" y="4043880"/>
                  <a:ext cx="37800" cy="248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448"/>
                <p:cNvSpPr/>
                <p:nvPr/>
              </p:nvSpPr>
              <p:spPr>
                <a:xfrm flipH="1" rot="600000">
                  <a:off x="3278880" y="4067640"/>
                  <a:ext cx="37800" cy="248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6" name="Group 449"/>
              <p:cNvGrpSpPr/>
              <p:nvPr/>
            </p:nvGrpSpPr>
            <p:grpSpPr>
              <a:xfrm>
                <a:off x="2849400" y="4036680"/>
                <a:ext cx="141480" cy="274680"/>
                <a:chOff x="2849400" y="4036680"/>
                <a:chExt cx="141480" cy="274680"/>
              </a:xfrm>
            </p:grpSpPr>
            <p:sp>
              <p:nvSpPr>
                <p:cNvPr id="1907" name="Freeform 450"/>
                <p:cNvSpPr/>
                <p:nvPr/>
              </p:nvSpPr>
              <p:spPr>
                <a:xfrm>
                  <a:off x="2913120" y="4046040"/>
                  <a:ext cx="39960" cy="207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451"/>
                <p:cNvSpPr/>
                <p:nvPr/>
              </p:nvSpPr>
              <p:spPr>
                <a:xfrm rot="21000000">
                  <a:off x="2932560" y="4037760"/>
                  <a:ext cx="37080" cy="248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452"/>
                <p:cNvSpPr/>
                <p:nvPr/>
              </p:nvSpPr>
              <p:spPr>
                <a:xfrm flipH="1" rot="600000">
                  <a:off x="2870640" y="4061520"/>
                  <a:ext cx="37080" cy="248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0" name="Rectangle 453"/>
              <p:cNvSpPr/>
              <p:nvPr/>
            </p:nvSpPr>
            <p:spPr>
              <a:xfrm>
                <a:off x="2207520" y="3990240"/>
                <a:ext cx="164520" cy="7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1" name="Group 454"/>
              <p:cNvGrpSpPr/>
              <p:nvPr/>
            </p:nvGrpSpPr>
            <p:grpSpPr>
              <a:xfrm>
                <a:off x="1812600" y="4036680"/>
                <a:ext cx="408960" cy="286200"/>
                <a:chOff x="1812600" y="4036680"/>
                <a:chExt cx="408960" cy="286200"/>
              </a:xfrm>
            </p:grpSpPr>
            <p:sp>
              <p:nvSpPr>
                <p:cNvPr id="1912" name="Freeform 455"/>
                <p:cNvSpPr/>
                <p:nvPr/>
              </p:nvSpPr>
              <p:spPr>
                <a:xfrm>
                  <a:off x="1872720" y="4047840"/>
                  <a:ext cx="326520" cy="121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Freeform 456"/>
                <p:cNvSpPr/>
                <p:nvPr/>
              </p:nvSpPr>
              <p:spPr>
                <a:xfrm>
                  <a:off x="2098800" y="4062960"/>
                  <a:ext cx="122760" cy="228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Freeform 457"/>
                <p:cNvSpPr/>
                <p:nvPr/>
              </p:nvSpPr>
              <p:spPr>
                <a:xfrm>
                  <a:off x="1929600" y="4036680"/>
                  <a:ext cx="274320" cy="240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Freeform 458"/>
                <p:cNvSpPr/>
                <p:nvPr/>
              </p:nvSpPr>
              <p:spPr>
                <a:xfrm>
                  <a:off x="2007360" y="4071240"/>
                  <a:ext cx="169200" cy="219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Freeform 459"/>
                <p:cNvSpPr/>
                <p:nvPr/>
              </p:nvSpPr>
              <p:spPr>
                <a:xfrm>
                  <a:off x="1812600" y="4039920"/>
                  <a:ext cx="347400" cy="81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460"/>
                <p:cNvSpPr/>
                <p:nvPr/>
              </p:nvSpPr>
              <p:spPr>
                <a:xfrm>
                  <a:off x="2042640" y="4062960"/>
                  <a:ext cx="133920" cy="259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8" name="Group 461"/>
              <p:cNvGrpSpPr/>
              <p:nvPr/>
            </p:nvGrpSpPr>
            <p:grpSpPr>
              <a:xfrm>
                <a:off x="2363760" y="3990960"/>
                <a:ext cx="355680" cy="363600"/>
                <a:chOff x="2363760" y="3990960"/>
                <a:chExt cx="355680" cy="363600"/>
              </a:xfrm>
            </p:grpSpPr>
            <p:sp>
              <p:nvSpPr>
                <p:cNvPr id="1919" name="Freeform 462"/>
                <p:cNvSpPr/>
                <p:nvPr/>
              </p:nvSpPr>
              <p:spPr>
                <a:xfrm>
                  <a:off x="2376720" y="4068360"/>
                  <a:ext cx="211680" cy="286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463"/>
                <p:cNvSpPr/>
                <p:nvPr/>
              </p:nvSpPr>
              <p:spPr>
                <a:xfrm rot="5056800">
                  <a:off x="2358720" y="4018680"/>
                  <a:ext cx="261720" cy="227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Freeform 464"/>
                <p:cNvSpPr/>
                <p:nvPr/>
              </p:nvSpPr>
              <p:spPr>
                <a:xfrm>
                  <a:off x="2402280" y="4063680"/>
                  <a:ext cx="273240" cy="185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Freeform 465"/>
                <p:cNvSpPr/>
                <p:nvPr/>
              </p:nvSpPr>
              <p:spPr>
                <a:xfrm>
                  <a:off x="2401560" y="4017600"/>
                  <a:ext cx="317880" cy="193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Freeform 466"/>
                <p:cNvSpPr/>
                <p:nvPr/>
              </p:nvSpPr>
              <p:spPr>
                <a:xfrm>
                  <a:off x="2380680" y="4057920"/>
                  <a:ext cx="89280" cy="286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4" name="Group 467"/>
              <p:cNvGrpSpPr/>
              <p:nvPr/>
            </p:nvGrpSpPr>
            <p:grpSpPr>
              <a:xfrm>
                <a:off x="2805480" y="3695040"/>
                <a:ext cx="334800" cy="379800"/>
                <a:chOff x="2805480" y="3695040"/>
                <a:chExt cx="334800" cy="379800"/>
              </a:xfrm>
            </p:grpSpPr>
            <p:grpSp>
              <p:nvGrpSpPr>
                <p:cNvPr id="1925" name="Group 468"/>
                <p:cNvGrpSpPr/>
                <p:nvPr/>
              </p:nvGrpSpPr>
              <p:grpSpPr>
                <a:xfrm>
                  <a:off x="2944440" y="3791520"/>
                  <a:ext cx="195840" cy="266760"/>
                  <a:chOff x="2944440" y="3791520"/>
                  <a:chExt cx="195840" cy="266760"/>
                </a:xfrm>
              </p:grpSpPr>
              <p:sp>
                <p:nvSpPr>
                  <p:cNvPr id="1926" name="Arc 469"/>
                  <p:cNvSpPr/>
                  <p:nvPr/>
                </p:nvSpPr>
                <p:spPr>
                  <a:xfrm flipV="1" rot="21470400">
                    <a:off x="2949120" y="3793680"/>
                    <a:ext cx="146880" cy="261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927" name="AutoShape 470"/>
                  <p:cNvCxnSpPr/>
                  <p:nvPr/>
                </p:nvCxnSpPr>
                <p:spPr>
                  <a:xfrm flipH="1">
                    <a:off x="3086640" y="3871800"/>
                    <a:ext cx="54000" cy="13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28" name="AutoShape 471"/>
                  <p:cNvCxnSpPr/>
                  <p:nvPr/>
                </p:nvCxnSpPr>
                <p:spPr>
                  <a:xfrm flipH="1">
                    <a:off x="3081600" y="3851640"/>
                    <a:ext cx="53640" cy="14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29" name="AutoShape 472"/>
                  <p:cNvCxnSpPr/>
                  <p:nvPr/>
                </p:nvCxnSpPr>
                <p:spPr>
                  <a:xfrm>
                    <a:off x="3017880" y="3838680"/>
                    <a:ext cx="64440" cy="27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30" name="AutoShape 473"/>
                  <p:cNvCxnSpPr/>
                  <p:nvPr/>
                </p:nvCxnSpPr>
                <p:spPr>
                  <a:xfrm>
                    <a:off x="3014280" y="3858480"/>
                    <a:ext cx="65160" cy="27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1931" name="Group 474"/>
                <p:cNvGrpSpPr/>
                <p:nvPr/>
              </p:nvGrpSpPr>
              <p:grpSpPr>
                <a:xfrm>
                  <a:off x="2924640" y="3998520"/>
                  <a:ext cx="49320" cy="65520"/>
                  <a:chOff x="2924640" y="3998520"/>
                  <a:chExt cx="49320" cy="65520"/>
                </a:xfrm>
              </p:grpSpPr>
              <p:grpSp>
                <p:nvGrpSpPr>
                  <p:cNvPr id="1932" name="Group 475"/>
                  <p:cNvGrpSpPr/>
                  <p:nvPr/>
                </p:nvGrpSpPr>
                <p:grpSpPr>
                  <a:xfrm>
                    <a:off x="2924640" y="3998520"/>
                    <a:ext cx="49320" cy="65520"/>
                    <a:chOff x="2924640" y="3998520"/>
                    <a:chExt cx="49320" cy="65520"/>
                  </a:xfrm>
                </p:grpSpPr>
                <p:sp>
                  <p:nvSpPr>
                    <p:cNvPr id="1933" name="Arc 476"/>
                    <p:cNvSpPr/>
                    <p:nvPr/>
                  </p:nvSpPr>
                  <p:spPr>
                    <a:xfrm rot="376200">
                      <a:off x="2949480" y="4001400"/>
                      <a:ext cx="20880" cy="615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Arc 477"/>
                    <p:cNvSpPr/>
                    <p:nvPr/>
                  </p:nvSpPr>
                  <p:spPr>
                    <a:xfrm flipH="1" rot="375600">
                      <a:off x="2927520" y="3999240"/>
                      <a:ext cx="20880" cy="615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5" name="Group 478"/>
                  <p:cNvGrpSpPr/>
                  <p:nvPr/>
                </p:nvGrpSpPr>
                <p:grpSpPr>
                  <a:xfrm>
                    <a:off x="2934000" y="4026600"/>
                    <a:ext cx="26640" cy="34920"/>
                    <a:chOff x="2934000" y="4026600"/>
                    <a:chExt cx="26640" cy="34920"/>
                  </a:xfrm>
                </p:grpSpPr>
                <p:sp>
                  <p:nvSpPr>
                    <p:cNvPr id="1936" name="Arc 479"/>
                    <p:cNvSpPr/>
                    <p:nvPr/>
                  </p:nvSpPr>
                  <p:spPr>
                    <a:xfrm rot="376200">
                      <a:off x="2947320" y="4028400"/>
                      <a:ext cx="11160" cy="3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Arc 480"/>
                    <p:cNvSpPr/>
                    <p:nvPr/>
                  </p:nvSpPr>
                  <p:spPr>
                    <a:xfrm flipH="1" rot="375600">
                      <a:off x="2935080" y="4026960"/>
                      <a:ext cx="11160" cy="3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938" name="AutoShape 481"/>
                  <p:cNvCxnSpPr/>
                  <p:nvPr/>
                </p:nvCxnSpPr>
                <p:spPr>
                  <a:xfrm>
                    <a:off x="2924640" y="4058280"/>
                    <a:ext cx="4320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1939" name="Rectangle 482"/>
                <p:cNvSpPr/>
                <p:nvPr/>
              </p:nvSpPr>
              <p:spPr>
                <a:xfrm rot="376200">
                  <a:off x="2943000" y="4060080"/>
                  <a:ext cx="15120" cy="14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0" name="Group 483"/>
                <p:cNvGrpSpPr/>
                <p:nvPr/>
              </p:nvGrpSpPr>
              <p:grpSpPr>
                <a:xfrm>
                  <a:off x="2920320" y="3695040"/>
                  <a:ext cx="162360" cy="375480"/>
                  <a:chOff x="2920320" y="3695040"/>
                  <a:chExt cx="162360" cy="375480"/>
                </a:xfrm>
              </p:grpSpPr>
              <p:sp>
                <p:nvSpPr>
                  <p:cNvPr id="1941" name="Arc 484"/>
                  <p:cNvSpPr/>
                  <p:nvPr/>
                </p:nvSpPr>
                <p:spPr>
                  <a:xfrm flipV="1" rot="21470400">
                    <a:off x="2927160" y="3696480"/>
                    <a:ext cx="115920" cy="3715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942" name="AutoShape 485"/>
                  <p:cNvCxnSpPr/>
                  <p:nvPr/>
                </p:nvCxnSpPr>
                <p:spPr>
                  <a:xfrm flipH="1">
                    <a:off x="3038760" y="3799080"/>
                    <a:ext cx="44280" cy="23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43" name="AutoShape 486"/>
                  <p:cNvCxnSpPr/>
                  <p:nvPr/>
                </p:nvCxnSpPr>
                <p:spPr>
                  <a:xfrm flipH="1">
                    <a:off x="3036600" y="3771000"/>
                    <a:ext cx="43200" cy="23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44" name="AutoShape 487"/>
                  <p:cNvCxnSpPr/>
                  <p:nvPr/>
                </p:nvCxnSpPr>
                <p:spPr>
                  <a:xfrm>
                    <a:off x="2986920" y="3760920"/>
                    <a:ext cx="49680" cy="33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45" name="AutoShape 488"/>
                  <p:cNvCxnSpPr/>
                  <p:nvPr/>
                </p:nvCxnSpPr>
                <p:spPr>
                  <a:xfrm>
                    <a:off x="2982600" y="3789000"/>
                    <a:ext cx="50400" cy="33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1946" name="Arc 489"/>
                <p:cNvSpPr/>
                <p:nvPr/>
              </p:nvSpPr>
              <p:spPr>
                <a:xfrm flipH="1" flipV="1" rot="882600">
                  <a:off x="2836080" y="3779640"/>
                  <a:ext cx="147240" cy="261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947" name="AutoShape 490"/>
                <p:cNvCxnSpPr/>
                <p:nvPr/>
              </p:nvCxnSpPr>
              <p:spPr>
                <a:xfrm>
                  <a:off x="2806920" y="3834000"/>
                  <a:ext cx="49320" cy="25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48" name="AutoShape 491"/>
                <p:cNvCxnSpPr/>
                <p:nvPr/>
              </p:nvCxnSpPr>
              <p:spPr>
                <a:xfrm>
                  <a:off x="2817000" y="3815640"/>
                  <a:ext cx="49320" cy="25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49" name="AutoShape 492"/>
                <p:cNvCxnSpPr/>
                <p:nvPr/>
              </p:nvCxnSpPr>
              <p:spPr>
                <a:xfrm flipH="1">
                  <a:off x="2865240" y="3828600"/>
                  <a:ext cx="68760" cy="12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50" name="AutoShape 493"/>
                <p:cNvCxnSpPr/>
                <p:nvPr/>
              </p:nvCxnSpPr>
              <p:spPr>
                <a:xfrm flipH="1">
                  <a:off x="2864160" y="3848400"/>
                  <a:ext cx="69480" cy="12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51" name="AutoShape 494"/>
                <p:cNvCxnSpPr/>
                <p:nvPr/>
              </p:nvCxnSpPr>
              <p:spPr>
                <a:xfrm flipH="1">
                  <a:off x="2851920" y="3867840"/>
                  <a:ext cx="69120" cy="12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52" name="AutoShape 495"/>
                <p:cNvCxnSpPr/>
                <p:nvPr/>
              </p:nvCxnSpPr>
              <p:spPr>
                <a:xfrm flipH="1">
                  <a:off x="3071160" y="3891960"/>
                  <a:ext cx="69480" cy="12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53" name="AutoShape 496"/>
                <p:cNvCxnSpPr/>
                <p:nvPr/>
              </p:nvCxnSpPr>
              <p:spPr>
                <a:xfrm flipH="1">
                  <a:off x="3027600" y="3822840"/>
                  <a:ext cx="52560" cy="18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54" name="AutoShape 497"/>
                <p:cNvCxnSpPr/>
                <p:nvPr/>
              </p:nvCxnSpPr>
              <p:spPr>
                <a:xfrm>
                  <a:off x="2807280" y="3852720"/>
                  <a:ext cx="65520" cy="27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55" name="AutoShape 498"/>
                <p:cNvCxnSpPr/>
                <p:nvPr/>
              </p:nvCxnSpPr>
              <p:spPr>
                <a:xfrm>
                  <a:off x="2979720" y="3816000"/>
                  <a:ext cx="65520" cy="27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56" name="AutoShape 499"/>
                <p:cNvCxnSpPr/>
                <p:nvPr/>
              </p:nvCxnSpPr>
              <p:spPr>
                <a:xfrm>
                  <a:off x="3017520" y="3875760"/>
                  <a:ext cx="65520" cy="27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957" name="Arc 500"/>
              <p:cNvSpPr/>
              <p:nvPr/>
            </p:nvSpPr>
            <p:spPr>
              <a:xfrm flipV="1" rot="3267000">
                <a:off x="3783960" y="3986640"/>
                <a:ext cx="165240" cy="212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Line 501"/>
              <p:cNvSpPr/>
              <p:nvPr/>
            </p:nvSpPr>
            <p:spPr>
              <a:xfrm>
                <a:off x="3925440" y="4154040"/>
                <a:ext cx="36000" cy="5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9" name="Group 502"/>
              <p:cNvGrpSpPr/>
              <p:nvPr/>
            </p:nvGrpSpPr>
            <p:grpSpPr>
              <a:xfrm>
                <a:off x="3606120" y="3729960"/>
                <a:ext cx="334800" cy="379800"/>
                <a:chOff x="3606120" y="3729960"/>
                <a:chExt cx="334800" cy="379800"/>
              </a:xfrm>
            </p:grpSpPr>
            <p:grpSp>
              <p:nvGrpSpPr>
                <p:cNvPr id="1960" name="Group 503"/>
                <p:cNvGrpSpPr/>
                <p:nvPr/>
              </p:nvGrpSpPr>
              <p:grpSpPr>
                <a:xfrm>
                  <a:off x="3745080" y="3826440"/>
                  <a:ext cx="195840" cy="266760"/>
                  <a:chOff x="3745080" y="3826440"/>
                  <a:chExt cx="195840" cy="266760"/>
                </a:xfrm>
              </p:grpSpPr>
              <p:sp>
                <p:nvSpPr>
                  <p:cNvPr id="1961" name="Arc 504"/>
                  <p:cNvSpPr/>
                  <p:nvPr/>
                </p:nvSpPr>
                <p:spPr>
                  <a:xfrm flipV="1" rot="21470400">
                    <a:off x="3749760" y="3828600"/>
                    <a:ext cx="146880" cy="261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962" name="AutoShape 505"/>
                  <p:cNvCxnSpPr/>
                  <p:nvPr/>
                </p:nvCxnSpPr>
                <p:spPr>
                  <a:xfrm flipH="1">
                    <a:off x="3887280" y="3906720"/>
                    <a:ext cx="54000" cy="13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63" name="AutoShape 506"/>
                  <p:cNvCxnSpPr/>
                  <p:nvPr/>
                </p:nvCxnSpPr>
                <p:spPr>
                  <a:xfrm flipH="1">
                    <a:off x="3882240" y="3886560"/>
                    <a:ext cx="53640" cy="14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64" name="AutoShape 507"/>
                  <p:cNvCxnSpPr/>
                  <p:nvPr/>
                </p:nvCxnSpPr>
                <p:spPr>
                  <a:xfrm>
                    <a:off x="3818520" y="3873600"/>
                    <a:ext cx="64440" cy="27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65" name="AutoShape 508"/>
                  <p:cNvCxnSpPr/>
                  <p:nvPr/>
                </p:nvCxnSpPr>
                <p:spPr>
                  <a:xfrm>
                    <a:off x="3814920" y="3893400"/>
                    <a:ext cx="65160" cy="27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1966" name="Group 509"/>
                <p:cNvGrpSpPr/>
                <p:nvPr/>
              </p:nvGrpSpPr>
              <p:grpSpPr>
                <a:xfrm>
                  <a:off x="3725280" y="4033440"/>
                  <a:ext cx="49320" cy="65520"/>
                  <a:chOff x="3725280" y="4033440"/>
                  <a:chExt cx="49320" cy="65520"/>
                </a:xfrm>
              </p:grpSpPr>
              <p:grpSp>
                <p:nvGrpSpPr>
                  <p:cNvPr id="1967" name="Group 510"/>
                  <p:cNvGrpSpPr/>
                  <p:nvPr/>
                </p:nvGrpSpPr>
                <p:grpSpPr>
                  <a:xfrm>
                    <a:off x="3725280" y="4033440"/>
                    <a:ext cx="49320" cy="65520"/>
                    <a:chOff x="3725280" y="4033440"/>
                    <a:chExt cx="49320" cy="65520"/>
                  </a:xfrm>
                </p:grpSpPr>
                <p:sp>
                  <p:nvSpPr>
                    <p:cNvPr id="1968" name="Arc 511"/>
                    <p:cNvSpPr/>
                    <p:nvPr/>
                  </p:nvSpPr>
                  <p:spPr>
                    <a:xfrm rot="376200">
                      <a:off x="3750120" y="4036320"/>
                      <a:ext cx="20880" cy="615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Arc 512"/>
                    <p:cNvSpPr/>
                    <p:nvPr/>
                  </p:nvSpPr>
                  <p:spPr>
                    <a:xfrm flipH="1" rot="375600">
                      <a:off x="3728160" y="4034160"/>
                      <a:ext cx="20880" cy="615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0" name="Group 513"/>
                  <p:cNvGrpSpPr/>
                  <p:nvPr/>
                </p:nvGrpSpPr>
                <p:grpSpPr>
                  <a:xfrm>
                    <a:off x="3734640" y="4061520"/>
                    <a:ext cx="26640" cy="34920"/>
                    <a:chOff x="3734640" y="4061520"/>
                    <a:chExt cx="26640" cy="34920"/>
                  </a:xfrm>
                </p:grpSpPr>
                <p:sp>
                  <p:nvSpPr>
                    <p:cNvPr id="1971" name="Arc 514"/>
                    <p:cNvSpPr/>
                    <p:nvPr/>
                  </p:nvSpPr>
                  <p:spPr>
                    <a:xfrm rot="376200">
                      <a:off x="3747960" y="4063320"/>
                      <a:ext cx="11160" cy="3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Arc 515"/>
                    <p:cNvSpPr/>
                    <p:nvPr/>
                  </p:nvSpPr>
                  <p:spPr>
                    <a:xfrm flipH="1" rot="375600">
                      <a:off x="3735720" y="4061880"/>
                      <a:ext cx="11160" cy="3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973" name="AutoShape 516"/>
                  <p:cNvCxnSpPr/>
                  <p:nvPr/>
                </p:nvCxnSpPr>
                <p:spPr>
                  <a:xfrm>
                    <a:off x="3725280" y="4093200"/>
                    <a:ext cx="4320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1974" name="Rectangle 517"/>
                <p:cNvSpPr/>
                <p:nvPr/>
              </p:nvSpPr>
              <p:spPr>
                <a:xfrm rot="376200">
                  <a:off x="3743640" y="4095000"/>
                  <a:ext cx="15120" cy="14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5" name="Group 518"/>
                <p:cNvGrpSpPr/>
                <p:nvPr/>
              </p:nvGrpSpPr>
              <p:grpSpPr>
                <a:xfrm>
                  <a:off x="3720960" y="3729960"/>
                  <a:ext cx="162360" cy="375480"/>
                  <a:chOff x="3720960" y="3729960"/>
                  <a:chExt cx="162360" cy="375480"/>
                </a:xfrm>
              </p:grpSpPr>
              <p:sp>
                <p:nvSpPr>
                  <p:cNvPr id="1976" name="Arc 519"/>
                  <p:cNvSpPr/>
                  <p:nvPr/>
                </p:nvSpPr>
                <p:spPr>
                  <a:xfrm flipV="1" rot="21470400">
                    <a:off x="3727800" y="3731400"/>
                    <a:ext cx="115920" cy="3715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977" name="AutoShape 520"/>
                  <p:cNvCxnSpPr/>
                  <p:nvPr/>
                </p:nvCxnSpPr>
                <p:spPr>
                  <a:xfrm flipH="1">
                    <a:off x="3839400" y="3834000"/>
                    <a:ext cx="44280" cy="23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78" name="AutoShape 521"/>
                  <p:cNvCxnSpPr/>
                  <p:nvPr/>
                </p:nvCxnSpPr>
                <p:spPr>
                  <a:xfrm flipH="1">
                    <a:off x="3837240" y="3805920"/>
                    <a:ext cx="43200" cy="23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79" name="AutoShape 522"/>
                  <p:cNvCxnSpPr/>
                  <p:nvPr/>
                </p:nvCxnSpPr>
                <p:spPr>
                  <a:xfrm>
                    <a:off x="3787560" y="3795840"/>
                    <a:ext cx="49680" cy="33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980" name="AutoShape 523"/>
                  <p:cNvCxnSpPr/>
                  <p:nvPr/>
                </p:nvCxnSpPr>
                <p:spPr>
                  <a:xfrm>
                    <a:off x="3783240" y="3823920"/>
                    <a:ext cx="50400" cy="33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1981" name="Arc 524"/>
                <p:cNvSpPr/>
                <p:nvPr/>
              </p:nvSpPr>
              <p:spPr>
                <a:xfrm flipH="1" flipV="1" rot="882600">
                  <a:off x="3636720" y="3814560"/>
                  <a:ext cx="147240" cy="261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982" name="AutoShape 525"/>
                <p:cNvCxnSpPr/>
                <p:nvPr/>
              </p:nvCxnSpPr>
              <p:spPr>
                <a:xfrm>
                  <a:off x="3607560" y="3868920"/>
                  <a:ext cx="49320" cy="25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83" name="AutoShape 526"/>
                <p:cNvCxnSpPr/>
                <p:nvPr/>
              </p:nvCxnSpPr>
              <p:spPr>
                <a:xfrm>
                  <a:off x="3617640" y="3850560"/>
                  <a:ext cx="49320" cy="25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84" name="AutoShape 527"/>
                <p:cNvCxnSpPr/>
                <p:nvPr/>
              </p:nvCxnSpPr>
              <p:spPr>
                <a:xfrm flipH="1">
                  <a:off x="3665880" y="3863520"/>
                  <a:ext cx="68760" cy="12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85" name="AutoShape 528"/>
                <p:cNvCxnSpPr/>
                <p:nvPr/>
              </p:nvCxnSpPr>
              <p:spPr>
                <a:xfrm flipH="1">
                  <a:off x="3664800" y="3883320"/>
                  <a:ext cx="69480" cy="12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86" name="AutoShape 529"/>
                <p:cNvCxnSpPr/>
                <p:nvPr/>
              </p:nvCxnSpPr>
              <p:spPr>
                <a:xfrm flipH="1">
                  <a:off x="3652560" y="3902760"/>
                  <a:ext cx="69120" cy="12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87" name="AutoShape 530"/>
                <p:cNvCxnSpPr/>
                <p:nvPr/>
              </p:nvCxnSpPr>
              <p:spPr>
                <a:xfrm flipH="1">
                  <a:off x="3871800" y="3926880"/>
                  <a:ext cx="69480" cy="12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88" name="AutoShape 531"/>
                <p:cNvCxnSpPr/>
                <p:nvPr/>
              </p:nvCxnSpPr>
              <p:spPr>
                <a:xfrm flipH="1">
                  <a:off x="3828240" y="3857760"/>
                  <a:ext cx="52560" cy="18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89" name="AutoShape 532"/>
                <p:cNvCxnSpPr/>
                <p:nvPr/>
              </p:nvCxnSpPr>
              <p:spPr>
                <a:xfrm>
                  <a:off x="3607920" y="3887640"/>
                  <a:ext cx="65520" cy="27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90" name="AutoShape 533"/>
                <p:cNvCxnSpPr/>
                <p:nvPr/>
              </p:nvCxnSpPr>
              <p:spPr>
                <a:xfrm>
                  <a:off x="3780360" y="3850920"/>
                  <a:ext cx="65520" cy="27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91" name="AutoShape 534"/>
                <p:cNvCxnSpPr/>
                <p:nvPr/>
              </p:nvCxnSpPr>
              <p:spPr>
                <a:xfrm>
                  <a:off x="3818160" y="3910680"/>
                  <a:ext cx="65520" cy="27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992" name="Oval 535"/>
              <p:cNvSpPr/>
              <p:nvPr/>
            </p:nvSpPr>
            <p:spPr>
              <a:xfrm rot="1800000">
                <a:off x="3321360" y="4003560"/>
                <a:ext cx="32400" cy="53280"/>
              </a:xfrm>
              <a:prstGeom prst="ellipse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TextBox 1123"/>
            <p:cNvSpPr/>
            <p:nvPr/>
          </p:nvSpPr>
          <p:spPr>
            <a:xfrm>
              <a:off x="2895480" y="4343760"/>
              <a:ext cx="609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Группа 1129"/>
          <p:cNvGrpSpPr/>
          <p:nvPr/>
        </p:nvGrpSpPr>
        <p:grpSpPr>
          <a:xfrm>
            <a:off x="4724640" y="3048120"/>
            <a:ext cx="2312280" cy="1755360"/>
            <a:chOff x="4724640" y="3048120"/>
            <a:chExt cx="2312280" cy="1755360"/>
          </a:xfrm>
        </p:grpSpPr>
        <p:grpSp>
          <p:nvGrpSpPr>
            <p:cNvPr id="1995" name="Group 536"/>
            <p:cNvGrpSpPr/>
            <p:nvPr/>
          </p:nvGrpSpPr>
          <p:grpSpPr>
            <a:xfrm>
              <a:off x="4724640" y="3048120"/>
              <a:ext cx="2312280" cy="1381680"/>
              <a:chOff x="4724640" y="3048120"/>
              <a:chExt cx="2312280" cy="1381680"/>
            </a:xfrm>
          </p:grpSpPr>
          <p:grpSp>
            <p:nvGrpSpPr>
              <p:cNvPr id="1996" name="Group 537"/>
              <p:cNvGrpSpPr/>
              <p:nvPr/>
            </p:nvGrpSpPr>
            <p:grpSpPr>
              <a:xfrm>
                <a:off x="5963040" y="3662640"/>
                <a:ext cx="402840" cy="767160"/>
                <a:chOff x="5963040" y="3662640"/>
                <a:chExt cx="402840" cy="767160"/>
              </a:xfrm>
            </p:grpSpPr>
            <p:grpSp>
              <p:nvGrpSpPr>
                <p:cNvPr id="1997" name="Group 538"/>
                <p:cNvGrpSpPr/>
                <p:nvPr/>
              </p:nvGrpSpPr>
              <p:grpSpPr>
                <a:xfrm>
                  <a:off x="5963040" y="3662640"/>
                  <a:ext cx="402840" cy="394560"/>
                  <a:chOff x="5963040" y="3662640"/>
                  <a:chExt cx="402840" cy="394560"/>
                </a:xfrm>
              </p:grpSpPr>
              <p:sp>
                <p:nvSpPr>
                  <p:cNvPr id="1998" name="Arc 539"/>
                  <p:cNvSpPr/>
                  <p:nvPr/>
                </p:nvSpPr>
                <p:spPr>
                  <a:xfrm rot="13800000">
                    <a:off x="6039360" y="3701520"/>
                    <a:ext cx="249480" cy="316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Line 540"/>
                  <p:cNvSpPr/>
                  <p:nvPr/>
                </p:nvSpPr>
                <p:spPr>
                  <a:xfrm flipH="1" flipV="1">
                    <a:off x="6035400" y="3686400"/>
                    <a:ext cx="61200" cy="7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0" name="Group 541"/>
                <p:cNvGrpSpPr/>
                <p:nvPr/>
              </p:nvGrpSpPr>
              <p:grpSpPr>
                <a:xfrm>
                  <a:off x="6027480" y="4015800"/>
                  <a:ext cx="213120" cy="414000"/>
                  <a:chOff x="6027480" y="4015800"/>
                  <a:chExt cx="213120" cy="414000"/>
                </a:xfrm>
              </p:grpSpPr>
              <p:sp>
                <p:nvSpPr>
                  <p:cNvPr id="2001" name="Freeform 542"/>
                  <p:cNvSpPr/>
                  <p:nvPr/>
                </p:nvSpPr>
                <p:spPr>
                  <a:xfrm>
                    <a:off x="6122880" y="4029840"/>
                    <a:ext cx="60840" cy="312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Freeform 543"/>
                  <p:cNvSpPr/>
                  <p:nvPr/>
                </p:nvSpPr>
                <p:spPr>
                  <a:xfrm rot="21000000">
                    <a:off x="6152400" y="4017600"/>
                    <a:ext cx="56160" cy="374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Freeform 544"/>
                  <p:cNvSpPr/>
                  <p:nvPr/>
                </p:nvSpPr>
                <p:spPr>
                  <a:xfrm flipH="1" rot="600000">
                    <a:off x="6059160" y="4053240"/>
                    <a:ext cx="56160" cy="374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4" name="Oval 545"/>
                <p:cNvSpPr/>
                <p:nvPr/>
              </p:nvSpPr>
              <p:spPr>
                <a:xfrm rot="1800000">
                  <a:off x="6122880" y="3956400"/>
                  <a:ext cx="48240" cy="80280"/>
                </a:xfrm>
                <a:prstGeom prst="ellipse">
                  <a:avLst/>
                </a:prstGeom>
                <a:solidFill>
                  <a:srgbClr val="bfbf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5" name="Freeform 546"/>
              <p:cNvSpPr/>
              <p:nvPr/>
            </p:nvSpPr>
            <p:spPr>
              <a:xfrm>
                <a:off x="4813920" y="4001760"/>
                <a:ext cx="2196720" cy="89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6" name="Group 547"/>
              <p:cNvGrpSpPr/>
              <p:nvPr/>
            </p:nvGrpSpPr>
            <p:grpSpPr>
              <a:xfrm>
                <a:off x="6320160" y="3048120"/>
                <a:ext cx="716760" cy="1233000"/>
                <a:chOff x="6320160" y="3048120"/>
                <a:chExt cx="716760" cy="1233000"/>
              </a:xfrm>
            </p:grpSpPr>
            <p:sp>
              <p:nvSpPr>
                <p:cNvPr id="2007" name="Line 548"/>
                <p:cNvSpPr/>
                <p:nvPr/>
              </p:nvSpPr>
              <p:spPr>
                <a:xfrm>
                  <a:off x="6680880" y="3207960"/>
                  <a:ext cx="4320" cy="75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AutoShape 549"/>
                <p:cNvSpPr/>
                <p:nvPr/>
              </p:nvSpPr>
              <p:spPr>
                <a:xfrm rot="10800000">
                  <a:off x="6608160" y="3048120"/>
                  <a:ext cx="142920" cy="165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Arc 550"/>
                <p:cNvSpPr/>
                <p:nvPr/>
              </p:nvSpPr>
              <p:spPr>
                <a:xfrm flipV="1">
                  <a:off x="6680880" y="3338640"/>
                  <a:ext cx="72000" cy="144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Arc 551"/>
                <p:cNvSpPr/>
                <p:nvPr/>
              </p:nvSpPr>
              <p:spPr>
                <a:xfrm flipH="1" flipV="1" rot="1816200">
                  <a:off x="6720120" y="3245040"/>
                  <a:ext cx="46440" cy="97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Line 552"/>
                <p:cNvSpPr/>
                <p:nvPr/>
              </p:nvSpPr>
              <p:spPr>
                <a:xfrm flipV="1">
                  <a:off x="6690600" y="3258720"/>
                  <a:ext cx="108360" cy="22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Line 553"/>
                <p:cNvSpPr/>
                <p:nvPr/>
              </p:nvSpPr>
              <p:spPr>
                <a:xfrm flipV="1">
                  <a:off x="6748920" y="3249720"/>
                  <a:ext cx="108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AutoShape 554"/>
                <p:cNvSpPr/>
                <p:nvPr/>
              </p:nvSpPr>
              <p:spPr>
                <a:xfrm rot="14044200">
                  <a:off x="6763680" y="3188880"/>
                  <a:ext cx="14724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AutoShape 555"/>
                <p:cNvSpPr/>
                <p:nvPr/>
              </p:nvSpPr>
              <p:spPr>
                <a:xfrm rot="10800000">
                  <a:off x="6707160" y="3171960"/>
                  <a:ext cx="79200" cy="99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Arc 556"/>
                <p:cNvSpPr/>
                <p:nvPr/>
              </p:nvSpPr>
              <p:spPr>
                <a:xfrm flipH="1" flipV="1">
                  <a:off x="6625440" y="3654720"/>
                  <a:ext cx="64440" cy="123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Arc 557"/>
                <p:cNvSpPr/>
                <p:nvPr/>
              </p:nvSpPr>
              <p:spPr>
                <a:xfrm flipV="1" rot="19780800">
                  <a:off x="6608160" y="3536280"/>
                  <a:ext cx="38880" cy="64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Line 558"/>
                <p:cNvSpPr/>
                <p:nvPr/>
              </p:nvSpPr>
              <p:spPr>
                <a:xfrm>
                  <a:off x="6556680" y="3510720"/>
                  <a:ext cx="162360" cy="27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AutoShape 559"/>
                <p:cNvSpPr/>
                <p:nvPr/>
              </p:nvSpPr>
              <p:spPr>
                <a:xfrm flipH="1" rot="8721600">
                  <a:off x="6468480" y="3418920"/>
                  <a:ext cx="128520" cy="10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9" name="Group 560"/>
                <p:cNvGrpSpPr/>
                <p:nvPr/>
              </p:nvGrpSpPr>
              <p:grpSpPr>
                <a:xfrm>
                  <a:off x="6618240" y="3654000"/>
                  <a:ext cx="418680" cy="363960"/>
                  <a:chOff x="6618240" y="3654000"/>
                  <a:chExt cx="418680" cy="363960"/>
                </a:xfrm>
              </p:grpSpPr>
              <p:grpSp>
                <p:nvGrpSpPr>
                  <p:cNvPr id="2020" name="Group 561"/>
                  <p:cNvGrpSpPr/>
                  <p:nvPr/>
                </p:nvGrpSpPr>
                <p:grpSpPr>
                  <a:xfrm>
                    <a:off x="6718680" y="3654000"/>
                    <a:ext cx="318240" cy="245880"/>
                    <a:chOff x="6718680" y="3654000"/>
                    <a:chExt cx="318240" cy="245880"/>
                  </a:xfrm>
                </p:grpSpPr>
                <p:grpSp>
                  <p:nvGrpSpPr>
                    <p:cNvPr id="2021" name="Group 562"/>
                    <p:cNvGrpSpPr/>
                    <p:nvPr/>
                  </p:nvGrpSpPr>
                  <p:grpSpPr>
                    <a:xfrm>
                      <a:off x="6918120" y="3720240"/>
                      <a:ext cx="118800" cy="176400"/>
                      <a:chOff x="6918120" y="3720240"/>
                      <a:chExt cx="118800" cy="176400"/>
                    </a:xfrm>
                  </p:grpSpPr>
                  <p:cxnSp>
                    <p:nvCxnSpPr>
                      <p:cNvPr id="2022" name="AutoShape 563"/>
                      <p:cNvCxnSpPr/>
                      <p:nvPr/>
                    </p:nvCxnSpPr>
                    <p:spPr>
                      <a:xfrm flipH="1">
                        <a:off x="6977160" y="3720240"/>
                        <a:ext cx="60120" cy="489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23" name="AutoShape 564"/>
                      <p:cNvCxnSpPr/>
                      <p:nvPr/>
                    </p:nvCxnSpPr>
                    <p:spPr>
                      <a:xfrm flipH="1">
                        <a:off x="6918120" y="3848040"/>
                        <a:ext cx="93600" cy="489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24" name="AutoShape 565"/>
                      <p:cNvCxnSpPr/>
                      <p:nvPr/>
                    </p:nvCxnSpPr>
                    <p:spPr>
                      <a:xfrm flipH="1">
                        <a:off x="6977160" y="3768480"/>
                        <a:ext cx="60120" cy="36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25" name="AutoShape 566"/>
                      <p:cNvCxnSpPr/>
                      <p:nvPr/>
                    </p:nvCxnSpPr>
                    <p:spPr>
                      <a:xfrm flipH="1">
                        <a:off x="6950880" y="3817080"/>
                        <a:ext cx="60120" cy="31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26" name="Group 567"/>
                    <p:cNvGrpSpPr/>
                    <p:nvPr/>
                  </p:nvGrpSpPr>
                  <p:grpSpPr>
                    <a:xfrm>
                      <a:off x="6825240" y="3686400"/>
                      <a:ext cx="118800" cy="177120"/>
                      <a:chOff x="6825240" y="3686400"/>
                      <a:chExt cx="118800" cy="177120"/>
                    </a:xfrm>
                  </p:grpSpPr>
                  <p:cxnSp>
                    <p:nvCxnSpPr>
                      <p:cNvPr id="2027" name="AutoShape 568"/>
                      <p:cNvCxnSpPr/>
                      <p:nvPr/>
                    </p:nvCxnSpPr>
                    <p:spPr>
                      <a:xfrm flipH="1">
                        <a:off x="6884280" y="3686400"/>
                        <a:ext cx="60120" cy="49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28" name="AutoShape 569"/>
                      <p:cNvCxnSpPr/>
                      <p:nvPr/>
                    </p:nvCxnSpPr>
                    <p:spPr>
                      <a:xfrm flipH="1">
                        <a:off x="6825240" y="3814560"/>
                        <a:ext cx="93600" cy="49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29" name="AutoShape 570"/>
                      <p:cNvCxnSpPr/>
                      <p:nvPr/>
                    </p:nvCxnSpPr>
                    <p:spPr>
                      <a:xfrm flipH="1">
                        <a:off x="6884280" y="3735000"/>
                        <a:ext cx="60120" cy="37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30" name="AutoShape 571"/>
                      <p:cNvCxnSpPr/>
                      <p:nvPr/>
                    </p:nvCxnSpPr>
                    <p:spPr>
                      <a:xfrm flipH="1">
                        <a:off x="6858000" y="3783960"/>
                        <a:ext cx="60120" cy="31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31" name="Group 572"/>
                    <p:cNvGrpSpPr/>
                    <p:nvPr/>
                  </p:nvGrpSpPr>
                  <p:grpSpPr>
                    <a:xfrm>
                      <a:off x="6750360" y="3654000"/>
                      <a:ext cx="85320" cy="199440"/>
                      <a:chOff x="6750360" y="3654000"/>
                      <a:chExt cx="85320" cy="199440"/>
                    </a:xfrm>
                  </p:grpSpPr>
                  <p:cxnSp>
                    <p:nvCxnSpPr>
                      <p:cNvPr id="2032" name="AutoShape 573"/>
                      <p:cNvCxnSpPr/>
                      <p:nvPr/>
                    </p:nvCxnSpPr>
                    <p:spPr>
                      <a:xfrm flipH="1">
                        <a:off x="6777720" y="3654000"/>
                        <a:ext cx="47160" cy="61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33" name="AutoShape 574"/>
                      <p:cNvCxnSpPr/>
                      <p:nvPr/>
                    </p:nvCxnSpPr>
                    <p:spPr>
                      <a:xfrm flipH="1">
                        <a:off x="6750360" y="3784320"/>
                        <a:ext cx="79560" cy="694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34" name="AutoShape 575"/>
                      <p:cNvCxnSpPr/>
                      <p:nvPr/>
                    </p:nvCxnSpPr>
                    <p:spPr>
                      <a:xfrm flipH="1">
                        <a:off x="6786360" y="3701160"/>
                        <a:ext cx="49680" cy="49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35" name="AutoShape 576"/>
                      <p:cNvCxnSpPr/>
                      <p:nvPr/>
                    </p:nvCxnSpPr>
                    <p:spPr>
                      <a:xfrm flipH="1">
                        <a:off x="6770880" y="3754440"/>
                        <a:ext cx="51120" cy="446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36" name="Group 577"/>
                    <p:cNvGrpSpPr/>
                    <p:nvPr/>
                  </p:nvGrpSpPr>
                  <p:grpSpPr>
                    <a:xfrm>
                      <a:off x="6906600" y="3694320"/>
                      <a:ext cx="77400" cy="205560"/>
                      <a:chOff x="6906600" y="3694320"/>
                      <a:chExt cx="77400" cy="205560"/>
                    </a:xfrm>
                  </p:grpSpPr>
                  <p:cxnSp>
                    <p:nvCxnSpPr>
                      <p:cNvPr id="2037" name="AutoShape 578"/>
                      <p:cNvCxnSpPr/>
                      <p:nvPr/>
                    </p:nvCxnSpPr>
                    <p:spPr>
                      <a:xfrm>
                        <a:off x="6968520" y="3694320"/>
                        <a:ext cx="15840" cy="78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38" name="AutoShape 579"/>
                      <p:cNvCxnSpPr/>
                      <p:nvPr/>
                    </p:nvCxnSpPr>
                    <p:spPr>
                      <a:xfrm>
                        <a:off x="6906600" y="3794400"/>
                        <a:ext cx="42120" cy="105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39" name="AutoShape 580"/>
                      <p:cNvCxnSpPr/>
                      <p:nvPr/>
                    </p:nvCxnSpPr>
                    <p:spPr>
                      <a:xfrm>
                        <a:off x="6937560" y="3724560"/>
                        <a:ext cx="23760" cy="70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40" name="AutoShape 581"/>
                      <p:cNvCxnSpPr/>
                      <p:nvPr/>
                    </p:nvCxnSpPr>
                    <p:spPr>
                      <a:xfrm>
                        <a:off x="6926760" y="3775320"/>
                        <a:ext cx="27360" cy="680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41" name="Group 582"/>
                    <p:cNvGrpSpPr/>
                    <p:nvPr/>
                  </p:nvGrpSpPr>
                  <p:grpSpPr>
                    <a:xfrm>
                      <a:off x="6718680" y="3664800"/>
                      <a:ext cx="74520" cy="200880"/>
                      <a:chOff x="6718680" y="3664800"/>
                      <a:chExt cx="74520" cy="200880"/>
                    </a:xfrm>
                  </p:grpSpPr>
                  <p:cxnSp>
                    <p:nvCxnSpPr>
                      <p:cNvPr id="2042" name="AutoShape 583"/>
                      <p:cNvCxnSpPr/>
                      <p:nvPr/>
                    </p:nvCxnSpPr>
                    <p:spPr>
                      <a:xfrm>
                        <a:off x="6775920" y="3664800"/>
                        <a:ext cx="17640" cy="77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43" name="AutoShape 584"/>
                      <p:cNvCxnSpPr/>
                      <p:nvPr/>
                    </p:nvCxnSpPr>
                    <p:spPr>
                      <a:xfrm>
                        <a:off x="6718680" y="3761640"/>
                        <a:ext cx="43920" cy="104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44" name="AutoShape 585"/>
                      <p:cNvCxnSpPr/>
                      <p:nvPr/>
                    </p:nvCxnSpPr>
                    <p:spPr>
                      <a:xfrm>
                        <a:off x="6746760" y="3692880"/>
                        <a:ext cx="25200" cy="702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45" name="AutoShape 586"/>
                      <p:cNvCxnSpPr/>
                      <p:nvPr/>
                    </p:nvCxnSpPr>
                    <p:spPr>
                      <a:xfrm>
                        <a:off x="6737760" y="3742920"/>
                        <a:ext cx="28440" cy="67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46" name="Group 587"/>
                    <p:cNvGrpSpPr/>
                    <p:nvPr/>
                  </p:nvGrpSpPr>
                  <p:grpSpPr>
                    <a:xfrm>
                      <a:off x="6796080" y="3682440"/>
                      <a:ext cx="77400" cy="205560"/>
                      <a:chOff x="6796080" y="3682440"/>
                      <a:chExt cx="77400" cy="205560"/>
                    </a:xfrm>
                  </p:grpSpPr>
                  <p:cxnSp>
                    <p:nvCxnSpPr>
                      <p:cNvPr id="2047" name="AutoShape 588"/>
                      <p:cNvCxnSpPr/>
                      <p:nvPr/>
                    </p:nvCxnSpPr>
                    <p:spPr>
                      <a:xfrm>
                        <a:off x="6858000" y="3682440"/>
                        <a:ext cx="15840" cy="78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48" name="AutoShape 589"/>
                      <p:cNvCxnSpPr/>
                      <p:nvPr/>
                    </p:nvCxnSpPr>
                    <p:spPr>
                      <a:xfrm>
                        <a:off x="6796080" y="3782520"/>
                        <a:ext cx="42120" cy="105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49" name="AutoShape 590"/>
                      <p:cNvCxnSpPr/>
                      <p:nvPr/>
                    </p:nvCxnSpPr>
                    <p:spPr>
                      <a:xfrm>
                        <a:off x="6827040" y="3712680"/>
                        <a:ext cx="23760" cy="70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50" name="AutoShape 591"/>
                      <p:cNvCxnSpPr/>
                      <p:nvPr/>
                    </p:nvCxnSpPr>
                    <p:spPr>
                      <a:xfrm>
                        <a:off x="6816240" y="3763440"/>
                        <a:ext cx="27360" cy="680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2051" name="Group 592"/>
                  <p:cNvGrpSpPr/>
                  <p:nvPr/>
                </p:nvGrpSpPr>
                <p:grpSpPr>
                  <a:xfrm>
                    <a:off x="6618240" y="3669120"/>
                    <a:ext cx="370440" cy="348840"/>
                    <a:chOff x="6618240" y="3669120"/>
                    <a:chExt cx="370440" cy="348840"/>
                  </a:xfrm>
                </p:grpSpPr>
                <p:sp>
                  <p:nvSpPr>
                    <p:cNvPr id="2052" name="Arc 593"/>
                    <p:cNvSpPr/>
                    <p:nvPr/>
                  </p:nvSpPr>
                  <p:spPr>
                    <a:xfrm flipV="1" rot="21094200">
                      <a:off x="6637680" y="3686040"/>
                      <a:ext cx="258120" cy="284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Arc 594"/>
                    <p:cNvSpPr/>
                    <p:nvPr/>
                  </p:nvSpPr>
                  <p:spPr>
                    <a:xfrm flipV="1" rot="245400">
                      <a:off x="6718320" y="3686760"/>
                      <a:ext cx="258840" cy="322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Arc 595"/>
                    <p:cNvSpPr/>
                    <p:nvPr/>
                  </p:nvSpPr>
                  <p:spPr>
                    <a:xfrm flipV="1">
                      <a:off x="6637680" y="3686760"/>
                      <a:ext cx="148680" cy="284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55" name="Group 596"/>
                <p:cNvGrpSpPr/>
                <p:nvPr/>
              </p:nvGrpSpPr>
              <p:grpSpPr>
                <a:xfrm>
                  <a:off x="6320160" y="3655080"/>
                  <a:ext cx="418680" cy="363960"/>
                  <a:chOff x="6320160" y="3655080"/>
                  <a:chExt cx="418680" cy="363960"/>
                </a:xfrm>
              </p:grpSpPr>
              <p:grpSp>
                <p:nvGrpSpPr>
                  <p:cNvPr id="2056" name="Group 597"/>
                  <p:cNvGrpSpPr/>
                  <p:nvPr/>
                </p:nvGrpSpPr>
                <p:grpSpPr>
                  <a:xfrm>
                    <a:off x="6320160" y="3655080"/>
                    <a:ext cx="318240" cy="245880"/>
                    <a:chOff x="6320160" y="3655080"/>
                    <a:chExt cx="318240" cy="245880"/>
                  </a:xfrm>
                </p:grpSpPr>
                <p:grpSp>
                  <p:nvGrpSpPr>
                    <p:cNvPr id="2057" name="Group 598"/>
                    <p:cNvGrpSpPr/>
                    <p:nvPr/>
                  </p:nvGrpSpPr>
                  <p:grpSpPr>
                    <a:xfrm>
                      <a:off x="6320160" y="3721320"/>
                      <a:ext cx="118800" cy="176400"/>
                      <a:chOff x="6320160" y="3721320"/>
                      <a:chExt cx="118800" cy="176400"/>
                    </a:xfrm>
                  </p:grpSpPr>
                  <p:cxnSp>
                    <p:nvCxnSpPr>
                      <p:cNvPr id="2058" name="AutoShape 599"/>
                      <p:cNvCxnSpPr/>
                      <p:nvPr/>
                    </p:nvCxnSpPr>
                    <p:spPr>
                      <a:xfrm>
                        <a:off x="6320160" y="3721320"/>
                        <a:ext cx="60120" cy="489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59" name="AutoShape 600"/>
                      <p:cNvCxnSpPr/>
                      <p:nvPr/>
                    </p:nvCxnSpPr>
                    <p:spPr>
                      <a:xfrm>
                        <a:off x="6345720" y="3849120"/>
                        <a:ext cx="93600" cy="489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60" name="AutoShape 601"/>
                      <p:cNvCxnSpPr/>
                      <p:nvPr/>
                    </p:nvCxnSpPr>
                    <p:spPr>
                      <a:xfrm>
                        <a:off x="6320160" y="3769560"/>
                        <a:ext cx="60120" cy="36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61" name="AutoShape 602"/>
                      <p:cNvCxnSpPr/>
                      <p:nvPr/>
                    </p:nvCxnSpPr>
                    <p:spPr>
                      <a:xfrm>
                        <a:off x="6346440" y="3818160"/>
                        <a:ext cx="60120" cy="31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62" name="Group 603"/>
                    <p:cNvGrpSpPr/>
                    <p:nvPr/>
                  </p:nvGrpSpPr>
                  <p:grpSpPr>
                    <a:xfrm>
                      <a:off x="6413040" y="3687480"/>
                      <a:ext cx="118800" cy="177120"/>
                      <a:chOff x="6413040" y="3687480"/>
                      <a:chExt cx="118800" cy="177120"/>
                    </a:xfrm>
                  </p:grpSpPr>
                  <p:cxnSp>
                    <p:nvCxnSpPr>
                      <p:cNvPr id="2063" name="AutoShape 604"/>
                      <p:cNvCxnSpPr/>
                      <p:nvPr/>
                    </p:nvCxnSpPr>
                    <p:spPr>
                      <a:xfrm>
                        <a:off x="6413040" y="3687480"/>
                        <a:ext cx="60120" cy="49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64" name="AutoShape 605"/>
                      <p:cNvCxnSpPr/>
                      <p:nvPr/>
                    </p:nvCxnSpPr>
                    <p:spPr>
                      <a:xfrm>
                        <a:off x="6438600" y="3815640"/>
                        <a:ext cx="93600" cy="49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65" name="AutoShape 606"/>
                      <p:cNvCxnSpPr/>
                      <p:nvPr/>
                    </p:nvCxnSpPr>
                    <p:spPr>
                      <a:xfrm>
                        <a:off x="6413040" y="3736080"/>
                        <a:ext cx="60120" cy="37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66" name="AutoShape 607"/>
                      <p:cNvCxnSpPr/>
                      <p:nvPr/>
                    </p:nvCxnSpPr>
                    <p:spPr>
                      <a:xfrm>
                        <a:off x="6439320" y="3785040"/>
                        <a:ext cx="60120" cy="31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67" name="Group 608"/>
                    <p:cNvGrpSpPr/>
                    <p:nvPr/>
                  </p:nvGrpSpPr>
                  <p:grpSpPr>
                    <a:xfrm>
                      <a:off x="6521400" y="3655080"/>
                      <a:ext cx="85320" cy="199440"/>
                      <a:chOff x="6521400" y="3655080"/>
                      <a:chExt cx="85320" cy="199440"/>
                    </a:xfrm>
                  </p:grpSpPr>
                  <p:cxnSp>
                    <p:nvCxnSpPr>
                      <p:cNvPr id="2068" name="AutoShape 609"/>
                      <p:cNvCxnSpPr/>
                      <p:nvPr/>
                    </p:nvCxnSpPr>
                    <p:spPr>
                      <a:xfrm>
                        <a:off x="6532560" y="3655080"/>
                        <a:ext cx="47160" cy="61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69" name="AutoShape 610"/>
                      <p:cNvCxnSpPr/>
                      <p:nvPr/>
                    </p:nvCxnSpPr>
                    <p:spPr>
                      <a:xfrm>
                        <a:off x="6527520" y="3785400"/>
                        <a:ext cx="79560" cy="694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70" name="AutoShape 611"/>
                      <p:cNvCxnSpPr/>
                      <p:nvPr/>
                    </p:nvCxnSpPr>
                    <p:spPr>
                      <a:xfrm>
                        <a:off x="6521400" y="3702240"/>
                        <a:ext cx="49680" cy="49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71" name="AutoShape 612"/>
                      <p:cNvCxnSpPr/>
                      <p:nvPr/>
                    </p:nvCxnSpPr>
                    <p:spPr>
                      <a:xfrm>
                        <a:off x="6535440" y="3755520"/>
                        <a:ext cx="51120" cy="446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72" name="Group 613"/>
                    <p:cNvGrpSpPr/>
                    <p:nvPr/>
                  </p:nvGrpSpPr>
                  <p:grpSpPr>
                    <a:xfrm>
                      <a:off x="6373080" y="3695400"/>
                      <a:ext cx="77400" cy="205560"/>
                      <a:chOff x="6373080" y="3695400"/>
                      <a:chExt cx="77400" cy="205560"/>
                    </a:xfrm>
                  </p:grpSpPr>
                  <p:cxnSp>
                    <p:nvCxnSpPr>
                      <p:cNvPr id="2073" name="AutoShape 614"/>
                      <p:cNvCxnSpPr/>
                      <p:nvPr/>
                    </p:nvCxnSpPr>
                    <p:spPr>
                      <a:xfrm flipH="1">
                        <a:off x="6373080" y="3695400"/>
                        <a:ext cx="15840" cy="78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74" name="AutoShape 615"/>
                      <p:cNvCxnSpPr/>
                      <p:nvPr/>
                    </p:nvCxnSpPr>
                    <p:spPr>
                      <a:xfrm flipH="1">
                        <a:off x="6408720" y="3795480"/>
                        <a:ext cx="42120" cy="105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75" name="AutoShape 616"/>
                      <p:cNvCxnSpPr/>
                      <p:nvPr/>
                    </p:nvCxnSpPr>
                    <p:spPr>
                      <a:xfrm flipH="1">
                        <a:off x="6396120" y="3725640"/>
                        <a:ext cx="23760" cy="70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76" name="AutoShape 617"/>
                      <p:cNvCxnSpPr/>
                      <p:nvPr/>
                    </p:nvCxnSpPr>
                    <p:spPr>
                      <a:xfrm flipH="1">
                        <a:off x="6403320" y="3776400"/>
                        <a:ext cx="27360" cy="680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77" name="Group 618"/>
                    <p:cNvGrpSpPr/>
                    <p:nvPr/>
                  </p:nvGrpSpPr>
                  <p:grpSpPr>
                    <a:xfrm>
                      <a:off x="6563880" y="3665880"/>
                      <a:ext cx="74520" cy="200880"/>
                      <a:chOff x="6563880" y="3665880"/>
                      <a:chExt cx="74520" cy="200880"/>
                    </a:xfrm>
                  </p:grpSpPr>
                  <p:cxnSp>
                    <p:nvCxnSpPr>
                      <p:cNvPr id="2078" name="AutoShape 619"/>
                      <p:cNvCxnSpPr/>
                      <p:nvPr/>
                    </p:nvCxnSpPr>
                    <p:spPr>
                      <a:xfrm flipH="1">
                        <a:off x="6563880" y="3665880"/>
                        <a:ext cx="17640" cy="77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79" name="AutoShape 620"/>
                      <p:cNvCxnSpPr/>
                      <p:nvPr/>
                    </p:nvCxnSpPr>
                    <p:spPr>
                      <a:xfrm flipH="1">
                        <a:off x="6594840" y="3762720"/>
                        <a:ext cx="43920" cy="104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80" name="AutoShape 621"/>
                      <p:cNvCxnSpPr/>
                      <p:nvPr/>
                    </p:nvCxnSpPr>
                    <p:spPr>
                      <a:xfrm flipH="1">
                        <a:off x="6585480" y="3693960"/>
                        <a:ext cx="25200" cy="702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81" name="AutoShape 622"/>
                      <p:cNvCxnSpPr/>
                      <p:nvPr/>
                    </p:nvCxnSpPr>
                    <p:spPr>
                      <a:xfrm flipH="1">
                        <a:off x="6591240" y="3744000"/>
                        <a:ext cx="28440" cy="67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082" name="Group 623"/>
                    <p:cNvGrpSpPr/>
                    <p:nvPr/>
                  </p:nvGrpSpPr>
                  <p:grpSpPr>
                    <a:xfrm>
                      <a:off x="6483600" y="3683520"/>
                      <a:ext cx="77400" cy="205560"/>
                      <a:chOff x="6483600" y="3683520"/>
                      <a:chExt cx="77400" cy="205560"/>
                    </a:xfrm>
                  </p:grpSpPr>
                  <p:cxnSp>
                    <p:nvCxnSpPr>
                      <p:cNvPr id="2083" name="AutoShape 624"/>
                      <p:cNvCxnSpPr/>
                      <p:nvPr/>
                    </p:nvCxnSpPr>
                    <p:spPr>
                      <a:xfrm flipH="1">
                        <a:off x="6483600" y="3683520"/>
                        <a:ext cx="15840" cy="78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84" name="AutoShape 625"/>
                      <p:cNvCxnSpPr/>
                      <p:nvPr/>
                    </p:nvCxnSpPr>
                    <p:spPr>
                      <a:xfrm flipH="1">
                        <a:off x="6519240" y="3783600"/>
                        <a:ext cx="42120" cy="105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85" name="AutoShape 626"/>
                      <p:cNvCxnSpPr/>
                      <p:nvPr/>
                    </p:nvCxnSpPr>
                    <p:spPr>
                      <a:xfrm flipH="1">
                        <a:off x="6506640" y="3713760"/>
                        <a:ext cx="23760" cy="70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086" name="AutoShape 627"/>
                      <p:cNvCxnSpPr/>
                      <p:nvPr/>
                    </p:nvCxnSpPr>
                    <p:spPr>
                      <a:xfrm flipH="1">
                        <a:off x="6513840" y="3764520"/>
                        <a:ext cx="27360" cy="680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2087" name="Group 628"/>
                  <p:cNvGrpSpPr/>
                  <p:nvPr/>
                </p:nvGrpSpPr>
                <p:grpSpPr>
                  <a:xfrm>
                    <a:off x="6368400" y="3670200"/>
                    <a:ext cx="370440" cy="348840"/>
                    <a:chOff x="6368400" y="3670200"/>
                    <a:chExt cx="370440" cy="348840"/>
                  </a:xfrm>
                </p:grpSpPr>
                <p:sp>
                  <p:nvSpPr>
                    <p:cNvPr id="2088" name="Arc 629"/>
                    <p:cNvSpPr/>
                    <p:nvPr/>
                  </p:nvSpPr>
                  <p:spPr>
                    <a:xfrm flipH="1" flipV="1" rot="505800">
                      <a:off x="6460920" y="3687120"/>
                      <a:ext cx="258120" cy="284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Arc 630"/>
                    <p:cNvSpPr/>
                    <p:nvPr/>
                  </p:nvSpPr>
                  <p:spPr>
                    <a:xfrm flipH="1" flipV="1" rot="21354600">
                      <a:off x="6378840" y="3687840"/>
                      <a:ext cx="258840" cy="322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Arc 631"/>
                    <p:cNvSpPr/>
                    <p:nvPr/>
                  </p:nvSpPr>
                  <p:spPr>
                    <a:xfrm flipH="1" flipV="1">
                      <a:off x="6570360" y="3687840"/>
                      <a:ext cx="148680" cy="284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91" name="Group 632"/>
                <p:cNvGrpSpPr/>
                <p:nvPr/>
              </p:nvGrpSpPr>
              <p:grpSpPr>
                <a:xfrm>
                  <a:off x="6420240" y="3946320"/>
                  <a:ext cx="526680" cy="334800"/>
                  <a:chOff x="6420240" y="3946320"/>
                  <a:chExt cx="526680" cy="334800"/>
                </a:xfrm>
              </p:grpSpPr>
              <p:sp>
                <p:nvSpPr>
                  <p:cNvPr id="2092" name="Freeform 633"/>
                  <p:cNvSpPr/>
                  <p:nvPr/>
                </p:nvSpPr>
                <p:spPr>
                  <a:xfrm>
                    <a:off x="6666120" y="4008600"/>
                    <a:ext cx="142560" cy="233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Freeform 634"/>
                  <p:cNvSpPr/>
                  <p:nvPr/>
                </p:nvSpPr>
                <p:spPr>
                  <a:xfrm>
                    <a:off x="6685920" y="3996360"/>
                    <a:ext cx="183600" cy="156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Freeform 635"/>
                  <p:cNvSpPr/>
                  <p:nvPr/>
                </p:nvSpPr>
                <p:spPr>
                  <a:xfrm rot="772200">
                    <a:off x="6459120" y="3962880"/>
                    <a:ext cx="177480" cy="253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Freeform 636"/>
                  <p:cNvSpPr/>
                  <p:nvPr/>
                </p:nvSpPr>
                <p:spPr>
                  <a:xfrm>
                    <a:off x="6665760" y="3994560"/>
                    <a:ext cx="185400" cy="207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Rectangle 637"/>
                  <p:cNvSpPr/>
                  <p:nvPr/>
                </p:nvSpPr>
                <p:spPr>
                  <a:xfrm>
                    <a:off x="6636960" y="3970080"/>
                    <a:ext cx="78480" cy="64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Freeform 638"/>
                  <p:cNvSpPr/>
                  <p:nvPr/>
                </p:nvSpPr>
                <p:spPr>
                  <a:xfrm rot="1519200">
                    <a:off x="6666120" y="4043880"/>
                    <a:ext cx="185400" cy="207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98" name="Group 639"/>
                  <p:cNvGrpSpPr/>
                  <p:nvPr/>
                </p:nvGrpSpPr>
                <p:grpSpPr>
                  <a:xfrm>
                    <a:off x="6420240" y="3987720"/>
                    <a:ext cx="292680" cy="263520"/>
                    <a:chOff x="6420240" y="3987720"/>
                    <a:chExt cx="292680" cy="263520"/>
                  </a:xfrm>
                </p:grpSpPr>
                <p:sp>
                  <p:nvSpPr>
                    <p:cNvPr id="2099" name="Freeform 640"/>
                    <p:cNvSpPr/>
                    <p:nvPr/>
                  </p:nvSpPr>
                  <p:spPr>
                    <a:xfrm>
                      <a:off x="6433560" y="3994560"/>
                      <a:ext cx="211320" cy="128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1"/>
                    <p:cNvSpPr/>
                    <p:nvPr/>
                  </p:nvSpPr>
                  <p:spPr>
                    <a:xfrm>
                      <a:off x="6545520" y="3996720"/>
                      <a:ext cx="99360" cy="254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2"/>
                    <p:cNvSpPr/>
                    <p:nvPr/>
                  </p:nvSpPr>
                  <p:spPr>
                    <a:xfrm>
                      <a:off x="6420240" y="3987720"/>
                      <a:ext cx="224640" cy="8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3"/>
                    <p:cNvSpPr/>
                    <p:nvPr/>
                  </p:nvSpPr>
                  <p:spPr>
                    <a:xfrm flipH="1" rot="21135600">
                      <a:off x="6459480" y="4007520"/>
                      <a:ext cx="185400" cy="2077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Freeform 644"/>
                    <p:cNvSpPr/>
                    <p:nvPr/>
                  </p:nvSpPr>
                  <p:spPr>
                    <a:xfrm rot="18567600">
                      <a:off x="6495840" y="4077360"/>
                      <a:ext cx="224640" cy="8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4" name="Group 645"/>
                  <p:cNvGrpSpPr/>
                  <p:nvPr/>
                </p:nvGrpSpPr>
                <p:grpSpPr>
                  <a:xfrm>
                    <a:off x="6654240" y="3970080"/>
                    <a:ext cx="292680" cy="263520"/>
                    <a:chOff x="6654240" y="3970080"/>
                    <a:chExt cx="292680" cy="263520"/>
                  </a:xfrm>
                </p:grpSpPr>
                <p:sp>
                  <p:nvSpPr>
                    <p:cNvPr id="2105" name="Freeform 646"/>
                    <p:cNvSpPr/>
                    <p:nvPr/>
                  </p:nvSpPr>
                  <p:spPr>
                    <a:xfrm flipH="1">
                      <a:off x="6721920" y="3976920"/>
                      <a:ext cx="211320" cy="128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Freeform 647"/>
                    <p:cNvSpPr/>
                    <p:nvPr/>
                  </p:nvSpPr>
                  <p:spPr>
                    <a:xfrm flipH="1">
                      <a:off x="6722280" y="3979080"/>
                      <a:ext cx="99360" cy="254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Freeform 648"/>
                    <p:cNvSpPr/>
                    <p:nvPr/>
                  </p:nvSpPr>
                  <p:spPr>
                    <a:xfrm flipH="1">
                      <a:off x="6722280" y="3970080"/>
                      <a:ext cx="224640" cy="8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9"/>
                    <p:cNvSpPr/>
                    <p:nvPr/>
                  </p:nvSpPr>
                  <p:spPr>
                    <a:xfrm rot="464400">
                      <a:off x="6722640" y="3989880"/>
                      <a:ext cx="185400" cy="2077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Freeform 650"/>
                    <p:cNvSpPr/>
                    <p:nvPr/>
                  </p:nvSpPr>
                  <p:spPr>
                    <a:xfrm flipH="1" rot="3032400">
                      <a:off x="6645960" y="4060080"/>
                      <a:ext cx="224640" cy="8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10" name="Group 651"/>
              <p:cNvGrpSpPr/>
              <p:nvPr/>
            </p:nvGrpSpPr>
            <p:grpSpPr>
              <a:xfrm>
                <a:off x="4724640" y="3080880"/>
                <a:ext cx="716760" cy="1233000"/>
                <a:chOff x="4724640" y="3080880"/>
                <a:chExt cx="716760" cy="1233000"/>
              </a:xfrm>
            </p:grpSpPr>
            <p:sp>
              <p:nvSpPr>
                <p:cNvPr id="2111" name="Line 652"/>
                <p:cNvSpPr/>
                <p:nvPr/>
              </p:nvSpPr>
              <p:spPr>
                <a:xfrm>
                  <a:off x="5085360" y="3240720"/>
                  <a:ext cx="4320" cy="75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AutoShape 653"/>
                <p:cNvSpPr/>
                <p:nvPr/>
              </p:nvSpPr>
              <p:spPr>
                <a:xfrm rot="10800000">
                  <a:off x="5012640" y="3080880"/>
                  <a:ext cx="142920" cy="165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Arc 654"/>
                <p:cNvSpPr/>
                <p:nvPr/>
              </p:nvSpPr>
              <p:spPr>
                <a:xfrm flipV="1">
                  <a:off x="5085360" y="3371400"/>
                  <a:ext cx="72000" cy="144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Arc 655"/>
                <p:cNvSpPr/>
                <p:nvPr/>
              </p:nvSpPr>
              <p:spPr>
                <a:xfrm flipH="1" flipV="1" rot="1816200">
                  <a:off x="5124600" y="3277800"/>
                  <a:ext cx="46440" cy="97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Line 656"/>
                <p:cNvSpPr/>
                <p:nvPr/>
              </p:nvSpPr>
              <p:spPr>
                <a:xfrm flipV="1">
                  <a:off x="5095080" y="3291480"/>
                  <a:ext cx="108360" cy="22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Line 657"/>
                <p:cNvSpPr/>
                <p:nvPr/>
              </p:nvSpPr>
              <p:spPr>
                <a:xfrm flipV="1">
                  <a:off x="5153400" y="3282480"/>
                  <a:ext cx="108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AutoShape 658"/>
                <p:cNvSpPr/>
                <p:nvPr/>
              </p:nvSpPr>
              <p:spPr>
                <a:xfrm rot="14044200">
                  <a:off x="5168160" y="3221640"/>
                  <a:ext cx="14724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AutoShape 659"/>
                <p:cNvSpPr/>
                <p:nvPr/>
              </p:nvSpPr>
              <p:spPr>
                <a:xfrm rot="10800000">
                  <a:off x="5111640" y="3204720"/>
                  <a:ext cx="79200" cy="99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Arc 660"/>
                <p:cNvSpPr/>
                <p:nvPr/>
              </p:nvSpPr>
              <p:spPr>
                <a:xfrm flipH="1" flipV="1">
                  <a:off x="5029920" y="3687480"/>
                  <a:ext cx="64440" cy="123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Arc 661"/>
                <p:cNvSpPr/>
                <p:nvPr/>
              </p:nvSpPr>
              <p:spPr>
                <a:xfrm flipV="1" rot="19780800">
                  <a:off x="5012640" y="3569040"/>
                  <a:ext cx="38880" cy="64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Line 662"/>
                <p:cNvSpPr/>
                <p:nvPr/>
              </p:nvSpPr>
              <p:spPr>
                <a:xfrm>
                  <a:off x="4961160" y="3543480"/>
                  <a:ext cx="162360" cy="27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AutoShape 663"/>
                <p:cNvSpPr/>
                <p:nvPr/>
              </p:nvSpPr>
              <p:spPr>
                <a:xfrm flipH="1" rot="8721600">
                  <a:off x="4872960" y="3451680"/>
                  <a:ext cx="128520" cy="10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3" name="Group 664"/>
                <p:cNvGrpSpPr/>
                <p:nvPr/>
              </p:nvGrpSpPr>
              <p:grpSpPr>
                <a:xfrm>
                  <a:off x="5022720" y="3686760"/>
                  <a:ext cx="418680" cy="363960"/>
                  <a:chOff x="5022720" y="3686760"/>
                  <a:chExt cx="418680" cy="363960"/>
                </a:xfrm>
              </p:grpSpPr>
              <p:grpSp>
                <p:nvGrpSpPr>
                  <p:cNvPr id="2124" name="Group 665"/>
                  <p:cNvGrpSpPr/>
                  <p:nvPr/>
                </p:nvGrpSpPr>
                <p:grpSpPr>
                  <a:xfrm>
                    <a:off x="5123160" y="3686760"/>
                    <a:ext cx="318240" cy="245880"/>
                    <a:chOff x="5123160" y="3686760"/>
                    <a:chExt cx="318240" cy="245880"/>
                  </a:xfrm>
                </p:grpSpPr>
                <p:grpSp>
                  <p:nvGrpSpPr>
                    <p:cNvPr id="2125" name="Group 666"/>
                    <p:cNvGrpSpPr/>
                    <p:nvPr/>
                  </p:nvGrpSpPr>
                  <p:grpSpPr>
                    <a:xfrm>
                      <a:off x="5322600" y="3753000"/>
                      <a:ext cx="118800" cy="176400"/>
                      <a:chOff x="5322600" y="3753000"/>
                      <a:chExt cx="118800" cy="176400"/>
                    </a:xfrm>
                  </p:grpSpPr>
                  <p:cxnSp>
                    <p:nvCxnSpPr>
                      <p:cNvPr id="2126" name="AutoShape 667"/>
                      <p:cNvCxnSpPr/>
                      <p:nvPr/>
                    </p:nvCxnSpPr>
                    <p:spPr>
                      <a:xfrm flipH="1">
                        <a:off x="5381640" y="3753000"/>
                        <a:ext cx="60120" cy="489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27" name="AutoShape 668"/>
                      <p:cNvCxnSpPr/>
                      <p:nvPr/>
                    </p:nvCxnSpPr>
                    <p:spPr>
                      <a:xfrm flipH="1">
                        <a:off x="5322600" y="3880800"/>
                        <a:ext cx="93600" cy="489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28" name="AutoShape 669"/>
                      <p:cNvCxnSpPr/>
                      <p:nvPr/>
                    </p:nvCxnSpPr>
                    <p:spPr>
                      <a:xfrm flipH="1">
                        <a:off x="5381640" y="3801240"/>
                        <a:ext cx="60120" cy="36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29" name="AutoShape 670"/>
                      <p:cNvCxnSpPr/>
                      <p:nvPr/>
                    </p:nvCxnSpPr>
                    <p:spPr>
                      <a:xfrm flipH="1">
                        <a:off x="5355360" y="3849840"/>
                        <a:ext cx="60120" cy="31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30" name="Group 671"/>
                    <p:cNvGrpSpPr/>
                    <p:nvPr/>
                  </p:nvGrpSpPr>
                  <p:grpSpPr>
                    <a:xfrm>
                      <a:off x="5229720" y="3719160"/>
                      <a:ext cx="118800" cy="177120"/>
                      <a:chOff x="5229720" y="3719160"/>
                      <a:chExt cx="118800" cy="177120"/>
                    </a:xfrm>
                  </p:grpSpPr>
                  <p:cxnSp>
                    <p:nvCxnSpPr>
                      <p:cNvPr id="2131" name="AutoShape 672"/>
                      <p:cNvCxnSpPr/>
                      <p:nvPr/>
                    </p:nvCxnSpPr>
                    <p:spPr>
                      <a:xfrm flipH="1">
                        <a:off x="5288760" y="3719160"/>
                        <a:ext cx="60120" cy="49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32" name="AutoShape 673"/>
                      <p:cNvCxnSpPr/>
                      <p:nvPr/>
                    </p:nvCxnSpPr>
                    <p:spPr>
                      <a:xfrm flipH="1">
                        <a:off x="5229720" y="3847320"/>
                        <a:ext cx="93600" cy="49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33" name="AutoShape 674"/>
                      <p:cNvCxnSpPr/>
                      <p:nvPr/>
                    </p:nvCxnSpPr>
                    <p:spPr>
                      <a:xfrm flipH="1">
                        <a:off x="5288760" y="3767760"/>
                        <a:ext cx="60120" cy="37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34" name="AutoShape 675"/>
                      <p:cNvCxnSpPr/>
                      <p:nvPr/>
                    </p:nvCxnSpPr>
                    <p:spPr>
                      <a:xfrm flipH="1">
                        <a:off x="5262480" y="3816720"/>
                        <a:ext cx="60120" cy="31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35" name="Group 676"/>
                    <p:cNvGrpSpPr/>
                    <p:nvPr/>
                  </p:nvGrpSpPr>
                  <p:grpSpPr>
                    <a:xfrm>
                      <a:off x="5154840" y="3686760"/>
                      <a:ext cx="85320" cy="199440"/>
                      <a:chOff x="5154840" y="3686760"/>
                      <a:chExt cx="85320" cy="199440"/>
                    </a:xfrm>
                  </p:grpSpPr>
                  <p:cxnSp>
                    <p:nvCxnSpPr>
                      <p:cNvPr id="2136" name="AutoShape 677"/>
                      <p:cNvCxnSpPr/>
                      <p:nvPr/>
                    </p:nvCxnSpPr>
                    <p:spPr>
                      <a:xfrm flipH="1">
                        <a:off x="5182200" y="3686760"/>
                        <a:ext cx="47160" cy="61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37" name="AutoShape 678"/>
                      <p:cNvCxnSpPr/>
                      <p:nvPr/>
                    </p:nvCxnSpPr>
                    <p:spPr>
                      <a:xfrm flipH="1">
                        <a:off x="5154840" y="3817080"/>
                        <a:ext cx="79560" cy="694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38" name="AutoShape 679"/>
                      <p:cNvCxnSpPr/>
                      <p:nvPr/>
                    </p:nvCxnSpPr>
                    <p:spPr>
                      <a:xfrm flipH="1">
                        <a:off x="5190840" y="3733920"/>
                        <a:ext cx="49680" cy="49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39" name="AutoShape 680"/>
                      <p:cNvCxnSpPr/>
                      <p:nvPr/>
                    </p:nvCxnSpPr>
                    <p:spPr>
                      <a:xfrm flipH="1">
                        <a:off x="5175360" y="3787200"/>
                        <a:ext cx="51120" cy="446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40" name="Group 681"/>
                    <p:cNvGrpSpPr/>
                    <p:nvPr/>
                  </p:nvGrpSpPr>
                  <p:grpSpPr>
                    <a:xfrm>
                      <a:off x="5311080" y="3727080"/>
                      <a:ext cx="77400" cy="205560"/>
                      <a:chOff x="5311080" y="3727080"/>
                      <a:chExt cx="77400" cy="205560"/>
                    </a:xfrm>
                  </p:grpSpPr>
                  <p:cxnSp>
                    <p:nvCxnSpPr>
                      <p:cNvPr id="2141" name="AutoShape 682"/>
                      <p:cNvCxnSpPr/>
                      <p:nvPr/>
                    </p:nvCxnSpPr>
                    <p:spPr>
                      <a:xfrm>
                        <a:off x="5373000" y="3727080"/>
                        <a:ext cx="15840" cy="78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42" name="AutoShape 683"/>
                      <p:cNvCxnSpPr/>
                      <p:nvPr/>
                    </p:nvCxnSpPr>
                    <p:spPr>
                      <a:xfrm>
                        <a:off x="5311080" y="3827160"/>
                        <a:ext cx="42120" cy="105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43" name="AutoShape 684"/>
                      <p:cNvCxnSpPr/>
                      <p:nvPr/>
                    </p:nvCxnSpPr>
                    <p:spPr>
                      <a:xfrm>
                        <a:off x="5342040" y="3757320"/>
                        <a:ext cx="23760" cy="70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44" name="AutoShape 685"/>
                      <p:cNvCxnSpPr/>
                      <p:nvPr/>
                    </p:nvCxnSpPr>
                    <p:spPr>
                      <a:xfrm>
                        <a:off x="5331240" y="3808080"/>
                        <a:ext cx="27360" cy="680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45" name="Group 686"/>
                    <p:cNvGrpSpPr/>
                    <p:nvPr/>
                  </p:nvGrpSpPr>
                  <p:grpSpPr>
                    <a:xfrm>
                      <a:off x="5123160" y="3697560"/>
                      <a:ext cx="74520" cy="200880"/>
                      <a:chOff x="5123160" y="3697560"/>
                      <a:chExt cx="74520" cy="200880"/>
                    </a:xfrm>
                  </p:grpSpPr>
                  <p:cxnSp>
                    <p:nvCxnSpPr>
                      <p:cNvPr id="2146" name="AutoShape 687"/>
                      <p:cNvCxnSpPr/>
                      <p:nvPr/>
                    </p:nvCxnSpPr>
                    <p:spPr>
                      <a:xfrm>
                        <a:off x="5180400" y="3697560"/>
                        <a:ext cx="17640" cy="77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47" name="AutoShape 688"/>
                      <p:cNvCxnSpPr/>
                      <p:nvPr/>
                    </p:nvCxnSpPr>
                    <p:spPr>
                      <a:xfrm>
                        <a:off x="5123160" y="3794400"/>
                        <a:ext cx="43920" cy="104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48" name="AutoShape 689"/>
                      <p:cNvCxnSpPr/>
                      <p:nvPr/>
                    </p:nvCxnSpPr>
                    <p:spPr>
                      <a:xfrm>
                        <a:off x="5151240" y="3725640"/>
                        <a:ext cx="25200" cy="702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49" name="AutoShape 690"/>
                      <p:cNvCxnSpPr/>
                      <p:nvPr/>
                    </p:nvCxnSpPr>
                    <p:spPr>
                      <a:xfrm>
                        <a:off x="5142240" y="3775680"/>
                        <a:ext cx="28440" cy="67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50" name="Group 691"/>
                    <p:cNvGrpSpPr/>
                    <p:nvPr/>
                  </p:nvGrpSpPr>
                  <p:grpSpPr>
                    <a:xfrm>
                      <a:off x="5200560" y="3715200"/>
                      <a:ext cx="77400" cy="205560"/>
                      <a:chOff x="5200560" y="3715200"/>
                      <a:chExt cx="77400" cy="205560"/>
                    </a:xfrm>
                  </p:grpSpPr>
                  <p:cxnSp>
                    <p:nvCxnSpPr>
                      <p:cNvPr id="2151" name="AutoShape 692"/>
                      <p:cNvCxnSpPr/>
                      <p:nvPr/>
                    </p:nvCxnSpPr>
                    <p:spPr>
                      <a:xfrm>
                        <a:off x="5262480" y="3715200"/>
                        <a:ext cx="15840" cy="78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52" name="AutoShape 693"/>
                      <p:cNvCxnSpPr/>
                      <p:nvPr/>
                    </p:nvCxnSpPr>
                    <p:spPr>
                      <a:xfrm>
                        <a:off x="5200560" y="3815280"/>
                        <a:ext cx="42120" cy="105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53" name="AutoShape 694"/>
                      <p:cNvCxnSpPr/>
                      <p:nvPr/>
                    </p:nvCxnSpPr>
                    <p:spPr>
                      <a:xfrm>
                        <a:off x="5231520" y="3745440"/>
                        <a:ext cx="23760" cy="70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54" name="AutoShape 695"/>
                      <p:cNvCxnSpPr/>
                      <p:nvPr/>
                    </p:nvCxnSpPr>
                    <p:spPr>
                      <a:xfrm>
                        <a:off x="5220720" y="3796200"/>
                        <a:ext cx="27360" cy="680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2155" name="Group 696"/>
                  <p:cNvGrpSpPr/>
                  <p:nvPr/>
                </p:nvGrpSpPr>
                <p:grpSpPr>
                  <a:xfrm>
                    <a:off x="5022720" y="3701880"/>
                    <a:ext cx="370440" cy="348840"/>
                    <a:chOff x="5022720" y="3701880"/>
                    <a:chExt cx="370440" cy="348840"/>
                  </a:xfrm>
                </p:grpSpPr>
                <p:sp>
                  <p:nvSpPr>
                    <p:cNvPr id="2156" name="Arc 697"/>
                    <p:cNvSpPr/>
                    <p:nvPr/>
                  </p:nvSpPr>
                  <p:spPr>
                    <a:xfrm flipV="1" rot="21094200">
                      <a:off x="5042160" y="3718800"/>
                      <a:ext cx="258120" cy="284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7" name="Arc 698"/>
                    <p:cNvSpPr/>
                    <p:nvPr/>
                  </p:nvSpPr>
                  <p:spPr>
                    <a:xfrm flipV="1" rot="245400">
                      <a:off x="5122800" y="3719520"/>
                      <a:ext cx="258840" cy="322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8" name="Arc 699"/>
                    <p:cNvSpPr/>
                    <p:nvPr/>
                  </p:nvSpPr>
                  <p:spPr>
                    <a:xfrm flipV="1">
                      <a:off x="5042160" y="3719520"/>
                      <a:ext cx="148680" cy="284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59" name="Group 700"/>
                <p:cNvGrpSpPr/>
                <p:nvPr/>
              </p:nvGrpSpPr>
              <p:grpSpPr>
                <a:xfrm>
                  <a:off x="4724640" y="3687840"/>
                  <a:ext cx="418680" cy="363960"/>
                  <a:chOff x="4724640" y="3687840"/>
                  <a:chExt cx="418680" cy="363960"/>
                </a:xfrm>
              </p:grpSpPr>
              <p:grpSp>
                <p:nvGrpSpPr>
                  <p:cNvPr id="2160" name="Group 701"/>
                  <p:cNvGrpSpPr/>
                  <p:nvPr/>
                </p:nvGrpSpPr>
                <p:grpSpPr>
                  <a:xfrm>
                    <a:off x="4724640" y="3687840"/>
                    <a:ext cx="318240" cy="245880"/>
                    <a:chOff x="4724640" y="3687840"/>
                    <a:chExt cx="318240" cy="245880"/>
                  </a:xfrm>
                </p:grpSpPr>
                <p:grpSp>
                  <p:nvGrpSpPr>
                    <p:cNvPr id="2161" name="Group 702"/>
                    <p:cNvGrpSpPr/>
                    <p:nvPr/>
                  </p:nvGrpSpPr>
                  <p:grpSpPr>
                    <a:xfrm>
                      <a:off x="4724640" y="3754080"/>
                      <a:ext cx="118800" cy="176400"/>
                      <a:chOff x="4724640" y="3754080"/>
                      <a:chExt cx="118800" cy="176400"/>
                    </a:xfrm>
                  </p:grpSpPr>
                  <p:cxnSp>
                    <p:nvCxnSpPr>
                      <p:cNvPr id="2162" name="AutoShape 703"/>
                      <p:cNvCxnSpPr/>
                      <p:nvPr/>
                    </p:nvCxnSpPr>
                    <p:spPr>
                      <a:xfrm>
                        <a:off x="4724640" y="3754080"/>
                        <a:ext cx="60120" cy="489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63" name="AutoShape 704"/>
                      <p:cNvCxnSpPr/>
                      <p:nvPr/>
                    </p:nvCxnSpPr>
                    <p:spPr>
                      <a:xfrm>
                        <a:off x="4750200" y="3881880"/>
                        <a:ext cx="93600" cy="489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64" name="AutoShape 705"/>
                      <p:cNvCxnSpPr/>
                      <p:nvPr/>
                    </p:nvCxnSpPr>
                    <p:spPr>
                      <a:xfrm>
                        <a:off x="4724640" y="3802320"/>
                        <a:ext cx="60120" cy="36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65" name="AutoShape 706"/>
                      <p:cNvCxnSpPr/>
                      <p:nvPr/>
                    </p:nvCxnSpPr>
                    <p:spPr>
                      <a:xfrm>
                        <a:off x="4750920" y="3850920"/>
                        <a:ext cx="60120" cy="31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66" name="Group 707"/>
                    <p:cNvGrpSpPr/>
                    <p:nvPr/>
                  </p:nvGrpSpPr>
                  <p:grpSpPr>
                    <a:xfrm>
                      <a:off x="4817520" y="3720240"/>
                      <a:ext cx="118800" cy="177120"/>
                      <a:chOff x="4817520" y="3720240"/>
                      <a:chExt cx="118800" cy="177120"/>
                    </a:xfrm>
                  </p:grpSpPr>
                  <p:cxnSp>
                    <p:nvCxnSpPr>
                      <p:cNvPr id="2167" name="AutoShape 708"/>
                      <p:cNvCxnSpPr/>
                      <p:nvPr/>
                    </p:nvCxnSpPr>
                    <p:spPr>
                      <a:xfrm>
                        <a:off x="4817520" y="3720240"/>
                        <a:ext cx="60120" cy="49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68" name="AutoShape 709"/>
                      <p:cNvCxnSpPr/>
                      <p:nvPr/>
                    </p:nvCxnSpPr>
                    <p:spPr>
                      <a:xfrm>
                        <a:off x="4843080" y="3848400"/>
                        <a:ext cx="93600" cy="49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69" name="AutoShape 710"/>
                      <p:cNvCxnSpPr/>
                      <p:nvPr/>
                    </p:nvCxnSpPr>
                    <p:spPr>
                      <a:xfrm>
                        <a:off x="4817520" y="3768840"/>
                        <a:ext cx="60120" cy="37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70" name="AutoShape 711"/>
                      <p:cNvCxnSpPr/>
                      <p:nvPr/>
                    </p:nvCxnSpPr>
                    <p:spPr>
                      <a:xfrm>
                        <a:off x="4843800" y="3817800"/>
                        <a:ext cx="60120" cy="31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71" name="Group 712"/>
                    <p:cNvGrpSpPr/>
                    <p:nvPr/>
                  </p:nvGrpSpPr>
                  <p:grpSpPr>
                    <a:xfrm>
                      <a:off x="4925880" y="3687840"/>
                      <a:ext cx="85320" cy="199440"/>
                      <a:chOff x="4925880" y="3687840"/>
                      <a:chExt cx="85320" cy="199440"/>
                    </a:xfrm>
                  </p:grpSpPr>
                  <p:cxnSp>
                    <p:nvCxnSpPr>
                      <p:cNvPr id="2172" name="AutoShape 713"/>
                      <p:cNvCxnSpPr/>
                      <p:nvPr/>
                    </p:nvCxnSpPr>
                    <p:spPr>
                      <a:xfrm>
                        <a:off x="4937040" y="3687840"/>
                        <a:ext cx="47160" cy="61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73" name="AutoShape 714"/>
                      <p:cNvCxnSpPr/>
                      <p:nvPr/>
                    </p:nvCxnSpPr>
                    <p:spPr>
                      <a:xfrm>
                        <a:off x="4932000" y="3818160"/>
                        <a:ext cx="79560" cy="694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74" name="AutoShape 715"/>
                      <p:cNvCxnSpPr/>
                      <p:nvPr/>
                    </p:nvCxnSpPr>
                    <p:spPr>
                      <a:xfrm>
                        <a:off x="4925880" y="3735000"/>
                        <a:ext cx="49680" cy="496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75" name="AutoShape 716"/>
                      <p:cNvCxnSpPr/>
                      <p:nvPr/>
                    </p:nvCxnSpPr>
                    <p:spPr>
                      <a:xfrm>
                        <a:off x="4939920" y="3788280"/>
                        <a:ext cx="51120" cy="446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76" name="Group 717"/>
                    <p:cNvGrpSpPr/>
                    <p:nvPr/>
                  </p:nvGrpSpPr>
                  <p:grpSpPr>
                    <a:xfrm>
                      <a:off x="4777560" y="3728160"/>
                      <a:ext cx="77400" cy="205560"/>
                      <a:chOff x="4777560" y="3728160"/>
                      <a:chExt cx="77400" cy="205560"/>
                    </a:xfrm>
                  </p:grpSpPr>
                  <p:cxnSp>
                    <p:nvCxnSpPr>
                      <p:cNvPr id="2177" name="AutoShape 718"/>
                      <p:cNvCxnSpPr/>
                      <p:nvPr/>
                    </p:nvCxnSpPr>
                    <p:spPr>
                      <a:xfrm flipH="1">
                        <a:off x="4777560" y="3728160"/>
                        <a:ext cx="15840" cy="78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78" name="AutoShape 719"/>
                      <p:cNvCxnSpPr/>
                      <p:nvPr/>
                    </p:nvCxnSpPr>
                    <p:spPr>
                      <a:xfrm flipH="1">
                        <a:off x="4813200" y="3828240"/>
                        <a:ext cx="42120" cy="105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79" name="AutoShape 720"/>
                      <p:cNvCxnSpPr/>
                      <p:nvPr/>
                    </p:nvCxnSpPr>
                    <p:spPr>
                      <a:xfrm flipH="1">
                        <a:off x="4800600" y="3758400"/>
                        <a:ext cx="23760" cy="70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80" name="AutoShape 721"/>
                      <p:cNvCxnSpPr/>
                      <p:nvPr/>
                    </p:nvCxnSpPr>
                    <p:spPr>
                      <a:xfrm flipH="1">
                        <a:off x="4807800" y="3809160"/>
                        <a:ext cx="27360" cy="680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81" name="Group 722"/>
                    <p:cNvGrpSpPr/>
                    <p:nvPr/>
                  </p:nvGrpSpPr>
                  <p:grpSpPr>
                    <a:xfrm>
                      <a:off x="4968360" y="3698640"/>
                      <a:ext cx="74520" cy="200880"/>
                      <a:chOff x="4968360" y="3698640"/>
                      <a:chExt cx="74520" cy="200880"/>
                    </a:xfrm>
                  </p:grpSpPr>
                  <p:cxnSp>
                    <p:nvCxnSpPr>
                      <p:cNvPr id="2182" name="AutoShape 723"/>
                      <p:cNvCxnSpPr/>
                      <p:nvPr/>
                    </p:nvCxnSpPr>
                    <p:spPr>
                      <a:xfrm flipH="1">
                        <a:off x="4968360" y="3698640"/>
                        <a:ext cx="17640" cy="77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83" name="AutoShape 724"/>
                      <p:cNvCxnSpPr/>
                      <p:nvPr/>
                    </p:nvCxnSpPr>
                    <p:spPr>
                      <a:xfrm flipH="1">
                        <a:off x="4999320" y="3795480"/>
                        <a:ext cx="43920" cy="104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84" name="AutoShape 725"/>
                      <p:cNvCxnSpPr/>
                      <p:nvPr/>
                    </p:nvCxnSpPr>
                    <p:spPr>
                      <a:xfrm flipH="1">
                        <a:off x="4989960" y="3726720"/>
                        <a:ext cx="25200" cy="702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85" name="AutoShape 726"/>
                      <p:cNvCxnSpPr/>
                      <p:nvPr/>
                    </p:nvCxnSpPr>
                    <p:spPr>
                      <a:xfrm flipH="1">
                        <a:off x="4995720" y="3776760"/>
                        <a:ext cx="28440" cy="673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186" name="Group 727"/>
                    <p:cNvGrpSpPr/>
                    <p:nvPr/>
                  </p:nvGrpSpPr>
                  <p:grpSpPr>
                    <a:xfrm>
                      <a:off x="4888080" y="3716280"/>
                      <a:ext cx="77400" cy="205560"/>
                      <a:chOff x="4888080" y="3716280"/>
                      <a:chExt cx="77400" cy="205560"/>
                    </a:xfrm>
                  </p:grpSpPr>
                  <p:cxnSp>
                    <p:nvCxnSpPr>
                      <p:cNvPr id="2187" name="AutoShape 728"/>
                      <p:cNvCxnSpPr/>
                      <p:nvPr/>
                    </p:nvCxnSpPr>
                    <p:spPr>
                      <a:xfrm flipH="1">
                        <a:off x="4888080" y="3716280"/>
                        <a:ext cx="15840" cy="78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88" name="AutoShape 729"/>
                      <p:cNvCxnSpPr/>
                      <p:nvPr/>
                    </p:nvCxnSpPr>
                    <p:spPr>
                      <a:xfrm flipH="1">
                        <a:off x="4923720" y="3816360"/>
                        <a:ext cx="42120" cy="105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89" name="AutoShape 730"/>
                      <p:cNvCxnSpPr/>
                      <p:nvPr/>
                    </p:nvCxnSpPr>
                    <p:spPr>
                      <a:xfrm flipH="1">
                        <a:off x="4911120" y="3746520"/>
                        <a:ext cx="23760" cy="709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190" name="AutoShape 731"/>
                      <p:cNvCxnSpPr/>
                      <p:nvPr/>
                    </p:nvCxnSpPr>
                    <p:spPr>
                      <a:xfrm flipH="1">
                        <a:off x="4918320" y="3797280"/>
                        <a:ext cx="27360" cy="680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2191" name="Group 732"/>
                  <p:cNvGrpSpPr/>
                  <p:nvPr/>
                </p:nvGrpSpPr>
                <p:grpSpPr>
                  <a:xfrm>
                    <a:off x="4772880" y="3702960"/>
                    <a:ext cx="370440" cy="348840"/>
                    <a:chOff x="4772880" y="3702960"/>
                    <a:chExt cx="370440" cy="348840"/>
                  </a:xfrm>
                </p:grpSpPr>
                <p:sp>
                  <p:nvSpPr>
                    <p:cNvPr id="2192" name="Arc 733"/>
                    <p:cNvSpPr/>
                    <p:nvPr/>
                  </p:nvSpPr>
                  <p:spPr>
                    <a:xfrm flipH="1" flipV="1" rot="505800">
                      <a:off x="4865400" y="3719880"/>
                      <a:ext cx="258120" cy="284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3" name="Arc 734"/>
                    <p:cNvSpPr/>
                    <p:nvPr/>
                  </p:nvSpPr>
                  <p:spPr>
                    <a:xfrm flipH="1" flipV="1" rot="21354600">
                      <a:off x="4783320" y="3720600"/>
                      <a:ext cx="258840" cy="322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4" name="Arc 735"/>
                    <p:cNvSpPr/>
                    <p:nvPr/>
                  </p:nvSpPr>
                  <p:spPr>
                    <a:xfrm flipH="1" flipV="1">
                      <a:off x="4974840" y="3720600"/>
                      <a:ext cx="148680" cy="284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95" name="Group 736"/>
                <p:cNvGrpSpPr/>
                <p:nvPr/>
              </p:nvGrpSpPr>
              <p:grpSpPr>
                <a:xfrm>
                  <a:off x="4824720" y="3979080"/>
                  <a:ext cx="526680" cy="334800"/>
                  <a:chOff x="4824720" y="3979080"/>
                  <a:chExt cx="526680" cy="334800"/>
                </a:xfrm>
              </p:grpSpPr>
              <p:sp>
                <p:nvSpPr>
                  <p:cNvPr id="2196" name="Freeform 737"/>
                  <p:cNvSpPr/>
                  <p:nvPr/>
                </p:nvSpPr>
                <p:spPr>
                  <a:xfrm>
                    <a:off x="5070600" y="4041360"/>
                    <a:ext cx="142560" cy="233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7" name="Freeform 738"/>
                  <p:cNvSpPr/>
                  <p:nvPr/>
                </p:nvSpPr>
                <p:spPr>
                  <a:xfrm>
                    <a:off x="5090400" y="4029120"/>
                    <a:ext cx="183600" cy="156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Freeform 739"/>
                  <p:cNvSpPr/>
                  <p:nvPr/>
                </p:nvSpPr>
                <p:spPr>
                  <a:xfrm rot="772200">
                    <a:off x="4863600" y="3995640"/>
                    <a:ext cx="177480" cy="253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Freeform 740"/>
                  <p:cNvSpPr/>
                  <p:nvPr/>
                </p:nvSpPr>
                <p:spPr>
                  <a:xfrm>
                    <a:off x="5070240" y="4027320"/>
                    <a:ext cx="185400" cy="207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0" name="Rectangle 741"/>
                  <p:cNvSpPr/>
                  <p:nvPr/>
                </p:nvSpPr>
                <p:spPr>
                  <a:xfrm>
                    <a:off x="5041440" y="4002840"/>
                    <a:ext cx="78480" cy="64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1" name="Freeform 742"/>
                  <p:cNvSpPr/>
                  <p:nvPr/>
                </p:nvSpPr>
                <p:spPr>
                  <a:xfrm rot="1519200">
                    <a:off x="5070600" y="4076640"/>
                    <a:ext cx="185400" cy="207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2" name="Group 743"/>
                  <p:cNvGrpSpPr/>
                  <p:nvPr/>
                </p:nvGrpSpPr>
                <p:grpSpPr>
                  <a:xfrm>
                    <a:off x="4824720" y="4020480"/>
                    <a:ext cx="292680" cy="263520"/>
                    <a:chOff x="4824720" y="4020480"/>
                    <a:chExt cx="292680" cy="263520"/>
                  </a:xfrm>
                </p:grpSpPr>
                <p:sp>
                  <p:nvSpPr>
                    <p:cNvPr id="2203" name="Freeform 744"/>
                    <p:cNvSpPr/>
                    <p:nvPr/>
                  </p:nvSpPr>
                  <p:spPr>
                    <a:xfrm>
                      <a:off x="4838040" y="4027320"/>
                      <a:ext cx="211320" cy="128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4" name="Freeform 745"/>
                    <p:cNvSpPr/>
                    <p:nvPr/>
                  </p:nvSpPr>
                  <p:spPr>
                    <a:xfrm>
                      <a:off x="4950000" y="4029480"/>
                      <a:ext cx="99360" cy="254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5" name="Freeform 746"/>
                    <p:cNvSpPr/>
                    <p:nvPr/>
                  </p:nvSpPr>
                  <p:spPr>
                    <a:xfrm>
                      <a:off x="4824720" y="4020480"/>
                      <a:ext cx="224640" cy="8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6" name="Freeform 747"/>
                    <p:cNvSpPr/>
                    <p:nvPr/>
                  </p:nvSpPr>
                  <p:spPr>
                    <a:xfrm flipH="1" rot="21135600">
                      <a:off x="4863960" y="4040280"/>
                      <a:ext cx="185400" cy="2077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7" name="Freeform 748"/>
                    <p:cNvSpPr/>
                    <p:nvPr/>
                  </p:nvSpPr>
                  <p:spPr>
                    <a:xfrm rot="18567600">
                      <a:off x="4900320" y="4110120"/>
                      <a:ext cx="224640" cy="8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8" name="Group 749"/>
                  <p:cNvGrpSpPr/>
                  <p:nvPr/>
                </p:nvGrpSpPr>
                <p:grpSpPr>
                  <a:xfrm>
                    <a:off x="5058720" y="4002840"/>
                    <a:ext cx="292680" cy="263520"/>
                    <a:chOff x="5058720" y="4002840"/>
                    <a:chExt cx="292680" cy="263520"/>
                  </a:xfrm>
                </p:grpSpPr>
                <p:sp>
                  <p:nvSpPr>
                    <p:cNvPr id="2209" name="Freeform 750"/>
                    <p:cNvSpPr/>
                    <p:nvPr/>
                  </p:nvSpPr>
                  <p:spPr>
                    <a:xfrm flipH="1">
                      <a:off x="5126400" y="4009680"/>
                      <a:ext cx="211320" cy="128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0" name="Freeform 751"/>
                    <p:cNvSpPr/>
                    <p:nvPr/>
                  </p:nvSpPr>
                  <p:spPr>
                    <a:xfrm flipH="1">
                      <a:off x="5126760" y="4011840"/>
                      <a:ext cx="99360" cy="254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1" name="Freeform 752"/>
                    <p:cNvSpPr/>
                    <p:nvPr/>
                  </p:nvSpPr>
                  <p:spPr>
                    <a:xfrm flipH="1">
                      <a:off x="5126760" y="4002840"/>
                      <a:ext cx="224640" cy="8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2" name="Freeform 753"/>
                    <p:cNvSpPr/>
                    <p:nvPr/>
                  </p:nvSpPr>
                  <p:spPr>
                    <a:xfrm rot="464400">
                      <a:off x="5127120" y="4022640"/>
                      <a:ext cx="185400" cy="2077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3" name="Freeform 754"/>
                    <p:cNvSpPr/>
                    <p:nvPr/>
                  </p:nvSpPr>
                  <p:spPr>
                    <a:xfrm flipH="1" rot="3032400">
                      <a:off x="5050440" y="4092840"/>
                      <a:ext cx="224640" cy="8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14" name="Group 755"/>
              <p:cNvGrpSpPr/>
              <p:nvPr/>
            </p:nvGrpSpPr>
            <p:grpSpPr>
              <a:xfrm>
                <a:off x="5505120" y="3609720"/>
                <a:ext cx="403200" cy="767520"/>
                <a:chOff x="5505120" y="3609720"/>
                <a:chExt cx="403200" cy="767520"/>
              </a:xfrm>
            </p:grpSpPr>
            <p:grpSp>
              <p:nvGrpSpPr>
                <p:cNvPr id="2215" name="Group 756"/>
                <p:cNvGrpSpPr/>
                <p:nvPr/>
              </p:nvGrpSpPr>
              <p:grpSpPr>
                <a:xfrm>
                  <a:off x="5505120" y="3609720"/>
                  <a:ext cx="403200" cy="394920"/>
                  <a:chOff x="5505120" y="3609720"/>
                  <a:chExt cx="403200" cy="394920"/>
                </a:xfrm>
              </p:grpSpPr>
              <p:sp>
                <p:nvSpPr>
                  <p:cNvPr id="2216" name="Arc 757"/>
                  <p:cNvSpPr/>
                  <p:nvPr/>
                </p:nvSpPr>
                <p:spPr>
                  <a:xfrm rot="13800000">
                    <a:off x="5581800" y="3648240"/>
                    <a:ext cx="249480" cy="317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Line 758"/>
                  <p:cNvSpPr/>
                  <p:nvPr/>
                </p:nvSpPr>
                <p:spPr>
                  <a:xfrm flipH="1" flipV="1">
                    <a:off x="5577840" y="3633120"/>
                    <a:ext cx="61560" cy="7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8" name="Group 759"/>
                <p:cNvGrpSpPr/>
                <p:nvPr/>
              </p:nvGrpSpPr>
              <p:grpSpPr>
                <a:xfrm>
                  <a:off x="5570280" y="3962880"/>
                  <a:ext cx="213480" cy="414360"/>
                  <a:chOff x="5570280" y="3962880"/>
                  <a:chExt cx="213480" cy="414360"/>
                </a:xfrm>
              </p:grpSpPr>
              <p:sp>
                <p:nvSpPr>
                  <p:cNvPr id="2219" name="Freeform 760"/>
                  <p:cNvSpPr/>
                  <p:nvPr/>
                </p:nvSpPr>
                <p:spPr>
                  <a:xfrm>
                    <a:off x="5665680" y="3976920"/>
                    <a:ext cx="61200" cy="312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Freeform 761"/>
                  <p:cNvSpPr/>
                  <p:nvPr/>
                </p:nvSpPr>
                <p:spPr>
                  <a:xfrm rot="21000000">
                    <a:off x="5695200" y="3964680"/>
                    <a:ext cx="56520" cy="374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Freeform 762"/>
                  <p:cNvSpPr/>
                  <p:nvPr/>
                </p:nvSpPr>
                <p:spPr>
                  <a:xfrm flipH="1" rot="600000">
                    <a:off x="5601600" y="4000320"/>
                    <a:ext cx="56520" cy="374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2" name="Oval 763"/>
                <p:cNvSpPr/>
                <p:nvPr/>
              </p:nvSpPr>
              <p:spPr>
                <a:xfrm rot="1800000">
                  <a:off x="5665320" y="3903480"/>
                  <a:ext cx="48240" cy="80280"/>
                </a:xfrm>
                <a:prstGeom prst="ellipse">
                  <a:avLst/>
                </a:prstGeom>
                <a:solidFill>
                  <a:srgbClr val="bfbf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23" name="TextBox 1124"/>
            <p:cNvSpPr/>
            <p:nvPr/>
          </p:nvSpPr>
          <p:spPr>
            <a:xfrm>
              <a:off x="5715000" y="4343760"/>
              <a:ext cx="533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4" name="Группа 1130"/>
          <p:cNvGrpSpPr/>
          <p:nvPr/>
        </p:nvGrpSpPr>
        <p:grpSpPr>
          <a:xfrm>
            <a:off x="7467480" y="3124080"/>
            <a:ext cx="1067040" cy="1679400"/>
            <a:chOff x="7467480" y="3124080"/>
            <a:chExt cx="1067040" cy="1679400"/>
          </a:xfrm>
        </p:grpSpPr>
        <p:grpSp>
          <p:nvGrpSpPr>
            <p:cNvPr id="2225" name="Group 764"/>
            <p:cNvGrpSpPr/>
            <p:nvPr/>
          </p:nvGrpSpPr>
          <p:grpSpPr>
            <a:xfrm>
              <a:off x="7467480" y="3124080"/>
              <a:ext cx="1067040" cy="1264680"/>
              <a:chOff x="7467480" y="3124080"/>
              <a:chExt cx="1067040" cy="1264680"/>
            </a:xfrm>
          </p:grpSpPr>
          <p:sp>
            <p:nvSpPr>
              <p:cNvPr id="2226" name="Freeform 765"/>
              <p:cNvSpPr/>
              <p:nvPr/>
            </p:nvSpPr>
            <p:spPr>
              <a:xfrm flipV="1">
                <a:off x="7467480" y="4023720"/>
                <a:ext cx="1067040" cy="81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7" name="Group 766"/>
              <p:cNvGrpSpPr/>
              <p:nvPr/>
            </p:nvGrpSpPr>
            <p:grpSpPr>
              <a:xfrm>
                <a:off x="7531920" y="3124080"/>
                <a:ext cx="750600" cy="1264680"/>
                <a:chOff x="7531920" y="3124080"/>
                <a:chExt cx="750600" cy="1264680"/>
              </a:xfrm>
            </p:grpSpPr>
            <p:sp>
              <p:nvSpPr>
                <p:cNvPr id="2228" name="Line 767"/>
                <p:cNvSpPr/>
                <p:nvPr/>
              </p:nvSpPr>
              <p:spPr>
                <a:xfrm>
                  <a:off x="7909560" y="3288240"/>
                  <a:ext cx="4680" cy="77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AutoShape 768"/>
                <p:cNvSpPr/>
                <p:nvPr/>
              </p:nvSpPr>
              <p:spPr>
                <a:xfrm rot="10800000">
                  <a:off x="7833960" y="3124080"/>
                  <a:ext cx="149760" cy="169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Arc 769"/>
                <p:cNvSpPr/>
                <p:nvPr/>
              </p:nvSpPr>
              <p:spPr>
                <a:xfrm flipV="1">
                  <a:off x="7909560" y="3421800"/>
                  <a:ext cx="75600" cy="147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Arc 770"/>
                <p:cNvSpPr/>
                <p:nvPr/>
              </p:nvSpPr>
              <p:spPr>
                <a:xfrm flipH="1" flipV="1" rot="1816200">
                  <a:off x="7950960" y="3326400"/>
                  <a:ext cx="48240" cy="100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Line 771"/>
                <p:cNvSpPr/>
                <p:nvPr/>
              </p:nvSpPr>
              <p:spPr>
                <a:xfrm flipV="1">
                  <a:off x="7920000" y="3339720"/>
                  <a:ext cx="113400" cy="23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Line 772"/>
                <p:cNvSpPr/>
                <p:nvPr/>
              </p:nvSpPr>
              <p:spPr>
                <a:xfrm flipV="1">
                  <a:off x="7981200" y="3330720"/>
                  <a:ext cx="144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AutoShape 773"/>
                <p:cNvSpPr/>
                <p:nvPr/>
              </p:nvSpPr>
              <p:spPr>
                <a:xfrm rot="14044200">
                  <a:off x="7998480" y="3267000"/>
                  <a:ext cx="150840" cy="106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AutoShape 774"/>
                <p:cNvSpPr/>
                <p:nvPr/>
              </p:nvSpPr>
              <p:spPr>
                <a:xfrm rot="10800000">
                  <a:off x="7936920" y="3250800"/>
                  <a:ext cx="83160" cy="101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Arc 775"/>
                <p:cNvSpPr/>
                <p:nvPr/>
              </p:nvSpPr>
              <p:spPr>
                <a:xfrm flipH="1" flipV="1">
                  <a:off x="7851600" y="3746160"/>
                  <a:ext cx="67320" cy="126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Arc 776"/>
                <p:cNvSpPr/>
                <p:nvPr/>
              </p:nvSpPr>
              <p:spPr>
                <a:xfrm flipV="1" rot="19780800">
                  <a:off x="7833960" y="3623760"/>
                  <a:ext cx="40680" cy="65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Line 777"/>
                <p:cNvSpPr/>
                <p:nvPr/>
              </p:nvSpPr>
              <p:spPr>
                <a:xfrm>
                  <a:off x="7781400" y="3598920"/>
                  <a:ext cx="166680" cy="2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AutoShape 778"/>
                <p:cNvSpPr/>
                <p:nvPr/>
              </p:nvSpPr>
              <p:spPr>
                <a:xfrm flipH="1" rot="8721600">
                  <a:off x="7688160" y="3503880"/>
                  <a:ext cx="134640" cy="106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0" name="Group 779"/>
                <p:cNvGrpSpPr/>
                <p:nvPr/>
              </p:nvGrpSpPr>
              <p:grpSpPr>
                <a:xfrm>
                  <a:off x="7844400" y="3745440"/>
                  <a:ext cx="438120" cy="373320"/>
                  <a:chOff x="7844400" y="3745440"/>
                  <a:chExt cx="438120" cy="373320"/>
                </a:xfrm>
              </p:grpSpPr>
              <p:grpSp>
                <p:nvGrpSpPr>
                  <p:cNvPr id="2241" name="Group 780"/>
                  <p:cNvGrpSpPr/>
                  <p:nvPr/>
                </p:nvGrpSpPr>
                <p:grpSpPr>
                  <a:xfrm>
                    <a:off x="7949880" y="3745440"/>
                    <a:ext cx="332640" cy="253800"/>
                    <a:chOff x="7949880" y="3745440"/>
                    <a:chExt cx="332640" cy="253800"/>
                  </a:xfrm>
                </p:grpSpPr>
                <p:grpSp>
                  <p:nvGrpSpPr>
                    <p:cNvPr id="2242" name="Group 781"/>
                    <p:cNvGrpSpPr/>
                    <p:nvPr/>
                  </p:nvGrpSpPr>
                  <p:grpSpPr>
                    <a:xfrm>
                      <a:off x="8157960" y="3813480"/>
                      <a:ext cx="124560" cy="181440"/>
                      <a:chOff x="8157960" y="3813480"/>
                      <a:chExt cx="124560" cy="181440"/>
                    </a:xfrm>
                  </p:grpSpPr>
                  <p:cxnSp>
                    <p:nvCxnSpPr>
                      <p:cNvPr id="2243" name="AutoShape 782"/>
                      <p:cNvCxnSpPr/>
                      <p:nvPr/>
                    </p:nvCxnSpPr>
                    <p:spPr>
                      <a:xfrm flipH="1">
                        <a:off x="8219880" y="3813480"/>
                        <a:ext cx="63000" cy="50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44" name="AutoShape 783"/>
                      <p:cNvCxnSpPr/>
                      <p:nvPr/>
                    </p:nvCxnSpPr>
                    <p:spPr>
                      <a:xfrm flipH="1">
                        <a:off x="8157960" y="3944880"/>
                        <a:ext cx="97920" cy="50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45" name="AutoShape 784"/>
                      <p:cNvCxnSpPr/>
                      <p:nvPr/>
                    </p:nvCxnSpPr>
                    <p:spPr>
                      <a:xfrm flipH="1">
                        <a:off x="8219880" y="3862800"/>
                        <a:ext cx="63000" cy="378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46" name="AutoShape 785"/>
                      <p:cNvCxnSpPr/>
                      <p:nvPr/>
                    </p:nvCxnSpPr>
                    <p:spPr>
                      <a:xfrm flipH="1">
                        <a:off x="8192160" y="3912840"/>
                        <a:ext cx="63000" cy="32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247" name="Group 786"/>
                    <p:cNvGrpSpPr/>
                    <p:nvPr/>
                  </p:nvGrpSpPr>
                  <p:grpSpPr>
                    <a:xfrm>
                      <a:off x="8060760" y="3778920"/>
                      <a:ext cx="124560" cy="181440"/>
                      <a:chOff x="8060760" y="3778920"/>
                      <a:chExt cx="124560" cy="181440"/>
                    </a:xfrm>
                  </p:grpSpPr>
                  <p:cxnSp>
                    <p:nvCxnSpPr>
                      <p:cNvPr id="2248" name="AutoShape 787"/>
                      <p:cNvCxnSpPr/>
                      <p:nvPr/>
                    </p:nvCxnSpPr>
                    <p:spPr>
                      <a:xfrm flipH="1">
                        <a:off x="8122680" y="3778920"/>
                        <a:ext cx="63000" cy="50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49" name="AutoShape 788"/>
                      <p:cNvCxnSpPr/>
                      <p:nvPr/>
                    </p:nvCxnSpPr>
                    <p:spPr>
                      <a:xfrm flipH="1">
                        <a:off x="8060760" y="3910320"/>
                        <a:ext cx="97920" cy="50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50" name="AutoShape 789"/>
                      <p:cNvCxnSpPr/>
                      <p:nvPr/>
                    </p:nvCxnSpPr>
                    <p:spPr>
                      <a:xfrm flipH="1">
                        <a:off x="8122680" y="3828240"/>
                        <a:ext cx="63000" cy="378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51" name="AutoShape 790"/>
                      <p:cNvCxnSpPr/>
                      <p:nvPr/>
                    </p:nvCxnSpPr>
                    <p:spPr>
                      <a:xfrm flipH="1">
                        <a:off x="8094960" y="3878640"/>
                        <a:ext cx="63000" cy="32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252" name="Group 791"/>
                    <p:cNvGrpSpPr/>
                    <p:nvPr/>
                  </p:nvGrpSpPr>
                  <p:grpSpPr>
                    <a:xfrm>
                      <a:off x="7981920" y="3745440"/>
                      <a:ext cx="90360" cy="205560"/>
                      <a:chOff x="7981920" y="3745440"/>
                      <a:chExt cx="90360" cy="205560"/>
                    </a:xfrm>
                  </p:grpSpPr>
                  <p:cxnSp>
                    <p:nvCxnSpPr>
                      <p:cNvPr id="2253" name="AutoShape 792"/>
                      <p:cNvCxnSpPr/>
                      <p:nvPr/>
                    </p:nvCxnSpPr>
                    <p:spPr>
                      <a:xfrm flipH="1">
                        <a:off x="8011440" y="3745440"/>
                        <a:ext cx="49320" cy="63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54" name="AutoShape 793"/>
                      <p:cNvCxnSpPr/>
                      <p:nvPr/>
                    </p:nvCxnSpPr>
                    <p:spPr>
                      <a:xfrm flipH="1">
                        <a:off x="7981920" y="3879360"/>
                        <a:ext cx="83520" cy="720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55" name="AutoShape 794"/>
                      <p:cNvCxnSpPr/>
                      <p:nvPr/>
                    </p:nvCxnSpPr>
                    <p:spPr>
                      <a:xfrm flipH="1">
                        <a:off x="8020080" y="3793320"/>
                        <a:ext cx="52560" cy="514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56" name="AutoShape 795"/>
                      <p:cNvCxnSpPr/>
                      <p:nvPr/>
                    </p:nvCxnSpPr>
                    <p:spPr>
                      <a:xfrm flipH="1">
                        <a:off x="8003520" y="3848400"/>
                        <a:ext cx="53640" cy="46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257" name="Group 796"/>
                    <p:cNvGrpSpPr/>
                    <p:nvPr/>
                  </p:nvGrpSpPr>
                  <p:grpSpPr>
                    <a:xfrm>
                      <a:off x="8147160" y="3785400"/>
                      <a:ext cx="79920" cy="213840"/>
                      <a:chOff x="8147160" y="3785400"/>
                      <a:chExt cx="79920" cy="213840"/>
                    </a:xfrm>
                  </p:grpSpPr>
                  <p:cxnSp>
                    <p:nvCxnSpPr>
                      <p:cNvPr id="2258" name="AutoShape 797"/>
                      <p:cNvCxnSpPr/>
                      <p:nvPr/>
                    </p:nvCxnSpPr>
                    <p:spPr>
                      <a:xfrm>
                        <a:off x="8211600" y="3785400"/>
                        <a:ext cx="15840" cy="81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59" name="AutoShape 798"/>
                      <p:cNvCxnSpPr/>
                      <p:nvPr/>
                    </p:nvCxnSpPr>
                    <p:spPr>
                      <a:xfrm>
                        <a:off x="8147160" y="3890520"/>
                        <a:ext cx="42480" cy="109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60" name="AutoShape 799"/>
                      <p:cNvCxnSpPr/>
                      <p:nvPr/>
                    </p:nvCxnSpPr>
                    <p:spPr>
                      <a:xfrm>
                        <a:off x="8179200" y="3817080"/>
                        <a:ext cx="23760" cy="734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61" name="AutoShape 800"/>
                      <p:cNvCxnSpPr/>
                      <p:nvPr/>
                    </p:nvCxnSpPr>
                    <p:spPr>
                      <a:xfrm>
                        <a:off x="8168040" y="3870360"/>
                        <a:ext cx="27360" cy="69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262" name="Group 801"/>
                    <p:cNvGrpSpPr/>
                    <p:nvPr/>
                  </p:nvGrpSpPr>
                  <p:grpSpPr>
                    <a:xfrm>
                      <a:off x="7949880" y="3755520"/>
                      <a:ext cx="77760" cy="208080"/>
                      <a:chOff x="7949880" y="3755520"/>
                      <a:chExt cx="77760" cy="208080"/>
                    </a:xfrm>
                  </p:grpSpPr>
                  <p:cxnSp>
                    <p:nvCxnSpPr>
                      <p:cNvPr id="2263" name="AutoShape 802"/>
                      <p:cNvCxnSpPr/>
                      <p:nvPr/>
                    </p:nvCxnSpPr>
                    <p:spPr>
                      <a:xfrm>
                        <a:off x="8010720" y="3755520"/>
                        <a:ext cx="17280" cy="802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64" name="AutoShape 803"/>
                      <p:cNvCxnSpPr/>
                      <p:nvPr/>
                    </p:nvCxnSpPr>
                    <p:spPr>
                      <a:xfrm>
                        <a:off x="7949880" y="3856320"/>
                        <a:ext cx="44280" cy="1076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65" name="AutoShape 804"/>
                      <p:cNvCxnSpPr/>
                      <p:nvPr/>
                    </p:nvCxnSpPr>
                    <p:spPr>
                      <a:xfrm>
                        <a:off x="7979760" y="3785400"/>
                        <a:ext cx="25560" cy="723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66" name="AutoShape 805"/>
                      <p:cNvCxnSpPr/>
                      <p:nvPr/>
                    </p:nvCxnSpPr>
                    <p:spPr>
                      <a:xfrm>
                        <a:off x="7970040" y="3837600"/>
                        <a:ext cx="28800" cy="691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267" name="Group 806"/>
                    <p:cNvGrpSpPr/>
                    <p:nvPr/>
                  </p:nvGrpSpPr>
                  <p:grpSpPr>
                    <a:xfrm>
                      <a:off x="8031240" y="3773160"/>
                      <a:ext cx="79920" cy="213840"/>
                      <a:chOff x="8031240" y="3773160"/>
                      <a:chExt cx="79920" cy="213840"/>
                    </a:xfrm>
                  </p:grpSpPr>
                  <p:cxnSp>
                    <p:nvCxnSpPr>
                      <p:cNvPr id="2268" name="AutoShape 807"/>
                      <p:cNvCxnSpPr/>
                      <p:nvPr/>
                    </p:nvCxnSpPr>
                    <p:spPr>
                      <a:xfrm>
                        <a:off x="8095680" y="3773160"/>
                        <a:ext cx="15840" cy="81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69" name="AutoShape 808"/>
                      <p:cNvCxnSpPr/>
                      <p:nvPr/>
                    </p:nvCxnSpPr>
                    <p:spPr>
                      <a:xfrm>
                        <a:off x="8031240" y="3878280"/>
                        <a:ext cx="42480" cy="109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70" name="AutoShape 809"/>
                      <p:cNvCxnSpPr/>
                      <p:nvPr/>
                    </p:nvCxnSpPr>
                    <p:spPr>
                      <a:xfrm>
                        <a:off x="8063280" y="3804840"/>
                        <a:ext cx="23760" cy="734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71" name="AutoShape 810"/>
                      <p:cNvCxnSpPr/>
                      <p:nvPr/>
                    </p:nvCxnSpPr>
                    <p:spPr>
                      <a:xfrm>
                        <a:off x="8052120" y="3858120"/>
                        <a:ext cx="27360" cy="69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2272" name="Group 811"/>
                  <p:cNvGrpSpPr/>
                  <p:nvPr/>
                </p:nvGrpSpPr>
                <p:grpSpPr>
                  <a:xfrm>
                    <a:off x="7844400" y="3760200"/>
                    <a:ext cx="387720" cy="358560"/>
                    <a:chOff x="7844400" y="3760200"/>
                    <a:chExt cx="387720" cy="358560"/>
                  </a:xfrm>
                </p:grpSpPr>
                <p:sp>
                  <p:nvSpPr>
                    <p:cNvPr id="2273" name="Arc 812"/>
                    <p:cNvSpPr/>
                    <p:nvPr/>
                  </p:nvSpPr>
                  <p:spPr>
                    <a:xfrm flipV="1" rot="21094200">
                      <a:off x="7864200" y="3777840"/>
                      <a:ext cx="270360" cy="291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4" name="Arc 813"/>
                    <p:cNvSpPr/>
                    <p:nvPr/>
                  </p:nvSpPr>
                  <p:spPr>
                    <a:xfrm flipV="1" rot="245400">
                      <a:off x="7949160" y="3777840"/>
                      <a:ext cx="271080" cy="330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5" name="Arc 814"/>
                    <p:cNvSpPr/>
                    <p:nvPr/>
                  </p:nvSpPr>
                  <p:spPr>
                    <a:xfrm flipV="1">
                      <a:off x="7864560" y="3778920"/>
                      <a:ext cx="155880" cy="291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76" name="Group 815"/>
                <p:cNvGrpSpPr/>
                <p:nvPr/>
              </p:nvGrpSpPr>
              <p:grpSpPr>
                <a:xfrm>
                  <a:off x="7531920" y="3746520"/>
                  <a:ext cx="438120" cy="373320"/>
                  <a:chOff x="7531920" y="3746520"/>
                  <a:chExt cx="438120" cy="373320"/>
                </a:xfrm>
              </p:grpSpPr>
              <p:grpSp>
                <p:nvGrpSpPr>
                  <p:cNvPr id="2277" name="Group 816"/>
                  <p:cNvGrpSpPr/>
                  <p:nvPr/>
                </p:nvGrpSpPr>
                <p:grpSpPr>
                  <a:xfrm>
                    <a:off x="7531920" y="3746520"/>
                    <a:ext cx="332640" cy="253800"/>
                    <a:chOff x="7531920" y="3746520"/>
                    <a:chExt cx="332640" cy="253800"/>
                  </a:xfrm>
                </p:grpSpPr>
                <p:grpSp>
                  <p:nvGrpSpPr>
                    <p:cNvPr id="2278" name="Group 817"/>
                    <p:cNvGrpSpPr/>
                    <p:nvPr/>
                  </p:nvGrpSpPr>
                  <p:grpSpPr>
                    <a:xfrm>
                      <a:off x="7531920" y="3814560"/>
                      <a:ext cx="124560" cy="181440"/>
                      <a:chOff x="7531920" y="3814560"/>
                      <a:chExt cx="124560" cy="181440"/>
                    </a:xfrm>
                  </p:grpSpPr>
                  <p:cxnSp>
                    <p:nvCxnSpPr>
                      <p:cNvPr id="2279" name="AutoShape 818"/>
                      <p:cNvCxnSpPr/>
                      <p:nvPr/>
                    </p:nvCxnSpPr>
                    <p:spPr>
                      <a:xfrm>
                        <a:off x="7531920" y="3814560"/>
                        <a:ext cx="63000" cy="50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80" name="AutoShape 819"/>
                      <p:cNvCxnSpPr/>
                      <p:nvPr/>
                    </p:nvCxnSpPr>
                    <p:spPr>
                      <a:xfrm>
                        <a:off x="7558920" y="3945960"/>
                        <a:ext cx="97920" cy="50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81" name="AutoShape 820"/>
                      <p:cNvCxnSpPr/>
                      <p:nvPr/>
                    </p:nvCxnSpPr>
                    <p:spPr>
                      <a:xfrm>
                        <a:off x="7531920" y="3863880"/>
                        <a:ext cx="63000" cy="378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82" name="AutoShape 821"/>
                      <p:cNvCxnSpPr/>
                      <p:nvPr/>
                    </p:nvCxnSpPr>
                    <p:spPr>
                      <a:xfrm>
                        <a:off x="7559640" y="3913920"/>
                        <a:ext cx="63000" cy="32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283" name="Group 822"/>
                    <p:cNvGrpSpPr/>
                    <p:nvPr/>
                  </p:nvGrpSpPr>
                  <p:grpSpPr>
                    <a:xfrm>
                      <a:off x="7629120" y="3780000"/>
                      <a:ext cx="124560" cy="181440"/>
                      <a:chOff x="7629120" y="3780000"/>
                      <a:chExt cx="124560" cy="181440"/>
                    </a:xfrm>
                  </p:grpSpPr>
                  <p:cxnSp>
                    <p:nvCxnSpPr>
                      <p:cNvPr id="2284" name="AutoShape 823"/>
                      <p:cNvCxnSpPr/>
                      <p:nvPr/>
                    </p:nvCxnSpPr>
                    <p:spPr>
                      <a:xfrm>
                        <a:off x="7629120" y="3780000"/>
                        <a:ext cx="63000" cy="50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85" name="AutoShape 824"/>
                      <p:cNvCxnSpPr/>
                      <p:nvPr/>
                    </p:nvCxnSpPr>
                    <p:spPr>
                      <a:xfrm>
                        <a:off x="7656120" y="3911400"/>
                        <a:ext cx="97920" cy="50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86" name="AutoShape 825"/>
                      <p:cNvCxnSpPr/>
                      <p:nvPr/>
                    </p:nvCxnSpPr>
                    <p:spPr>
                      <a:xfrm>
                        <a:off x="7629120" y="3829320"/>
                        <a:ext cx="63000" cy="378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87" name="AutoShape 826"/>
                      <p:cNvCxnSpPr/>
                      <p:nvPr/>
                    </p:nvCxnSpPr>
                    <p:spPr>
                      <a:xfrm>
                        <a:off x="7656840" y="3879720"/>
                        <a:ext cx="63000" cy="324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288" name="Group 827"/>
                    <p:cNvGrpSpPr/>
                    <p:nvPr/>
                  </p:nvGrpSpPr>
                  <p:grpSpPr>
                    <a:xfrm>
                      <a:off x="7742160" y="3746520"/>
                      <a:ext cx="90360" cy="205560"/>
                      <a:chOff x="7742160" y="3746520"/>
                      <a:chExt cx="90360" cy="205560"/>
                    </a:xfrm>
                  </p:grpSpPr>
                  <p:cxnSp>
                    <p:nvCxnSpPr>
                      <p:cNvPr id="2289" name="AutoShape 828"/>
                      <p:cNvCxnSpPr/>
                      <p:nvPr/>
                    </p:nvCxnSpPr>
                    <p:spPr>
                      <a:xfrm>
                        <a:off x="7754040" y="3746520"/>
                        <a:ext cx="49320" cy="63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90" name="AutoShape 829"/>
                      <p:cNvCxnSpPr/>
                      <p:nvPr/>
                    </p:nvCxnSpPr>
                    <p:spPr>
                      <a:xfrm>
                        <a:off x="7749360" y="3880440"/>
                        <a:ext cx="83520" cy="720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91" name="AutoShape 830"/>
                      <p:cNvCxnSpPr/>
                      <p:nvPr/>
                    </p:nvCxnSpPr>
                    <p:spPr>
                      <a:xfrm>
                        <a:off x="7742160" y="3794400"/>
                        <a:ext cx="52560" cy="514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92" name="AutoShape 831"/>
                      <p:cNvCxnSpPr/>
                      <p:nvPr/>
                    </p:nvCxnSpPr>
                    <p:spPr>
                      <a:xfrm>
                        <a:off x="7757640" y="3849480"/>
                        <a:ext cx="53640" cy="46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293" name="Group 832"/>
                    <p:cNvGrpSpPr/>
                    <p:nvPr/>
                  </p:nvGrpSpPr>
                  <p:grpSpPr>
                    <a:xfrm>
                      <a:off x="7587360" y="3786480"/>
                      <a:ext cx="79920" cy="213840"/>
                      <a:chOff x="7587360" y="3786480"/>
                      <a:chExt cx="79920" cy="213840"/>
                    </a:xfrm>
                  </p:grpSpPr>
                  <p:cxnSp>
                    <p:nvCxnSpPr>
                      <p:cNvPr id="2294" name="AutoShape 833"/>
                      <p:cNvCxnSpPr/>
                      <p:nvPr/>
                    </p:nvCxnSpPr>
                    <p:spPr>
                      <a:xfrm flipH="1">
                        <a:off x="7587360" y="3786480"/>
                        <a:ext cx="15840" cy="81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95" name="AutoShape 834"/>
                      <p:cNvCxnSpPr/>
                      <p:nvPr/>
                    </p:nvCxnSpPr>
                    <p:spPr>
                      <a:xfrm flipH="1">
                        <a:off x="7625160" y="3891600"/>
                        <a:ext cx="42480" cy="109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96" name="AutoShape 835"/>
                      <p:cNvCxnSpPr/>
                      <p:nvPr/>
                    </p:nvCxnSpPr>
                    <p:spPr>
                      <a:xfrm flipH="1">
                        <a:off x="7611840" y="3818160"/>
                        <a:ext cx="23760" cy="734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297" name="AutoShape 836"/>
                      <p:cNvCxnSpPr/>
                      <p:nvPr/>
                    </p:nvCxnSpPr>
                    <p:spPr>
                      <a:xfrm flipH="1">
                        <a:off x="7619400" y="3871440"/>
                        <a:ext cx="27360" cy="69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298" name="Group 837"/>
                    <p:cNvGrpSpPr/>
                    <p:nvPr/>
                  </p:nvGrpSpPr>
                  <p:grpSpPr>
                    <a:xfrm>
                      <a:off x="7786800" y="3756600"/>
                      <a:ext cx="77760" cy="208080"/>
                      <a:chOff x="7786800" y="3756600"/>
                      <a:chExt cx="77760" cy="208080"/>
                    </a:xfrm>
                  </p:grpSpPr>
                  <p:cxnSp>
                    <p:nvCxnSpPr>
                      <p:cNvPr id="2299" name="AutoShape 838"/>
                      <p:cNvCxnSpPr/>
                      <p:nvPr/>
                    </p:nvCxnSpPr>
                    <p:spPr>
                      <a:xfrm flipH="1">
                        <a:off x="7786800" y="3756600"/>
                        <a:ext cx="17280" cy="802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300" name="AutoShape 839"/>
                      <p:cNvCxnSpPr/>
                      <p:nvPr/>
                    </p:nvCxnSpPr>
                    <p:spPr>
                      <a:xfrm flipH="1">
                        <a:off x="7820640" y="3857400"/>
                        <a:ext cx="44280" cy="1076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301" name="AutoShape 840"/>
                      <p:cNvCxnSpPr/>
                      <p:nvPr/>
                    </p:nvCxnSpPr>
                    <p:spPr>
                      <a:xfrm flipH="1">
                        <a:off x="7809480" y="3786480"/>
                        <a:ext cx="25560" cy="7236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302" name="AutoShape 841"/>
                      <p:cNvCxnSpPr/>
                      <p:nvPr/>
                    </p:nvCxnSpPr>
                    <p:spPr>
                      <a:xfrm flipH="1">
                        <a:off x="7815960" y="3838680"/>
                        <a:ext cx="28800" cy="691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grpSp>
                  <p:nvGrpSpPr>
                    <p:cNvPr id="2303" name="Group 842"/>
                    <p:cNvGrpSpPr/>
                    <p:nvPr/>
                  </p:nvGrpSpPr>
                  <p:grpSpPr>
                    <a:xfrm>
                      <a:off x="7703280" y="3774240"/>
                      <a:ext cx="79920" cy="213840"/>
                      <a:chOff x="7703280" y="3774240"/>
                      <a:chExt cx="79920" cy="213840"/>
                    </a:xfrm>
                  </p:grpSpPr>
                  <p:cxnSp>
                    <p:nvCxnSpPr>
                      <p:cNvPr id="2304" name="AutoShape 843"/>
                      <p:cNvCxnSpPr/>
                      <p:nvPr/>
                    </p:nvCxnSpPr>
                    <p:spPr>
                      <a:xfrm flipH="1">
                        <a:off x="7703280" y="3774240"/>
                        <a:ext cx="15840" cy="8172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305" name="AutoShape 844"/>
                      <p:cNvCxnSpPr/>
                      <p:nvPr/>
                    </p:nvCxnSpPr>
                    <p:spPr>
                      <a:xfrm flipH="1">
                        <a:off x="7741080" y="3879360"/>
                        <a:ext cx="42480" cy="109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306" name="AutoShape 845"/>
                      <p:cNvCxnSpPr/>
                      <p:nvPr/>
                    </p:nvCxnSpPr>
                    <p:spPr>
                      <a:xfrm flipH="1">
                        <a:off x="7727760" y="3805920"/>
                        <a:ext cx="23760" cy="734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2307" name="AutoShape 846"/>
                      <p:cNvCxnSpPr/>
                      <p:nvPr/>
                    </p:nvCxnSpPr>
                    <p:spPr>
                      <a:xfrm flipH="1">
                        <a:off x="7735320" y="3859200"/>
                        <a:ext cx="27360" cy="6984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</p:grpSp>
              <p:grpSp>
                <p:nvGrpSpPr>
                  <p:cNvPr id="2308" name="Group 847"/>
                  <p:cNvGrpSpPr/>
                  <p:nvPr/>
                </p:nvGrpSpPr>
                <p:grpSpPr>
                  <a:xfrm>
                    <a:off x="7582320" y="3761280"/>
                    <a:ext cx="387720" cy="358560"/>
                    <a:chOff x="7582320" y="3761280"/>
                    <a:chExt cx="387720" cy="358560"/>
                  </a:xfrm>
                </p:grpSpPr>
                <p:sp>
                  <p:nvSpPr>
                    <p:cNvPr id="2309" name="Arc 848"/>
                    <p:cNvSpPr/>
                    <p:nvPr/>
                  </p:nvSpPr>
                  <p:spPr>
                    <a:xfrm flipH="1" flipV="1" rot="505800">
                      <a:off x="7679520" y="3778920"/>
                      <a:ext cx="270360" cy="291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0" name="Arc 849"/>
                    <p:cNvSpPr/>
                    <p:nvPr/>
                  </p:nvSpPr>
                  <p:spPr>
                    <a:xfrm flipH="1" flipV="1" rot="21354600">
                      <a:off x="7593120" y="3778920"/>
                      <a:ext cx="271080" cy="330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1" name="Arc 850"/>
                    <p:cNvSpPr/>
                    <p:nvPr/>
                  </p:nvSpPr>
                  <p:spPr>
                    <a:xfrm flipH="1" flipV="1">
                      <a:off x="7793640" y="3780000"/>
                      <a:ext cx="155880" cy="291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12" name="Group 851"/>
                <p:cNvGrpSpPr/>
                <p:nvPr/>
              </p:nvGrpSpPr>
              <p:grpSpPr>
                <a:xfrm>
                  <a:off x="7636680" y="4044600"/>
                  <a:ext cx="551520" cy="344160"/>
                  <a:chOff x="7636680" y="4044600"/>
                  <a:chExt cx="551520" cy="344160"/>
                </a:xfrm>
              </p:grpSpPr>
              <p:sp>
                <p:nvSpPr>
                  <p:cNvPr id="2313" name="Freeform 852"/>
                  <p:cNvSpPr/>
                  <p:nvPr/>
                </p:nvSpPr>
                <p:spPr>
                  <a:xfrm>
                    <a:off x="7894440" y="4108680"/>
                    <a:ext cx="149400" cy="2390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4" name="Freeform 853"/>
                  <p:cNvSpPr/>
                  <p:nvPr/>
                </p:nvSpPr>
                <p:spPr>
                  <a:xfrm>
                    <a:off x="7915320" y="4096080"/>
                    <a:ext cx="192240" cy="160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5" name="Freeform 854"/>
                  <p:cNvSpPr/>
                  <p:nvPr/>
                </p:nvSpPr>
                <p:spPr>
                  <a:xfrm rot="772200">
                    <a:off x="7677720" y="4061880"/>
                    <a:ext cx="186120" cy="259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6" name="Freeform 855"/>
                  <p:cNvSpPr/>
                  <p:nvPr/>
                </p:nvSpPr>
                <p:spPr>
                  <a:xfrm>
                    <a:off x="7894080" y="4094280"/>
                    <a:ext cx="194400" cy="212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Rectangle 856"/>
                  <p:cNvSpPr/>
                  <p:nvPr/>
                </p:nvSpPr>
                <p:spPr>
                  <a:xfrm>
                    <a:off x="7863840" y="4069080"/>
                    <a:ext cx="82080" cy="6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Freeform 857"/>
                  <p:cNvSpPr/>
                  <p:nvPr/>
                </p:nvSpPr>
                <p:spPr>
                  <a:xfrm rot="1519200">
                    <a:off x="7894080" y="4144680"/>
                    <a:ext cx="194040" cy="212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19" name="Group 858"/>
                  <p:cNvGrpSpPr/>
                  <p:nvPr/>
                </p:nvGrpSpPr>
                <p:grpSpPr>
                  <a:xfrm>
                    <a:off x="7636680" y="4087080"/>
                    <a:ext cx="305280" cy="270000"/>
                    <a:chOff x="7636680" y="4087080"/>
                    <a:chExt cx="305280" cy="270000"/>
                  </a:xfrm>
                </p:grpSpPr>
                <p:sp>
                  <p:nvSpPr>
                    <p:cNvPr id="2320" name="Freeform 859"/>
                    <p:cNvSpPr/>
                    <p:nvPr/>
                  </p:nvSpPr>
                  <p:spPr>
                    <a:xfrm>
                      <a:off x="7650720" y="4094280"/>
                      <a:ext cx="221400" cy="131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1" name="Freeform 860"/>
                    <p:cNvSpPr/>
                    <p:nvPr/>
                  </p:nvSpPr>
                  <p:spPr>
                    <a:xfrm>
                      <a:off x="7768080" y="4096080"/>
                      <a:ext cx="104040" cy="261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2" name="Freeform 861"/>
                    <p:cNvSpPr/>
                    <p:nvPr/>
                  </p:nvSpPr>
                  <p:spPr>
                    <a:xfrm>
                      <a:off x="7636680" y="4087080"/>
                      <a:ext cx="235440" cy="874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3" name="Freeform 862"/>
                    <p:cNvSpPr/>
                    <p:nvPr/>
                  </p:nvSpPr>
                  <p:spPr>
                    <a:xfrm flipH="1" rot="21135600">
                      <a:off x="7676640" y="4107600"/>
                      <a:ext cx="194400" cy="21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4" name="Freeform 863"/>
                    <p:cNvSpPr/>
                    <p:nvPr/>
                  </p:nvSpPr>
                  <p:spPr>
                    <a:xfrm rot="18567600">
                      <a:off x="7719120" y="4177440"/>
                      <a:ext cx="230040" cy="896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5" name="Group 864"/>
                  <p:cNvGrpSpPr/>
                  <p:nvPr/>
                </p:nvGrpSpPr>
                <p:grpSpPr>
                  <a:xfrm>
                    <a:off x="7882920" y="4069080"/>
                    <a:ext cx="305280" cy="270000"/>
                    <a:chOff x="7882920" y="4069080"/>
                    <a:chExt cx="305280" cy="270000"/>
                  </a:xfrm>
                </p:grpSpPr>
                <p:sp>
                  <p:nvSpPr>
                    <p:cNvPr id="2326" name="Freeform 865"/>
                    <p:cNvSpPr/>
                    <p:nvPr/>
                  </p:nvSpPr>
                  <p:spPr>
                    <a:xfrm flipH="1">
                      <a:off x="7952400" y="4076280"/>
                      <a:ext cx="221400" cy="131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7" name="Freeform 866"/>
                    <p:cNvSpPr/>
                    <p:nvPr/>
                  </p:nvSpPr>
                  <p:spPr>
                    <a:xfrm flipH="1">
                      <a:off x="7952400" y="4078080"/>
                      <a:ext cx="104040" cy="261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8" name="Freeform 867"/>
                    <p:cNvSpPr/>
                    <p:nvPr/>
                  </p:nvSpPr>
                  <p:spPr>
                    <a:xfrm flipH="1">
                      <a:off x="7952760" y="4069080"/>
                      <a:ext cx="235440" cy="874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9" name="Freeform 868"/>
                    <p:cNvSpPr/>
                    <p:nvPr/>
                  </p:nvSpPr>
                  <p:spPr>
                    <a:xfrm rot="464400">
                      <a:off x="7953120" y="4089600"/>
                      <a:ext cx="194400" cy="21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0" name="Freeform 869"/>
                    <p:cNvSpPr/>
                    <p:nvPr/>
                  </p:nvSpPr>
                  <p:spPr>
                    <a:xfrm flipH="1" rot="3032400">
                      <a:off x="7875360" y="4159800"/>
                      <a:ext cx="230040" cy="896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331" name="TextBox 1125"/>
            <p:cNvSpPr/>
            <p:nvPr/>
          </p:nvSpPr>
          <p:spPr>
            <a:xfrm>
              <a:off x="7772400" y="4343760"/>
              <a:ext cx="533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2" name="Группа 1131"/>
          <p:cNvGrpSpPr/>
          <p:nvPr/>
        </p:nvGrpSpPr>
        <p:grpSpPr>
          <a:xfrm>
            <a:off x="3581640" y="4952520"/>
            <a:ext cx="913320" cy="1854360"/>
            <a:chOff x="3581640" y="4952520"/>
            <a:chExt cx="913320" cy="1854360"/>
          </a:xfrm>
        </p:grpSpPr>
        <p:grpSp>
          <p:nvGrpSpPr>
            <p:cNvPr id="2333" name="Group 187"/>
            <p:cNvGrpSpPr/>
            <p:nvPr/>
          </p:nvGrpSpPr>
          <p:grpSpPr>
            <a:xfrm>
              <a:off x="3581640" y="4952520"/>
              <a:ext cx="913320" cy="1487880"/>
              <a:chOff x="3581640" y="4952520"/>
              <a:chExt cx="913320" cy="1487880"/>
            </a:xfrm>
          </p:grpSpPr>
          <p:sp>
            <p:nvSpPr>
              <p:cNvPr id="2334" name="Line 188"/>
              <p:cNvSpPr/>
              <p:nvPr/>
            </p:nvSpPr>
            <p:spPr>
              <a:xfrm>
                <a:off x="4041360" y="5145480"/>
                <a:ext cx="5760" cy="90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AutoShape 189"/>
              <p:cNvSpPr/>
              <p:nvPr/>
            </p:nvSpPr>
            <p:spPr>
              <a:xfrm rot="10800000">
                <a:off x="3948120" y="4952520"/>
                <a:ext cx="184320" cy="1998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Arc 190"/>
              <p:cNvSpPr/>
              <p:nvPr/>
            </p:nvSpPr>
            <p:spPr>
              <a:xfrm flipV="1">
                <a:off x="4041360" y="5302800"/>
                <a:ext cx="92880" cy="173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Arc 191"/>
              <p:cNvSpPr/>
              <p:nvPr/>
            </p:nvSpPr>
            <p:spPr>
              <a:xfrm flipH="1" flipV="1" rot="1816200">
                <a:off x="4092480" y="5190120"/>
                <a:ext cx="59400" cy="11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Line 192"/>
              <p:cNvSpPr/>
              <p:nvPr/>
            </p:nvSpPr>
            <p:spPr>
              <a:xfrm flipV="1">
                <a:off x="4053960" y="5206320"/>
                <a:ext cx="139680" cy="27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Line 193"/>
              <p:cNvSpPr/>
              <p:nvPr/>
            </p:nvSpPr>
            <p:spPr>
              <a:xfrm flipV="1">
                <a:off x="4129200" y="5195880"/>
                <a:ext cx="18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AutoShape 194"/>
              <p:cNvSpPr/>
              <p:nvPr/>
            </p:nvSpPr>
            <p:spPr>
              <a:xfrm rot="14044200">
                <a:off x="4154760" y="5118480"/>
                <a:ext cx="177120" cy="13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AutoShape 195"/>
              <p:cNvSpPr/>
              <p:nvPr/>
            </p:nvSpPr>
            <p:spPr>
              <a:xfrm rot="10800000">
                <a:off x="4075560" y="5102280"/>
                <a:ext cx="102240" cy="119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Arc 196"/>
              <p:cNvSpPr/>
              <p:nvPr/>
            </p:nvSpPr>
            <p:spPr>
              <a:xfrm flipH="1" flipV="1">
                <a:off x="3970080" y="5682960"/>
                <a:ext cx="83160" cy="147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Arc 197"/>
              <p:cNvSpPr/>
              <p:nvPr/>
            </p:nvSpPr>
            <p:spPr>
              <a:xfrm flipV="1" rot="19780800">
                <a:off x="3947760" y="5540040"/>
                <a:ext cx="50040" cy="77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Line 198"/>
              <p:cNvSpPr/>
              <p:nvPr/>
            </p:nvSpPr>
            <p:spPr>
              <a:xfrm>
                <a:off x="3888000" y="5510520"/>
                <a:ext cx="196200" cy="33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AutoShape 199"/>
              <p:cNvSpPr/>
              <p:nvPr/>
            </p:nvSpPr>
            <p:spPr>
              <a:xfrm flipH="1" rot="8721600">
                <a:off x="3768480" y="5399280"/>
                <a:ext cx="165960" cy="12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6" name="Group 200"/>
              <p:cNvGrpSpPr/>
              <p:nvPr/>
            </p:nvGrpSpPr>
            <p:grpSpPr>
              <a:xfrm>
                <a:off x="3948840" y="5680800"/>
                <a:ext cx="546120" cy="421560"/>
                <a:chOff x="3948840" y="5680800"/>
                <a:chExt cx="546120" cy="421560"/>
              </a:xfrm>
            </p:grpSpPr>
            <p:grpSp>
              <p:nvGrpSpPr>
                <p:cNvPr id="2347" name="Group 201"/>
                <p:cNvGrpSpPr/>
                <p:nvPr/>
              </p:nvGrpSpPr>
              <p:grpSpPr>
                <a:xfrm>
                  <a:off x="4062960" y="5683680"/>
                  <a:ext cx="432000" cy="301680"/>
                  <a:chOff x="4062960" y="5683680"/>
                  <a:chExt cx="432000" cy="301680"/>
                </a:xfrm>
              </p:grpSpPr>
              <p:grpSp>
                <p:nvGrpSpPr>
                  <p:cNvPr id="2348" name="Group 202"/>
                  <p:cNvGrpSpPr/>
                  <p:nvPr/>
                </p:nvGrpSpPr>
                <p:grpSpPr>
                  <a:xfrm>
                    <a:off x="4341960" y="5764680"/>
                    <a:ext cx="153000" cy="212760"/>
                    <a:chOff x="4341960" y="5764680"/>
                    <a:chExt cx="153000" cy="212760"/>
                  </a:xfrm>
                </p:grpSpPr>
                <p:cxnSp>
                  <p:nvCxnSpPr>
                    <p:cNvPr id="2349" name="AutoShape 203"/>
                    <p:cNvCxnSpPr/>
                    <p:nvPr/>
                  </p:nvCxnSpPr>
                  <p:spPr>
                    <a:xfrm flipH="1">
                      <a:off x="4418640" y="5764680"/>
                      <a:ext cx="7668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50" name="AutoShape 204"/>
                    <p:cNvCxnSpPr/>
                    <p:nvPr/>
                  </p:nvCxnSpPr>
                  <p:spPr>
                    <a:xfrm flipH="1">
                      <a:off x="4341960" y="5918760"/>
                      <a:ext cx="12024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51" name="AutoShape 205"/>
                    <p:cNvCxnSpPr/>
                    <p:nvPr/>
                  </p:nvCxnSpPr>
                  <p:spPr>
                    <a:xfrm flipH="1">
                      <a:off x="4418640" y="5822640"/>
                      <a:ext cx="76680" cy="43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52" name="AutoShape 206"/>
                    <p:cNvCxnSpPr/>
                    <p:nvPr/>
                  </p:nvCxnSpPr>
                  <p:spPr>
                    <a:xfrm flipH="1">
                      <a:off x="4384080" y="5881320"/>
                      <a:ext cx="77400" cy="37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353" name="Group 207"/>
                  <p:cNvGrpSpPr/>
                  <p:nvPr/>
                </p:nvGrpSpPr>
                <p:grpSpPr>
                  <a:xfrm>
                    <a:off x="4222440" y="5724000"/>
                    <a:ext cx="153000" cy="212760"/>
                    <a:chOff x="4222440" y="5724000"/>
                    <a:chExt cx="153000" cy="212760"/>
                  </a:xfrm>
                </p:grpSpPr>
                <p:cxnSp>
                  <p:nvCxnSpPr>
                    <p:cNvPr id="2354" name="AutoShape 208"/>
                    <p:cNvCxnSpPr/>
                    <p:nvPr/>
                  </p:nvCxnSpPr>
                  <p:spPr>
                    <a:xfrm flipH="1">
                      <a:off x="4299120" y="5724000"/>
                      <a:ext cx="7668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55" name="AutoShape 209"/>
                    <p:cNvCxnSpPr/>
                    <p:nvPr/>
                  </p:nvCxnSpPr>
                  <p:spPr>
                    <a:xfrm flipH="1">
                      <a:off x="4222440" y="5878080"/>
                      <a:ext cx="12024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56" name="AutoShape 210"/>
                    <p:cNvCxnSpPr/>
                    <p:nvPr/>
                  </p:nvCxnSpPr>
                  <p:spPr>
                    <a:xfrm flipH="1">
                      <a:off x="4299120" y="5781960"/>
                      <a:ext cx="76680" cy="43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57" name="AutoShape 211"/>
                    <p:cNvCxnSpPr/>
                    <p:nvPr/>
                  </p:nvCxnSpPr>
                  <p:spPr>
                    <a:xfrm flipH="1">
                      <a:off x="4264560" y="5840640"/>
                      <a:ext cx="77400" cy="37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358" name="Group 212"/>
                  <p:cNvGrpSpPr/>
                  <p:nvPr/>
                </p:nvGrpSpPr>
                <p:grpSpPr>
                  <a:xfrm>
                    <a:off x="4124520" y="5683680"/>
                    <a:ext cx="112680" cy="242640"/>
                    <a:chOff x="4124520" y="5683680"/>
                    <a:chExt cx="112680" cy="242640"/>
                  </a:xfrm>
                </p:grpSpPr>
                <p:cxnSp>
                  <p:nvCxnSpPr>
                    <p:cNvPr id="2359" name="AutoShape 213"/>
                    <p:cNvCxnSpPr/>
                    <p:nvPr/>
                  </p:nvCxnSpPr>
                  <p:spPr>
                    <a:xfrm flipH="1">
                      <a:off x="4163040" y="5683680"/>
                      <a:ext cx="60840" cy="75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60" name="AutoShape 214"/>
                    <p:cNvCxnSpPr/>
                    <p:nvPr/>
                  </p:nvCxnSpPr>
                  <p:spPr>
                    <a:xfrm flipH="1">
                      <a:off x="4124520" y="5841000"/>
                      <a:ext cx="103320" cy="85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61" name="AutoShape 215"/>
                    <p:cNvCxnSpPr/>
                    <p:nvPr/>
                  </p:nvCxnSpPr>
                  <p:spPr>
                    <a:xfrm flipH="1">
                      <a:off x="4173120" y="5739840"/>
                      <a:ext cx="64440" cy="60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62" name="AutoShape 216"/>
                    <p:cNvCxnSpPr/>
                    <p:nvPr/>
                  </p:nvCxnSpPr>
                  <p:spPr>
                    <a:xfrm flipH="1">
                      <a:off x="4151880" y="5805000"/>
                      <a:ext cx="66600" cy="54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363" name="Group 217"/>
                  <p:cNvGrpSpPr/>
                  <p:nvPr/>
                </p:nvGrpSpPr>
                <p:grpSpPr>
                  <a:xfrm>
                    <a:off x="4329720" y="5728680"/>
                    <a:ext cx="97200" cy="256680"/>
                    <a:chOff x="4329720" y="5728680"/>
                    <a:chExt cx="97200" cy="256680"/>
                  </a:xfrm>
                </p:grpSpPr>
                <p:cxnSp>
                  <p:nvCxnSpPr>
                    <p:cNvPr id="2364" name="AutoShape 218"/>
                    <p:cNvCxnSpPr/>
                    <p:nvPr/>
                  </p:nvCxnSpPr>
                  <p:spPr>
                    <a:xfrm>
                      <a:off x="4410360" y="5728680"/>
                      <a:ext cx="16920" cy="96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65" name="AutoShape 219"/>
                    <p:cNvCxnSpPr/>
                    <p:nvPr/>
                  </p:nvCxnSpPr>
                  <p:spPr>
                    <a:xfrm>
                      <a:off x="4329720" y="5856120"/>
                      <a:ext cx="48240" cy="129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66" name="AutoShape 220"/>
                    <p:cNvCxnSpPr/>
                    <p:nvPr/>
                  </p:nvCxnSpPr>
                  <p:spPr>
                    <a:xfrm>
                      <a:off x="4371120" y="5767200"/>
                      <a:ext cx="27000" cy="86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67" name="AutoShape 221"/>
                    <p:cNvCxnSpPr/>
                    <p:nvPr/>
                  </p:nvCxnSpPr>
                  <p:spPr>
                    <a:xfrm>
                      <a:off x="4354920" y="5830920"/>
                      <a:ext cx="31320" cy="83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368" name="Group 222"/>
                  <p:cNvGrpSpPr/>
                  <p:nvPr/>
                </p:nvGrpSpPr>
                <p:grpSpPr>
                  <a:xfrm>
                    <a:off x="4062960" y="5688720"/>
                    <a:ext cx="93600" cy="250920"/>
                    <a:chOff x="4062960" y="5688720"/>
                    <a:chExt cx="93600" cy="250920"/>
                  </a:xfrm>
                </p:grpSpPr>
                <p:cxnSp>
                  <p:nvCxnSpPr>
                    <p:cNvPr id="2369" name="AutoShape 223"/>
                    <p:cNvCxnSpPr/>
                    <p:nvPr/>
                  </p:nvCxnSpPr>
                  <p:spPr>
                    <a:xfrm>
                      <a:off x="4138200" y="5688720"/>
                      <a:ext cx="18720" cy="95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70" name="AutoShape 224"/>
                    <p:cNvCxnSpPr/>
                    <p:nvPr/>
                  </p:nvCxnSpPr>
                  <p:spPr>
                    <a:xfrm>
                      <a:off x="4062960" y="5811840"/>
                      <a:ext cx="50400" cy="128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71" name="AutoShape 225"/>
                    <p:cNvCxnSpPr/>
                    <p:nvPr/>
                  </p:nvCxnSpPr>
                  <p:spPr>
                    <a:xfrm>
                      <a:off x="4100040" y="5725800"/>
                      <a:ext cx="28440" cy="86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72" name="AutoShape 226"/>
                    <p:cNvCxnSpPr/>
                    <p:nvPr/>
                  </p:nvCxnSpPr>
                  <p:spPr>
                    <a:xfrm>
                      <a:off x="4087080" y="5788800"/>
                      <a:ext cx="32400" cy="82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373" name="Group 227"/>
                  <p:cNvGrpSpPr/>
                  <p:nvPr/>
                </p:nvGrpSpPr>
                <p:grpSpPr>
                  <a:xfrm>
                    <a:off x="4187520" y="5714280"/>
                    <a:ext cx="97200" cy="256680"/>
                    <a:chOff x="4187520" y="5714280"/>
                    <a:chExt cx="97200" cy="256680"/>
                  </a:xfrm>
                </p:grpSpPr>
                <p:cxnSp>
                  <p:nvCxnSpPr>
                    <p:cNvPr id="2374" name="AutoShape 228"/>
                    <p:cNvCxnSpPr/>
                    <p:nvPr/>
                  </p:nvCxnSpPr>
                  <p:spPr>
                    <a:xfrm>
                      <a:off x="4268160" y="5714280"/>
                      <a:ext cx="16920" cy="96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75" name="AutoShape 229"/>
                    <p:cNvCxnSpPr/>
                    <p:nvPr/>
                  </p:nvCxnSpPr>
                  <p:spPr>
                    <a:xfrm>
                      <a:off x="4187520" y="5841720"/>
                      <a:ext cx="48240" cy="129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76" name="AutoShape 230"/>
                    <p:cNvCxnSpPr/>
                    <p:nvPr/>
                  </p:nvCxnSpPr>
                  <p:spPr>
                    <a:xfrm>
                      <a:off x="4228920" y="5752800"/>
                      <a:ext cx="27000" cy="86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77" name="AutoShape 231"/>
                    <p:cNvCxnSpPr/>
                    <p:nvPr/>
                  </p:nvCxnSpPr>
                  <p:spPr>
                    <a:xfrm>
                      <a:off x="4212720" y="5816520"/>
                      <a:ext cx="31320" cy="83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378" name="Group 232"/>
                <p:cNvGrpSpPr/>
                <p:nvPr/>
              </p:nvGrpSpPr>
              <p:grpSpPr>
                <a:xfrm>
                  <a:off x="3948840" y="5680800"/>
                  <a:ext cx="473760" cy="421560"/>
                  <a:chOff x="3948840" y="5680800"/>
                  <a:chExt cx="473760" cy="421560"/>
                </a:xfrm>
              </p:grpSpPr>
              <p:sp>
                <p:nvSpPr>
                  <p:cNvPr id="2379" name="Arc 233"/>
                  <p:cNvSpPr/>
                  <p:nvPr/>
                </p:nvSpPr>
                <p:spPr>
                  <a:xfrm flipV="1" rot="21094200">
                    <a:off x="3971880" y="5702760"/>
                    <a:ext cx="331560" cy="342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0" name="Arc 234"/>
                  <p:cNvSpPr/>
                  <p:nvPr/>
                </p:nvSpPr>
                <p:spPr>
                  <a:xfrm flipV="1" rot="245400">
                    <a:off x="4076280" y="5703120"/>
                    <a:ext cx="332640" cy="387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Arc 235"/>
                  <p:cNvSpPr/>
                  <p:nvPr/>
                </p:nvSpPr>
                <p:spPr>
                  <a:xfrm flipV="1">
                    <a:off x="3971880" y="5703480"/>
                    <a:ext cx="191160" cy="342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2" name="Group 236"/>
              <p:cNvGrpSpPr/>
              <p:nvPr/>
            </p:nvGrpSpPr>
            <p:grpSpPr>
              <a:xfrm>
                <a:off x="3581640" y="5682240"/>
                <a:ext cx="546120" cy="421560"/>
                <a:chOff x="3581640" y="5682240"/>
                <a:chExt cx="546120" cy="421560"/>
              </a:xfrm>
            </p:grpSpPr>
            <p:grpSp>
              <p:nvGrpSpPr>
                <p:cNvPr id="2383" name="Group 237"/>
                <p:cNvGrpSpPr/>
                <p:nvPr/>
              </p:nvGrpSpPr>
              <p:grpSpPr>
                <a:xfrm>
                  <a:off x="3581640" y="5685120"/>
                  <a:ext cx="432000" cy="301680"/>
                  <a:chOff x="3581640" y="5685120"/>
                  <a:chExt cx="432000" cy="301680"/>
                </a:xfrm>
              </p:grpSpPr>
              <p:grpSp>
                <p:nvGrpSpPr>
                  <p:cNvPr id="2384" name="Group 238"/>
                  <p:cNvGrpSpPr/>
                  <p:nvPr/>
                </p:nvGrpSpPr>
                <p:grpSpPr>
                  <a:xfrm>
                    <a:off x="3581640" y="5766120"/>
                    <a:ext cx="153000" cy="212760"/>
                    <a:chOff x="3581640" y="5766120"/>
                    <a:chExt cx="153000" cy="212760"/>
                  </a:xfrm>
                </p:grpSpPr>
                <p:cxnSp>
                  <p:nvCxnSpPr>
                    <p:cNvPr id="2385" name="AutoShape 239"/>
                    <p:cNvCxnSpPr/>
                    <p:nvPr/>
                  </p:nvCxnSpPr>
                  <p:spPr>
                    <a:xfrm>
                      <a:off x="3581640" y="5766120"/>
                      <a:ext cx="7668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86" name="AutoShape 240"/>
                    <p:cNvCxnSpPr/>
                    <p:nvPr/>
                  </p:nvCxnSpPr>
                  <p:spPr>
                    <a:xfrm>
                      <a:off x="3614760" y="5920200"/>
                      <a:ext cx="12024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87" name="AutoShape 241"/>
                    <p:cNvCxnSpPr/>
                    <p:nvPr/>
                  </p:nvCxnSpPr>
                  <p:spPr>
                    <a:xfrm>
                      <a:off x="3581640" y="5824080"/>
                      <a:ext cx="76680" cy="43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88" name="AutoShape 242"/>
                    <p:cNvCxnSpPr/>
                    <p:nvPr/>
                  </p:nvCxnSpPr>
                  <p:spPr>
                    <a:xfrm>
                      <a:off x="3615480" y="5882760"/>
                      <a:ext cx="77400" cy="37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389" name="Group 243"/>
                  <p:cNvGrpSpPr/>
                  <p:nvPr/>
                </p:nvGrpSpPr>
                <p:grpSpPr>
                  <a:xfrm>
                    <a:off x="3701160" y="5725440"/>
                    <a:ext cx="153000" cy="212760"/>
                    <a:chOff x="3701160" y="5725440"/>
                    <a:chExt cx="153000" cy="212760"/>
                  </a:xfrm>
                </p:grpSpPr>
                <p:cxnSp>
                  <p:nvCxnSpPr>
                    <p:cNvPr id="2390" name="AutoShape 244"/>
                    <p:cNvCxnSpPr/>
                    <p:nvPr/>
                  </p:nvCxnSpPr>
                  <p:spPr>
                    <a:xfrm>
                      <a:off x="3701160" y="5725440"/>
                      <a:ext cx="7668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91" name="AutoShape 245"/>
                    <p:cNvCxnSpPr/>
                    <p:nvPr/>
                  </p:nvCxnSpPr>
                  <p:spPr>
                    <a:xfrm>
                      <a:off x="3734280" y="5879520"/>
                      <a:ext cx="12024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92" name="AutoShape 246"/>
                    <p:cNvCxnSpPr/>
                    <p:nvPr/>
                  </p:nvCxnSpPr>
                  <p:spPr>
                    <a:xfrm>
                      <a:off x="3701160" y="5783400"/>
                      <a:ext cx="76680" cy="43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93" name="AutoShape 247"/>
                    <p:cNvCxnSpPr/>
                    <p:nvPr/>
                  </p:nvCxnSpPr>
                  <p:spPr>
                    <a:xfrm>
                      <a:off x="3735000" y="5842080"/>
                      <a:ext cx="77400" cy="37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394" name="Group 248"/>
                  <p:cNvGrpSpPr/>
                  <p:nvPr/>
                </p:nvGrpSpPr>
                <p:grpSpPr>
                  <a:xfrm>
                    <a:off x="3839400" y="5685120"/>
                    <a:ext cx="112680" cy="242640"/>
                    <a:chOff x="3839400" y="5685120"/>
                    <a:chExt cx="112680" cy="242640"/>
                  </a:xfrm>
                </p:grpSpPr>
                <p:cxnSp>
                  <p:nvCxnSpPr>
                    <p:cNvPr id="2395" name="AutoShape 249"/>
                    <p:cNvCxnSpPr/>
                    <p:nvPr/>
                  </p:nvCxnSpPr>
                  <p:spPr>
                    <a:xfrm>
                      <a:off x="3853080" y="5685120"/>
                      <a:ext cx="60840" cy="75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96" name="AutoShape 250"/>
                    <p:cNvCxnSpPr/>
                    <p:nvPr/>
                  </p:nvCxnSpPr>
                  <p:spPr>
                    <a:xfrm>
                      <a:off x="3849120" y="5842440"/>
                      <a:ext cx="103320" cy="85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97" name="AutoShape 251"/>
                    <p:cNvCxnSpPr/>
                    <p:nvPr/>
                  </p:nvCxnSpPr>
                  <p:spPr>
                    <a:xfrm>
                      <a:off x="3839400" y="5741280"/>
                      <a:ext cx="64440" cy="60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98" name="AutoShape 252"/>
                    <p:cNvCxnSpPr/>
                    <p:nvPr/>
                  </p:nvCxnSpPr>
                  <p:spPr>
                    <a:xfrm>
                      <a:off x="3858480" y="5806440"/>
                      <a:ext cx="66600" cy="54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399" name="Group 253"/>
                  <p:cNvGrpSpPr/>
                  <p:nvPr/>
                </p:nvGrpSpPr>
                <p:grpSpPr>
                  <a:xfrm>
                    <a:off x="3649680" y="5730120"/>
                    <a:ext cx="97200" cy="256680"/>
                    <a:chOff x="3649680" y="5730120"/>
                    <a:chExt cx="97200" cy="256680"/>
                  </a:xfrm>
                </p:grpSpPr>
                <p:cxnSp>
                  <p:nvCxnSpPr>
                    <p:cNvPr id="2400" name="AutoShape 254"/>
                    <p:cNvCxnSpPr/>
                    <p:nvPr/>
                  </p:nvCxnSpPr>
                  <p:spPr>
                    <a:xfrm flipH="1">
                      <a:off x="3649680" y="5730120"/>
                      <a:ext cx="16920" cy="96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01" name="AutoShape 255"/>
                    <p:cNvCxnSpPr/>
                    <p:nvPr/>
                  </p:nvCxnSpPr>
                  <p:spPr>
                    <a:xfrm flipH="1">
                      <a:off x="3699000" y="5857560"/>
                      <a:ext cx="48240" cy="129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02" name="AutoShape 256"/>
                    <p:cNvCxnSpPr/>
                    <p:nvPr/>
                  </p:nvCxnSpPr>
                  <p:spPr>
                    <a:xfrm flipH="1">
                      <a:off x="3678840" y="5768640"/>
                      <a:ext cx="27000" cy="86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03" name="AutoShape 257"/>
                    <p:cNvCxnSpPr/>
                    <p:nvPr/>
                  </p:nvCxnSpPr>
                  <p:spPr>
                    <a:xfrm flipH="1">
                      <a:off x="3690720" y="5832360"/>
                      <a:ext cx="31320" cy="83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404" name="Group 258"/>
                  <p:cNvGrpSpPr/>
                  <p:nvPr/>
                </p:nvGrpSpPr>
                <p:grpSpPr>
                  <a:xfrm>
                    <a:off x="3920040" y="5690160"/>
                    <a:ext cx="93600" cy="250920"/>
                    <a:chOff x="3920040" y="5690160"/>
                    <a:chExt cx="93600" cy="250920"/>
                  </a:xfrm>
                </p:grpSpPr>
                <p:cxnSp>
                  <p:nvCxnSpPr>
                    <p:cNvPr id="2405" name="AutoShape 259"/>
                    <p:cNvCxnSpPr/>
                    <p:nvPr/>
                  </p:nvCxnSpPr>
                  <p:spPr>
                    <a:xfrm flipH="1">
                      <a:off x="3920040" y="5690160"/>
                      <a:ext cx="18720" cy="95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06" name="AutoShape 260"/>
                    <p:cNvCxnSpPr/>
                    <p:nvPr/>
                  </p:nvCxnSpPr>
                  <p:spPr>
                    <a:xfrm flipH="1">
                      <a:off x="3963600" y="5813280"/>
                      <a:ext cx="50400" cy="128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07" name="AutoShape 261"/>
                    <p:cNvCxnSpPr/>
                    <p:nvPr/>
                  </p:nvCxnSpPr>
                  <p:spPr>
                    <a:xfrm flipH="1">
                      <a:off x="3948480" y="5727240"/>
                      <a:ext cx="28440" cy="86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08" name="AutoShape 262"/>
                    <p:cNvCxnSpPr/>
                    <p:nvPr/>
                  </p:nvCxnSpPr>
                  <p:spPr>
                    <a:xfrm flipH="1">
                      <a:off x="3957480" y="5790240"/>
                      <a:ext cx="32400" cy="82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409" name="Group 263"/>
                  <p:cNvGrpSpPr/>
                  <p:nvPr/>
                </p:nvGrpSpPr>
                <p:grpSpPr>
                  <a:xfrm>
                    <a:off x="3791880" y="5715720"/>
                    <a:ext cx="97200" cy="256680"/>
                    <a:chOff x="3791880" y="5715720"/>
                    <a:chExt cx="97200" cy="256680"/>
                  </a:xfrm>
                </p:grpSpPr>
                <p:cxnSp>
                  <p:nvCxnSpPr>
                    <p:cNvPr id="2410" name="AutoShape 264"/>
                    <p:cNvCxnSpPr/>
                    <p:nvPr/>
                  </p:nvCxnSpPr>
                  <p:spPr>
                    <a:xfrm flipH="1">
                      <a:off x="3791880" y="5715720"/>
                      <a:ext cx="16920" cy="96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11" name="AutoShape 265"/>
                    <p:cNvCxnSpPr/>
                    <p:nvPr/>
                  </p:nvCxnSpPr>
                  <p:spPr>
                    <a:xfrm flipH="1">
                      <a:off x="3841200" y="5843160"/>
                      <a:ext cx="48240" cy="129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12" name="AutoShape 266"/>
                    <p:cNvCxnSpPr/>
                    <p:nvPr/>
                  </p:nvCxnSpPr>
                  <p:spPr>
                    <a:xfrm flipH="1">
                      <a:off x="3821040" y="5754240"/>
                      <a:ext cx="27000" cy="86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13" name="AutoShape 267"/>
                    <p:cNvCxnSpPr/>
                    <p:nvPr/>
                  </p:nvCxnSpPr>
                  <p:spPr>
                    <a:xfrm flipH="1">
                      <a:off x="3832920" y="5817960"/>
                      <a:ext cx="31320" cy="83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414" name="Group 268"/>
                <p:cNvGrpSpPr/>
                <p:nvPr/>
              </p:nvGrpSpPr>
              <p:grpSpPr>
                <a:xfrm>
                  <a:off x="3654360" y="5682240"/>
                  <a:ext cx="473400" cy="421560"/>
                  <a:chOff x="3654360" y="5682240"/>
                  <a:chExt cx="473400" cy="421560"/>
                </a:xfrm>
              </p:grpSpPr>
              <p:sp>
                <p:nvSpPr>
                  <p:cNvPr id="2415" name="Arc 269"/>
                  <p:cNvSpPr/>
                  <p:nvPr/>
                </p:nvSpPr>
                <p:spPr>
                  <a:xfrm flipH="1" flipV="1" rot="505800">
                    <a:off x="3772800" y="5704200"/>
                    <a:ext cx="331560" cy="342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Arc 270"/>
                  <p:cNvSpPr/>
                  <p:nvPr/>
                </p:nvSpPr>
                <p:spPr>
                  <a:xfrm flipH="1" flipV="1" rot="21354600">
                    <a:off x="3667680" y="5704560"/>
                    <a:ext cx="332640" cy="387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Arc 271"/>
                  <p:cNvSpPr/>
                  <p:nvPr/>
                </p:nvSpPr>
                <p:spPr>
                  <a:xfrm flipH="1" flipV="1">
                    <a:off x="3913200" y="5704920"/>
                    <a:ext cx="191160" cy="342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8" name="Group 272"/>
              <p:cNvGrpSpPr/>
              <p:nvPr/>
            </p:nvGrpSpPr>
            <p:grpSpPr>
              <a:xfrm>
                <a:off x="3701160" y="6032520"/>
                <a:ext cx="677520" cy="407880"/>
                <a:chOff x="3701160" y="6032520"/>
                <a:chExt cx="677520" cy="407880"/>
              </a:xfrm>
            </p:grpSpPr>
            <p:sp>
              <p:nvSpPr>
                <p:cNvPr id="2419" name="Freeform 273"/>
                <p:cNvSpPr/>
                <p:nvPr/>
              </p:nvSpPr>
              <p:spPr>
                <a:xfrm>
                  <a:off x="4017960" y="6109200"/>
                  <a:ext cx="183600" cy="280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Freeform 274"/>
                <p:cNvSpPr/>
                <p:nvPr/>
              </p:nvSpPr>
              <p:spPr>
                <a:xfrm>
                  <a:off x="4043160" y="6094440"/>
                  <a:ext cx="236160" cy="188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Freeform 275"/>
                <p:cNvSpPr/>
                <p:nvPr/>
              </p:nvSpPr>
              <p:spPr>
                <a:xfrm rot="772200">
                  <a:off x="3751200" y="6054120"/>
                  <a:ext cx="228600" cy="304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Freeform 276"/>
                <p:cNvSpPr/>
                <p:nvPr/>
              </p:nvSpPr>
              <p:spPr>
                <a:xfrm>
                  <a:off x="4017240" y="6092280"/>
                  <a:ext cx="238680" cy="249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Rectangle 277"/>
                <p:cNvSpPr/>
                <p:nvPr/>
              </p:nvSpPr>
              <p:spPr>
                <a:xfrm>
                  <a:off x="3980160" y="6062760"/>
                  <a:ext cx="100800" cy="77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Freeform 278"/>
                <p:cNvSpPr/>
                <p:nvPr/>
              </p:nvSpPr>
              <p:spPr>
                <a:xfrm rot="1519200">
                  <a:off x="4017600" y="6151680"/>
                  <a:ext cx="238320" cy="249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5" name="Group 279"/>
                <p:cNvGrpSpPr/>
                <p:nvPr/>
              </p:nvGrpSpPr>
              <p:grpSpPr>
                <a:xfrm>
                  <a:off x="3701160" y="6084000"/>
                  <a:ext cx="371160" cy="317520"/>
                  <a:chOff x="3701160" y="6084000"/>
                  <a:chExt cx="371160" cy="317520"/>
                </a:xfrm>
              </p:grpSpPr>
              <p:sp>
                <p:nvSpPr>
                  <p:cNvPr id="2426" name="Freeform 280"/>
                  <p:cNvSpPr/>
                  <p:nvPr/>
                </p:nvSpPr>
                <p:spPr>
                  <a:xfrm>
                    <a:off x="3718080" y="6092280"/>
                    <a:ext cx="272160" cy="154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Freeform 281"/>
                  <p:cNvSpPr/>
                  <p:nvPr/>
                </p:nvSpPr>
                <p:spPr>
                  <a:xfrm>
                    <a:off x="3862440" y="6094800"/>
                    <a:ext cx="127800" cy="306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Freeform 282"/>
                  <p:cNvSpPr/>
                  <p:nvPr/>
                </p:nvSpPr>
                <p:spPr>
                  <a:xfrm>
                    <a:off x="3701160" y="6084000"/>
                    <a:ext cx="289440" cy="102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Freeform 283"/>
                  <p:cNvSpPr/>
                  <p:nvPr/>
                </p:nvSpPr>
                <p:spPr>
                  <a:xfrm flipH="1" rot="21135600">
                    <a:off x="3750840" y="6108120"/>
                    <a:ext cx="239040" cy="250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284"/>
                  <p:cNvSpPr/>
                  <p:nvPr/>
                </p:nvSpPr>
                <p:spPr>
                  <a:xfrm rot="18567600">
                    <a:off x="3808440" y="6188400"/>
                    <a:ext cx="270720" cy="110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1" name="Group 285"/>
                <p:cNvGrpSpPr/>
                <p:nvPr/>
              </p:nvGrpSpPr>
              <p:grpSpPr>
                <a:xfrm>
                  <a:off x="4007520" y="6062760"/>
                  <a:ext cx="371160" cy="317520"/>
                  <a:chOff x="4007520" y="6062760"/>
                  <a:chExt cx="371160" cy="317520"/>
                </a:xfrm>
              </p:grpSpPr>
              <p:sp>
                <p:nvSpPr>
                  <p:cNvPr id="2432" name="Freeform 286"/>
                  <p:cNvSpPr/>
                  <p:nvPr/>
                </p:nvSpPr>
                <p:spPr>
                  <a:xfrm flipH="1">
                    <a:off x="4089600" y="6071040"/>
                    <a:ext cx="272160" cy="154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287"/>
                  <p:cNvSpPr/>
                  <p:nvPr/>
                </p:nvSpPr>
                <p:spPr>
                  <a:xfrm flipH="1">
                    <a:off x="4089240" y="6073560"/>
                    <a:ext cx="127800" cy="306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288"/>
                  <p:cNvSpPr/>
                  <p:nvPr/>
                </p:nvSpPr>
                <p:spPr>
                  <a:xfrm flipH="1">
                    <a:off x="4089240" y="6062760"/>
                    <a:ext cx="289440" cy="102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Freeform 289"/>
                  <p:cNvSpPr/>
                  <p:nvPr/>
                </p:nvSpPr>
                <p:spPr>
                  <a:xfrm rot="464400">
                    <a:off x="4089240" y="6086880"/>
                    <a:ext cx="239040" cy="250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Freeform 290"/>
                  <p:cNvSpPr/>
                  <p:nvPr/>
                </p:nvSpPr>
                <p:spPr>
                  <a:xfrm flipH="1" rot="3032400">
                    <a:off x="4000680" y="6167160"/>
                    <a:ext cx="270720" cy="110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37" name="TextBox 1126"/>
            <p:cNvSpPr/>
            <p:nvPr/>
          </p:nvSpPr>
          <p:spPr>
            <a:xfrm>
              <a:off x="3857400" y="6347160"/>
              <a:ext cx="561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8" name="Прямая соединительная линия 1129"/>
          <p:cNvSpPr/>
          <p:nvPr/>
        </p:nvSpPr>
        <p:spPr>
          <a:xfrm>
            <a:off x="228600" y="3352680"/>
            <a:ext cx="1371600" cy="180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Прямоугольник 1130"/>
          <p:cNvSpPr/>
          <p:nvPr/>
        </p:nvSpPr>
        <p:spPr>
          <a:xfrm>
            <a:off x="5749920" y="5105520"/>
            <a:ext cx="281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щ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-, малол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гокарп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Прямоугольник 1131"/>
          <p:cNvSpPr/>
          <p:nvPr/>
        </p:nvSpPr>
        <p:spPr>
          <a:xfrm>
            <a:off x="6872040" y="144792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л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окарп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3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30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icuta virosa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2" name="Group 219"/>
          <p:cNvGrpSpPr/>
          <p:nvPr/>
        </p:nvGrpSpPr>
        <p:grpSpPr>
          <a:xfrm>
            <a:off x="5228280" y="2362320"/>
            <a:ext cx="1781280" cy="2264760"/>
            <a:chOff x="5228280" y="2362320"/>
            <a:chExt cx="1781280" cy="2264760"/>
          </a:xfrm>
        </p:grpSpPr>
        <p:sp>
          <p:nvSpPr>
            <p:cNvPr id="2443" name="Line 220"/>
            <p:cNvSpPr/>
            <p:nvPr/>
          </p:nvSpPr>
          <p:spPr>
            <a:xfrm>
              <a:off x="6147360" y="2653560"/>
              <a:ext cx="10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AutoShape 221"/>
            <p:cNvSpPr/>
            <p:nvPr/>
          </p:nvSpPr>
          <p:spPr>
            <a:xfrm rot="10800000">
              <a:off x="5972040" y="2362320"/>
              <a:ext cx="345960" cy="30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Arc 222"/>
            <p:cNvSpPr/>
            <p:nvPr/>
          </p:nvSpPr>
          <p:spPr>
            <a:xfrm flipV="1">
              <a:off x="6147360" y="2890440"/>
              <a:ext cx="174600" cy="26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Arc 223"/>
            <p:cNvSpPr/>
            <p:nvPr/>
          </p:nvSpPr>
          <p:spPr>
            <a:xfrm flipH="1" flipV="1" rot="1816200">
              <a:off x="6242760" y="2721600"/>
              <a:ext cx="111600" cy="17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Line 224"/>
            <p:cNvSpPr/>
            <p:nvPr/>
          </p:nvSpPr>
          <p:spPr>
            <a:xfrm flipV="1">
              <a:off x="6171480" y="2745000"/>
              <a:ext cx="26244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Line 225"/>
            <p:cNvSpPr/>
            <p:nvPr/>
          </p:nvSpPr>
          <p:spPr>
            <a:xfrm flipV="1">
              <a:off x="6312240" y="2728800"/>
              <a:ext cx="324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AutoShape 226"/>
            <p:cNvSpPr/>
            <p:nvPr/>
          </p:nvSpPr>
          <p:spPr>
            <a:xfrm rot="14044200">
              <a:off x="6392160" y="2588400"/>
              <a:ext cx="267840" cy="246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AutoShape 227"/>
            <p:cNvSpPr/>
            <p:nvPr/>
          </p:nvSpPr>
          <p:spPr>
            <a:xfrm rot="10800000">
              <a:off x="6211080" y="2587680"/>
              <a:ext cx="19224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Arc 228"/>
            <p:cNvSpPr/>
            <p:nvPr/>
          </p:nvSpPr>
          <p:spPr>
            <a:xfrm flipH="1" flipV="1">
              <a:off x="6013800" y="3464640"/>
              <a:ext cx="156600" cy="22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Arc 229"/>
            <p:cNvSpPr/>
            <p:nvPr/>
          </p:nvSpPr>
          <p:spPr>
            <a:xfrm flipV="1" rot="19780800">
              <a:off x="5932440" y="3228120"/>
              <a:ext cx="94320" cy="11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Line 230"/>
            <p:cNvSpPr/>
            <p:nvPr/>
          </p:nvSpPr>
          <p:spPr>
            <a:xfrm>
              <a:off x="5864760" y="3160440"/>
              <a:ext cx="253440" cy="5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AutoShape 231"/>
            <p:cNvSpPr/>
            <p:nvPr/>
          </p:nvSpPr>
          <p:spPr>
            <a:xfrm flipH="1" rot="8721600">
              <a:off x="5641560" y="2998800"/>
              <a:ext cx="311040" cy="190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5" name="Group 232"/>
            <p:cNvGrpSpPr/>
            <p:nvPr/>
          </p:nvGrpSpPr>
          <p:grpSpPr>
            <a:xfrm>
              <a:off x="5516640" y="3983040"/>
              <a:ext cx="1274760" cy="644040"/>
              <a:chOff x="5516640" y="3983040"/>
              <a:chExt cx="1274760" cy="644040"/>
            </a:xfrm>
          </p:grpSpPr>
          <p:sp>
            <p:nvSpPr>
              <p:cNvPr id="2456" name="Freeform 233"/>
              <p:cNvSpPr/>
              <p:nvPr/>
            </p:nvSpPr>
            <p:spPr>
              <a:xfrm>
                <a:off x="6112440" y="4108320"/>
                <a:ext cx="345240" cy="423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234"/>
              <p:cNvSpPr/>
              <p:nvPr/>
            </p:nvSpPr>
            <p:spPr>
              <a:xfrm>
                <a:off x="6160320" y="4086000"/>
                <a:ext cx="444240" cy="284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235"/>
              <p:cNvSpPr/>
              <p:nvPr/>
            </p:nvSpPr>
            <p:spPr>
              <a:xfrm rot="772200">
                <a:off x="5611320" y="4025160"/>
                <a:ext cx="430200" cy="460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236"/>
              <p:cNvSpPr/>
              <p:nvPr/>
            </p:nvSpPr>
            <p:spPr>
              <a:xfrm>
                <a:off x="6111360" y="4083120"/>
                <a:ext cx="449280" cy="376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Rectangle 237"/>
              <p:cNvSpPr/>
              <p:nvPr/>
            </p:nvSpPr>
            <p:spPr>
              <a:xfrm>
                <a:off x="6041880" y="4038480"/>
                <a:ext cx="190080" cy="11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238"/>
              <p:cNvSpPr/>
              <p:nvPr/>
            </p:nvSpPr>
            <p:spPr>
              <a:xfrm rot="1519200">
                <a:off x="6112440" y="4172400"/>
                <a:ext cx="448560" cy="376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2" name="Group 239"/>
              <p:cNvGrpSpPr/>
              <p:nvPr/>
            </p:nvGrpSpPr>
            <p:grpSpPr>
              <a:xfrm>
                <a:off x="5516640" y="4070160"/>
                <a:ext cx="666000" cy="479160"/>
                <a:chOff x="5516640" y="4070160"/>
                <a:chExt cx="666000" cy="479160"/>
              </a:xfrm>
            </p:grpSpPr>
            <p:sp>
              <p:nvSpPr>
                <p:cNvPr id="2463" name="Freeform 240"/>
                <p:cNvSpPr/>
                <p:nvPr/>
              </p:nvSpPr>
              <p:spPr>
                <a:xfrm>
                  <a:off x="5549040" y="4082760"/>
                  <a:ext cx="511920" cy="233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Freeform 241"/>
                <p:cNvSpPr/>
                <p:nvPr/>
              </p:nvSpPr>
              <p:spPr>
                <a:xfrm>
                  <a:off x="5820120" y="4086360"/>
                  <a:ext cx="240840" cy="46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Freeform 242"/>
                <p:cNvSpPr/>
                <p:nvPr/>
              </p:nvSpPr>
              <p:spPr>
                <a:xfrm>
                  <a:off x="5516640" y="4070160"/>
                  <a:ext cx="544320" cy="155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Freeform 243"/>
                <p:cNvSpPr/>
                <p:nvPr/>
              </p:nvSpPr>
              <p:spPr>
                <a:xfrm flipH="1" rot="21135600">
                  <a:off x="5611320" y="4106880"/>
                  <a:ext cx="449280" cy="378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Freeform 244"/>
                <p:cNvSpPr/>
                <p:nvPr/>
              </p:nvSpPr>
              <p:spPr>
                <a:xfrm rot="18567600">
                  <a:off x="5768640" y="4207320"/>
                  <a:ext cx="408240" cy="207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8" name="Group 245"/>
              <p:cNvGrpSpPr/>
              <p:nvPr/>
            </p:nvGrpSpPr>
            <p:grpSpPr>
              <a:xfrm>
                <a:off x="6125760" y="4038480"/>
                <a:ext cx="665640" cy="479160"/>
                <a:chOff x="6125760" y="4038480"/>
                <a:chExt cx="665640" cy="479160"/>
              </a:xfrm>
            </p:grpSpPr>
            <p:sp>
              <p:nvSpPr>
                <p:cNvPr id="2469" name="Freeform 246"/>
                <p:cNvSpPr/>
                <p:nvPr/>
              </p:nvSpPr>
              <p:spPr>
                <a:xfrm flipH="1">
                  <a:off x="6247080" y="4051080"/>
                  <a:ext cx="511560" cy="233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Freeform 247"/>
                <p:cNvSpPr/>
                <p:nvPr/>
              </p:nvSpPr>
              <p:spPr>
                <a:xfrm flipH="1">
                  <a:off x="6247440" y="4054680"/>
                  <a:ext cx="240480" cy="46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Freeform 248"/>
                <p:cNvSpPr/>
                <p:nvPr/>
              </p:nvSpPr>
              <p:spPr>
                <a:xfrm flipH="1">
                  <a:off x="6247080" y="4038480"/>
                  <a:ext cx="543960" cy="155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Freeform 249"/>
                <p:cNvSpPr/>
                <p:nvPr/>
              </p:nvSpPr>
              <p:spPr>
                <a:xfrm rot="464400">
                  <a:off x="6247440" y="4075200"/>
                  <a:ext cx="448920" cy="377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Freeform 250"/>
                <p:cNvSpPr/>
                <p:nvPr/>
              </p:nvSpPr>
              <p:spPr>
                <a:xfrm flipH="1" rot="3032400">
                  <a:off x="6130800" y="4175640"/>
                  <a:ext cx="408600" cy="207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4" name="Group 251"/>
            <p:cNvGrpSpPr/>
            <p:nvPr/>
          </p:nvGrpSpPr>
          <p:grpSpPr>
            <a:xfrm>
              <a:off x="6078600" y="3501720"/>
              <a:ext cx="930960" cy="741600"/>
              <a:chOff x="6078600" y="3501720"/>
              <a:chExt cx="930960" cy="741600"/>
            </a:xfrm>
          </p:grpSpPr>
          <p:sp>
            <p:nvSpPr>
              <p:cNvPr id="2475" name="Arc 252"/>
              <p:cNvSpPr/>
              <p:nvPr/>
            </p:nvSpPr>
            <p:spPr>
              <a:xfrm flipV="1" rot="245400">
                <a:off x="6238800" y="3522960"/>
                <a:ext cx="626400" cy="587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6" name="Group 253"/>
              <p:cNvGrpSpPr/>
              <p:nvPr/>
            </p:nvGrpSpPr>
            <p:grpSpPr>
              <a:xfrm>
                <a:off x="6721920" y="3584880"/>
                <a:ext cx="287640" cy="321480"/>
                <a:chOff x="6721920" y="3584880"/>
                <a:chExt cx="287640" cy="321480"/>
              </a:xfrm>
            </p:grpSpPr>
            <p:cxnSp>
              <p:nvCxnSpPr>
                <p:cNvPr id="2477" name="AutoShape 254"/>
                <p:cNvCxnSpPr/>
                <p:nvPr/>
              </p:nvCxnSpPr>
              <p:spPr>
                <a:xfrm flipH="1">
                  <a:off x="6865560" y="3584880"/>
                  <a:ext cx="144360" cy="88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78" name="AutoShape 255"/>
                <p:cNvCxnSpPr/>
                <p:nvPr/>
              </p:nvCxnSpPr>
              <p:spPr>
                <a:xfrm flipH="1">
                  <a:off x="6721920" y="3817800"/>
                  <a:ext cx="225000" cy="88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79" name="AutoShape 256"/>
                <p:cNvCxnSpPr/>
                <p:nvPr/>
              </p:nvCxnSpPr>
              <p:spPr>
                <a:xfrm flipH="1">
                  <a:off x="6865560" y="3673080"/>
                  <a:ext cx="144360" cy="66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80" name="AutoShape 257"/>
                <p:cNvCxnSpPr/>
                <p:nvPr/>
              </p:nvCxnSpPr>
              <p:spPr>
                <a:xfrm flipH="1">
                  <a:off x="6802560" y="3761640"/>
                  <a:ext cx="144720" cy="56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481" name="Group 258"/>
              <p:cNvGrpSpPr/>
              <p:nvPr/>
            </p:nvGrpSpPr>
            <p:grpSpPr>
              <a:xfrm>
                <a:off x="6710760" y="3503520"/>
                <a:ext cx="170280" cy="440640"/>
                <a:chOff x="6710760" y="3503520"/>
                <a:chExt cx="170280" cy="440640"/>
              </a:xfrm>
            </p:grpSpPr>
            <p:cxnSp>
              <p:nvCxnSpPr>
                <p:cNvPr id="2482" name="AutoShape 259"/>
                <p:cNvCxnSpPr/>
                <p:nvPr/>
              </p:nvCxnSpPr>
              <p:spPr>
                <a:xfrm>
                  <a:off x="6870960" y="3503520"/>
                  <a:ext cx="10440" cy="160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83" name="AutoShape 260"/>
                <p:cNvCxnSpPr/>
                <p:nvPr/>
              </p:nvCxnSpPr>
              <p:spPr>
                <a:xfrm>
                  <a:off x="6710760" y="3734640"/>
                  <a:ext cx="57960" cy="209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84" name="AutoShape 261"/>
                <p:cNvCxnSpPr/>
                <p:nvPr/>
              </p:nvCxnSpPr>
              <p:spPr>
                <a:xfrm>
                  <a:off x="6796440" y="3575880"/>
                  <a:ext cx="29160" cy="142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85" name="AutoShape 262"/>
                <p:cNvCxnSpPr/>
                <p:nvPr/>
              </p:nvCxnSpPr>
              <p:spPr>
                <a:xfrm>
                  <a:off x="6759000" y="3687480"/>
                  <a:ext cx="37440" cy="134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486" name="Group 263"/>
              <p:cNvGrpSpPr/>
              <p:nvPr/>
            </p:nvGrpSpPr>
            <p:grpSpPr>
              <a:xfrm>
                <a:off x="6078600" y="3574440"/>
                <a:ext cx="567360" cy="668880"/>
                <a:chOff x="6078600" y="3574440"/>
                <a:chExt cx="567360" cy="668880"/>
              </a:xfrm>
            </p:grpSpPr>
            <p:grpSp>
              <p:nvGrpSpPr>
                <p:cNvPr id="2487" name="Group 264"/>
                <p:cNvGrpSpPr/>
                <p:nvPr/>
              </p:nvGrpSpPr>
              <p:grpSpPr>
                <a:xfrm>
                  <a:off x="6239880" y="3874320"/>
                  <a:ext cx="91440" cy="118440"/>
                  <a:chOff x="6239880" y="3874320"/>
                  <a:chExt cx="91440" cy="118440"/>
                </a:xfrm>
              </p:grpSpPr>
              <p:grpSp>
                <p:nvGrpSpPr>
                  <p:cNvPr id="2488" name="Group 265"/>
                  <p:cNvGrpSpPr/>
                  <p:nvPr/>
                </p:nvGrpSpPr>
                <p:grpSpPr>
                  <a:xfrm>
                    <a:off x="6239880" y="3874320"/>
                    <a:ext cx="91440" cy="118440"/>
                    <a:chOff x="6239880" y="3874320"/>
                    <a:chExt cx="91440" cy="118440"/>
                  </a:xfrm>
                </p:grpSpPr>
                <p:sp>
                  <p:nvSpPr>
                    <p:cNvPr id="2489" name="Arc 266"/>
                    <p:cNvSpPr/>
                    <p:nvPr/>
                  </p:nvSpPr>
                  <p:spPr>
                    <a:xfrm rot="735000">
                      <a:off x="6285960" y="3884040"/>
                      <a:ext cx="34200" cy="106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0" name="Arc 267"/>
                    <p:cNvSpPr/>
                    <p:nvPr/>
                  </p:nvSpPr>
                  <p:spPr>
                    <a:xfrm flipH="1" rot="735000">
                      <a:off x="6250680" y="3876480"/>
                      <a:ext cx="34200" cy="106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1" name="Group 268"/>
                  <p:cNvGrpSpPr/>
                  <p:nvPr/>
                </p:nvGrpSpPr>
                <p:grpSpPr>
                  <a:xfrm>
                    <a:off x="6255720" y="3923640"/>
                    <a:ext cx="48960" cy="62640"/>
                    <a:chOff x="6255720" y="3923640"/>
                    <a:chExt cx="48960" cy="62640"/>
                  </a:xfrm>
                </p:grpSpPr>
                <p:sp>
                  <p:nvSpPr>
                    <p:cNvPr id="2492" name="Arc 269"/>
                    <p:cNvSpPr/>
                    <p:nvPr/>
                  </p:nvSpPr>
                  <p:spPr>
                    <a:xfrm rot="735000">
                      <a:off x="6279840" y="3928680"/>
                      <a:ext cx="18720" cy="56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3" name="Arc 270"/>
                    <p:cNvSpPr/>
                    <p:nvPr/>
                  </p:nvSpPr>
                  <p:spPr>
                    <a:xfrm flipH="1" rot="735000">
                      <a:off x="6261120" y="3924720"/>
                      <a:ext cx="18720" cy="56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2494" name="AutoShape 271"/>
                  <p:cNvCxnSpPr/>
                  <p:nvPr/>
                </p:nvCxnSpPr>
                <p:spPr>
                  <a:xfrm>
                    <a:off x="6240960" y="3975840"/>
                    <a:ext cx="68400" cy="158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495" name="Group 272"/>
                <p:cNvGrpSpPr/>
                <p:nvPr/>
              </p:nvGrpSpPr>
              <p:grpSpPr>
                <a:xfrm>
                  <a:off x="6117120" y="3574440"/>
                  <a:ext cx="269280" cy="435960"/>
                  <a:chOff x="6117120" y="3574440"/>
                  <a:chExt cx="269280" cy="435960"/>
                </a:xfrm>
              </p:grpSpPr>
              <p:sp>
                <p:nvSpPr>
                  <p:cNvPr id="2496" name="Arc 273"/>
                  <p:cNvSpPr/>
                  <p:nvPr/>
                </p:nvSpPr>
                <p:spPr>
                  <a:xfrm flipH="1" flipV="1" rot="735000">
                    <a:off x="6157440" y="3641400"/>
                    <a:ext cx="193680" cy="352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97" name="Group 274"/>
                  <p:cNvGrpSpPr/>
                  <p:nvPr/>
                </p:nvGrpSpPr>
                <p:grpSpPr>
                  <a:xfrm>
                    <a:off x="6117120" y="3574440"/>
                    <a:ext cx="82800" cy="263520"/>
                    <a:chOff x="6117120" y="3574440"/>
                    <a:chExt cx="82800" cy="263520"/>
                  </a:xfrm>
                </p:grpSpPr>
                <p:cxnSp>
                  <p:nvCxnSpPr>
                    <p:cNvPr id="2498" name="AutoShape 275"/>
                    <p:cNvCxnSpPr/>
                    <p:nvPr/>
                  </p:nvCxnSpPr>
                  <p:spPr>
                    <a:xfrm>
                      <a:off x="6155640" y="3574440"/>
                      <a:ext cx="44280" cy="88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99" name="AutoShape 276"/>
                    <p:cNvCxnSpPr/>
                    <p:nvPr/>
                  </p:nvCxnSpPr>
                  <p:spPr>
                    <a:xfrm>
                      <a:off x="6117120" y="3731400"/>
                      <a:ext cx="83160" cy="106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00" name="AutoShape 277"/>
                    <p:cNvCxnSpPr/>
                    <p:nvPr/>
                  </p:nvCxnSpPr>
                  <p:spPr>
                    <a:xfrm>
                      <a:off x="6129720" y="3628440"/>
                      <a:ext cx="50760" cy="74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01" name="AutoShape 278"/>
                    <p:cNvCxnSpPr/>
                    <p:nvPr/>
                  </p:nvCxnSpPr>
                  <p:spPr>
                    <a:xfrm>
                      <a:off x="6133320" y="3696840"/>
                      <a:ext cx="54000" cy="69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502" name="Group 279"/>
                  <p:cNvGrpSpPr/>
                  <p:nvPr/>
                </p:nvGrpSpPr>
                <p:grpSpPr>
                  <a:xfrm>
                    <a:off x="6174360" y="3597120"/>
                    <a:ext cx="87480" cy="254880"/>
                    <a:chOff x="6174360" y="3597120"/>
                    <a:chExt cx="87480" cy="254880"/>
                  </a:xfrm>
                </p:grpSpPr>
                <p:cxnSp>
                  <p:nvCxnSpPr>
                    <p:cNvPr id="2503" name="AutoShape 280"/>
                    <p:cNvCxnSpPr/>
                    <p:nvPr/>
                  </p:nvCxnSpPr>
                  <p:spPr>
                    <a:xfrm flipH="1">
                      <a:off x="6174360" y="3597120"/>
                      <a:ext cx="39960" cy="9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04" name="AutoShape 281"/>
                    <p:cNvCxnSpPr/>
                    <p:nvPr/>
                  </p:nvCxnSpPr>
                  <p:spPr>
                    <a:xfrm flipH="1">
                      <a:off x="6183360" y="3735000"/>
                      <a:ext cx="78840" cy="117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05" name="AutoShape 282"/>
                    <p:cNvCxnSpPr/>
                    <p:nvPr/>
                  </p:nvCxnSpPr>
                  <p:spPr>
                    <a:xfrm flipH="1">
                      <a:off x="6196320" y="3642120"/>
                      <a:ext cx="47520" cy="79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06" name="AutoShape 283"/>
                    <p:cNvCxnSpPr/>
                    <p:nvPr/>
                  </p:nvCxnSpPr>
                  <p:spPr>
                    <a:xfrm flipH="1">
                      <a:off x="6192360" y="3706920"/>
                      <a:ext cx="50760" cy="74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507" name="Group 284"/>
                <p:cNvGrpSpPr/>
                <p:nvPr/>
              </p:nvGrpSpPr>
              <p:grpSpPr>
                <a:xfrm>
                  <a:off x="6300720" y="3611880"/>
                  <a:ext cx="218520" cy="407520"/>
                  <a:chOff x="6300720" y="3611880"/>
                  <a:chExt cx="218520" cy="407520"/>
                </a:xfrm>
              </p:grpSpPr>
              <p:sp>
                <p:nvSpPr>
                  <p:cNvPr id="2508" name="Arc 285"/>
                  <p:cNvSpPr/>
                  <p:nvPr/>
                </p:nvSpPr>
                <p:spPr>
                  <a:xfrm flipV="1" rot="735000">
                    <a:off x="6340320" y="3625920"/>
                    <a:ext cx="114120" cy="385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9" name="Group 286"/>
                  <p:cNvGrpSpPr/>
                  <p:nvPr/>
                </p:nvGrpSpPr>
                <p:grpSpPr>
                  <a:xfrm>
                    <a:off x="6431760" y="3611880"/>
                    <a:ext cx="87480" cy="240840"/>
                    <a:chOff x="6431760" y="3611880"/>
                    <a:chExt cx="87480" cy="240840"/>
                  </a:xfrm>
                </p:grpSpPr>
                <p:cxnSp>
                  <p:nvCxnSpPr>
                    <p:cNvPr id="2510" name="AutoShape 287"/>
                    <p:cNvCxnSpPr/>
                    <p:nvPr/>
                  </p:nvCxnSpPr>
                  <p:spPr>
                    <a:xfrm flipH="1">
                      <a:off x="6473520" y="3611880"/>
                      <a:ext cx="45000" cy="66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11" name="AutoShape 288"/>
                    <p:cNvCxnSpPr/>
                    <p:nvPr/>
                  </p:nvCxnSpPr>
                  <p:spPr>
                    <a:xfrm flipH="1">
                      <a:off x="6431760" y="3785040"/>
                      <a:ext cx="70920" cy="68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12" name="AutoShape 289"/>
                    <p:cNvCxnSpPr/>
                    <p:nvPr/>
                  </p:nvCxnSpPr>
                  <p:spPr>
                    <a:xfrm flipH="1">
                      <a:off x="6474600" y="3677040"/>
                      <a:ext cx="45000" cy="50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13" name="AutoShape 290"/>
                    <p:cNvCxnSpPr/>
                    <p:nvPr/>
                  </p:nvCxnSpPr>
                  <p:spPr>
                    <a:xfrm flipH="1">
                      <a:off x="6455880" y="3743640"/>
                      <a:ext cx="45360" cy="43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514" name="Group 291"/>
                  <p:cNvGrpSpPr/>
                  <p:nvPr/>
                </p:nvGrpSpPr>
                <p:grpSpPr>
                  <a:xfrm>
                    <a:off x="6409440" y="3636720"/>
                    <a:ext cx="71280" cy="215640"/>
                    <a:chOff x="6409440" y="3636720"/>
                    <a:chExt cx="71280" cy="215640"/>
                  </a:xfrm>
                </p:grpSpPr>
                <p:cxnSp>
                  <p:nvCxnSpPr>
                    <p:cNvPr id="2515" name="AutoShape 292"/>
                    <p:cNvCxnSpPr/>
                    <p:nvPr/>
                  </p:nvCxnSpPr>
                  <p:spPr>
                    <a:xfrm>
                      <a:off x="6458760" y="3636720"/>
                      <a:ext cx="22320" cy="943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16" name="AutoShape 293"/>
                    <p:cNvCxnSpPr/>
                    <p:nvPr/>
                  </p:nvCxnSpPr>
                  <p:spPr>
                    <a:xfrm>
                      <a:off x="6409440" y="3714840"/>
                      <a:ext cx="49320" cy="137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17" name="AutoShape 294"/>
                    <p:cNvCxnSpPr/>
                    <p:nvPr/>
                  </p:nvCxnSpPr>
                  <p:spPr>
                    <a:xfrm>
                      <a:off x="6432120" y="3653280"/>
                      <a:ext cx="28800" cy="90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18" name="AutoShape 295"/>
                    <p:cNvCxnSpPr/>
                    <p:nvPr/>
                  </p:nvCxnSpPr>
                  <p:spPr>
                    <a:xfrm>
                      <a:off x="6426360" y="3704400"/>
                      <a:ext cx="31320" cy="88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519" name="Group 296"/>
                <p:cNvGrpSpPr/>
                <p:nvPr/>
              </p:nvGrpSpPr>
              <p:grpSpPr>
                <a:xfrm>
                  <a:off x="6237360" y="3597840"/>
                  <a:ext cx="408600" cy="457200"/>
                  <a:chOff x="6237360" y="3597840"/>
                  <a:chExt cx="408600" cy="457200"/>
                </a:xfrm>
              </p:grpSpPr>
              <p:sp>
                <p:nvSpPr>
                  <p:cNvPr id="2520" name="Arc 297"/>
                  <p:cNvSpPr/>
                  <p:nvPr/>
                </p:nvSpPr>
                <p:spPr>
                  <a:xfrm flipV="1" rot="922800">
                    <a:off x="6284520" y="3628440"/>
                    <a:ext cx="284760" cy="396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1" name="Group 298"/>
                  <p:cNvGrpSpPr/>
                  <p:nvPr/>
                </p:nvGrpSpPr>
                <p:grpSpPr>
                  <a:xfrm>
                    <a:off x="6502680" y="3713760"/>
                    <a:ext cx="143280" cy="165960"/>
                    <a:chOff x="6502680" y="3713760"/>
                    <a:chExt cx="143280" cy="165960"/>
                  </a:xfrm>
                </p:grpSpPr>
                <p:cxnSp>
                  <p:nvCxnSpPr>
                    <p:cNvPr id="2522" name="AutoShape 299"/>
                    <p:cNvCxnSpPr/>
                    <p:nvPr/>
                  </p:nvCxnSpPr>
                  <p:spPr>
                    <a:xfrm flipH="1">
                      <a:off x="6565320" y="3813120"/>
                      <a:ext cx="64080" cy="11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23" name="AutoShape 300"/>
                    <p:cNvCxnSpPr/>
                    <p:nvPr/>
                  </p:nvCxnSpPr>
                  <p:spPr>
                    <a:xfrm flipH="1">
                      <a:off x="6582240" y="3772440"/>
                      <a:ext cx="64080" cy="11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24" name="AutoShape 301"/>
                    <p:cNvCxnSpPr/>
                    <p:nvPr/>
                  </p:nvCxnSpPr>
                  <p:spPr>
                    <a:xfrm>
                      <a:off x="6553080" y="3713760"/>
                      <a:ext cx="29880" cy="70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25" name="AutoShape 302"/>
                    <p:cNvCxnSpPr/>
                    <p:nvPr/>
                  </p:nvCxnSpPr>
                  <p:spPr>
                    <a:xfrm>
                      <a:off x="6527520" y="3751200"/>
                      <a:ext cx="43200" cy="65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26" name="AutoShape 303"/>
                    <p:cNvCxnSpPr/>
                    <p:nvPr/>
                  </p:nvCxnSpPr>
                  <p:spPr>
                    <a:xfrm>
                      <a:off x="6502680" y="3791520"/>
                      <a:ext cx="18360" cy="88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27" name="AutoShape 304"/>
                    <p:cNvCxnSpPr/>
                    <p:nvPr/>
                  </p:nvCxnSpPr>
                  <p:spPr>
                    <a:xfrm flipH="1">
                      <a:off x="6515280" y="3854520"/>
                      <a:ext cx="87840" cy="223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sp>
              <p:nvSpPr>
                <p:cNvPr id="2528" name="Freeform 305"/>
                <p:cNvSpPr/>
                <p:nvPr/>
              </p:nvSpPr>
              <p:spPr>
                <a:xfrm rot="735000">
                  <a:off x="6236280" y="4043520"/>
                  <a:ext cx="97920" cy="153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Freeform 306"/>
                <p:cNvSpPr/>
                <p:nvPr/>
              </p:nvSpPr>
              <p:spPr>
                <a:xfrm rot="735000">
                  <a:off x="6260400" y="4041720"/>
                  <a:ext cx="172080" cy="185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Freeform 307"/>
                <p:cNvSpPr/>
                <p:nvPr/>
              </p:nvSpPr>
              <p:spPr>
                <a:xfrm rot="735000">
                  <a:off x="6271920" y="4081680"/>
                  <a:ext cx="81000" cy="134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Rectangle 308"/>
                <p:cNvSpPr/>
                <p:nvPr/>
              </p:nvSpPr>
              <p:spPr>
                <a:xfrm rot="735000">
                  <a:off x="6216840" y="3989880"/>
                  <a:ext cx="101880" cy="7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Freeform 309"/>
                <p:cNvSpPr/>
                <p:nvPr/>
              </p:nvSpPr>
              <p:spPr>
                <a:xfrm rot="2254200">
                  <a:off x="6273720" y="4085640"/>
                  <a:ext cx="145080" cy="86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3" name="Group 310"/>
                <p:cNvGrpSpPr/>
                <p:nvPr/>
              </p:nvGrpSpPr>
              <p:grpSpPr>
                <a:xfrm>
                  <a:off x="6078600" y="3973320"/>
                  <a:ext cx="197640" cy="226440"/>
                  <a:chOff x="6078600" y="3973320"/>
                  <a:chExt cx="197640" cy="226440"/>
                </a:xfrm>
              </p:grpSpPr>
              <p:sp>
                <p:nvSpPr>
                  <p:cNvPr id="2534" name="Freeform 311"/>
                  <p:cNvSpPr/>
                  <p:nvPr/>
                </p:nvSpPr>
                <p:spPr>
                  <a:xfrm rot="735000">
                    <a:off x="6087240" y="3993480"/>
                    <a:ext cx="138600" cy="97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Freeform 312"/>
                  <p:cNvSpPr/>
                  <p:nvPr/>
                </p:nvSpPr>
                <p:spPr>
                  <a:xfrm rot="735000">
                    <a:off x="6149880" y="4002120"/>
                    <a:ext cx="65160" cy="192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313"/>
                  <p:cNvSpPr/>
                  <p:nvPr/>
                </p:nvSpPr>
                <p:spPr>
                  <a:xfrm rot="735000">
                    <a:off x="6083640" y="3988080"/>
                    <a:ext cx="147600" cy="64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Freeform 314"/>
                  <p:cNvSpPr/>
                  <p:nvPr/>
                </p:nvSpPr>
                <p:spPr>
                  <a:xfrm flipH="1" rot="270000">
                    <a:off x="6095520" y="4005000"/>
                    <a:ext cx="121680" cy="157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315"/>
                  <p:cNvSpPr/>
                  <p:nvPr/>
                </p:nvSpPr>
                <p:spPr>
                  <a:xfrm rot="19302600">
                    <a:off x="6106680" y="4069080"/>
                    <a:ext cx="170280" cy="56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39" name="Group 316"/>
            <p:cNvGrpSpPr/>
            <p:nvPr/>
          </p:nvGrpSpPr>
          <p:grpSpPr>
            <a:xfrm>
              <a:off x="5228280" y="3478680"/>
              <a:ext cx="980640" cy="753840"/>
              <a:chOff x="5228280" y="3478680"/>
              <a:chExt cx="980640" cy="753840"/>
            </a:xfrm>
          </p:grpSpPr>
          <p:sp>
            <p:nvSpPr>
              <p:cNvPr id="2540" name="Arc 317"/>
              <p:cNvSpPr/>
              <p:nvPr/>
            </p:nvSpPr>
            <p:spPr>
              <a:xfrm flipH="1" flipV="1" rot="20959800">
                <a:off x="5395680" y="3531240"/>
                <a:ext cx="626400" cy="587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1" name="Group 318"/>
              <p:cNvGrpSpPr/>
              <p:nvPr/>
            </p:nvGrpSpPr>
            <p:grpSpPr>
              <a:xfrm>
                <a:off x="5228280" y="3647160"/>
                <a:ext cx="322560" cy="286560"/>
                <a:chOff x="5228280" y="3647160"/>
                <a:chExt cx="322560" cy="286560"/>
              </a:xfrm>
            </p:grpSpPr>
            <p:cxnSp>
              <p:nvCxnSpPr>
                <p:cNvPr id="2542" name="AutoShape 319"/>
                <p:cNvCxnSpPr/>
                <p:nvPr/>
              </p:nvCxnSpPr>
              <p:spPr>
                <a:xfrm>
                  <a:off x="5228280" y="3647160"/>
                  <a:ext cx="153720" cy="72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43" name="AutoShape 320"/>
                <p:cNvCxnSpPr/>
                <p:nvPr/>
              </p:nvCxnSpPr>
              <p:spPr>
                <a:xfrm>
                  <a:off x="5317560" y="3871440"/>
                  <a:ext cx="233640" cy="62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44" name="AutoShape 321"/>
                <p:cNvCxnSpPr/>
                <p:nvPr/>
              </p:nvCxnSpPr>
              <p:spPr>
                <a:xfrm>
                  <a:off x="5238360" y="3735000"/>
                  <a:ext cx="151200" cy="49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45" name="AutoShape 322"/>
                <p:cNvCxnSpPr/>
                <p:nvPr/>
              </p:nvCxnSpPr>
              <p:spPr>
                <a:xfrm>
                  <a:off x="5310720" y="3815640"/>
                  <a:ext cx="150480" cy="39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546" name="Group 323"/>
              <p:cNvGrpSpPr/>
              <p:nvPr/>
            </p:nvGrpSpPr>
            <p:grpSpPr>
              <a:xfrm>
                <a:off x="5356800" y="3550680"/>
                <a:ext cx="185400" cy="425880"/>
                <a:chOff x="5356800" y="3550680"/>
                <a:chExt cx="185400" cy="425880"/>
              </a:xfrm>
            </p:grpSpPr>
            <p:cxnSp>
              <p:nvCxnSpPr>
                <p:cNvPr id="2547" name="AutoShape 324"/>
                <p:cNvCxnSpPr/>
                <p:nvPr/>
              </p:nvCxnSpPr>
              <p:spPr>
                <a:xfrm>
                  <a:off x="5356800" y="3550680"/>
                  <a:ext cx="8640" cy="160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48" name="AutoShape 325"/>
                <p:cNvCxnSpPr/>
                <p:nvPr/>
              </p:nvCxnSpPr>
              <p:spPr>
                <a:xfrm flipH="1">
                  <a:off x="5509080" y="3761640"/>
                  <a:ext cx="33480" cy="215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49" name="AutoShape 326"/>
                <p:cNvCxnSpPr/>
                <p:nvPr/>
              </p:nvCxnSpPr>
              <p:spPr>
                <a:xfrm flipH="1">
                  <a:off x="5426640" y="3614040"/>
                  <a:ext cx="12600" cy="144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50" name="AutoShape 327"/>
                <p:cNvCxnSpPr/>
                <p:nvPr/>
              </p:nvCxnSpPr>
              <p:spPr>
                <a:xfrm flipH="1">
                  <a:off x="5467680" y="3720600"/>
                  <a:ext cx="21600" cy="13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551" name="Group 328"/>
              <p:cNvGrpSpPr/>
              <p:nvPr/>
            </p:nvGrpSpPr>
            <p:grpSpPr>
              <a:xfrm>
                <a:off x="5610960" y="3538800"/>
                <a:ext cx="597960" cy="693720"/>
                <a:chOff x="5610960" y="3538800"/>
                <a:chExt cx="597960" cy="693720"/>
              </a:xfrm>
            </p:grpSpPr>
            <p:grpSp>
              <p:nvGrpSpPr>
                <p:cNvPr id="2552" name="Group 329"/>
                <p:cNvGrpSpPr/>
                <p:nvPr/>
              </p:nvGrpSpPr>
              <p:grpSpPr>
                <a:xfrm>
                  <a:off x="5937120" y="3849120"/>
                  <a:ext cx="101160" cy="123120"/>
                  <a:chOff x="5937120" y="3849120"/>
                  <a:chExt cx="101160" cy="123120"/>
                </a:xfrm>
              </p:grpSpPr>
              <p:grpSp>
                <p:nvGrpSpPr>
                  <p:cNvPr id="2553" name="Group 330"/>
                  <p:cNvGrpSpPr/>
                  <p:nvPr/>
                </p:nvGrpSpPr>
                <p:grpSpPr>
                  <a:xfrm>
                    <a:off x="5937120" y="3849120"/>
                    <a:ext cx="101160" cy="123120"/>
                    <a:chOff x="5937120" y="3849120"/>
                    <a:chExt cx="101160" cy="123120"/>
                  </a:xfrm>
                </p:grpSpPr>
                <p:sp>
                  <p:nvSpPr>
                    <p:cNvPr id="2554" name="Arc 331"/>
                    <p:cNvSpPr/>
                    <p:nvPr/>
                  </p:nvSpPr>
                  <p:spPr>
                    <a:xfrm flipH="1" rot="20469600">
                      <a:off x="5953320" y="3863160"/>
                      <a:ext cx="34200" cy="106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5" name="Arc 332"/>
                    <p:cNvSpPr/>
                    <p:nvPr/>
                  </p:nvSpPr>
                  <p:spPr>
                    <a:xfrm rot="20470200">
                      <a:off x="5987520" y="3851640"/>
                      <a:ext cx="34200" cy="106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6" name="Group 333"/>
                  <p:cNvGrpSpPr/>
                  <p:nvPr/>
                </p:nvGrpSpPr>
                <p:grpSpPr>
                  <a:xfrm>
                    <a:off x="5968440" y="3898800"/>
                    <a:ext cx="54000" cy="64440"/>
                    <a:chOff x="5968440" y="3898800"/>
                    <a:chExt cx="54000" cy="64440"/>
                  </a:xfrm>
                </p:grpSpPr>
                <p:sp>
                  <p:nvSpPr>
                    <p:cNvPr id="2557" name="Arc 334"/>
                    <p:cNvSpPr/>
                    <p:nvPr/>
                  </p:nvSpPr>
                  <p:spPr>
                    <a:xfrm flipH="1" rot="20469600">
                      <a:off x="5977080" y="3906000"/>
                      <a:ext cx="18720" cy="55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8" name="Arc 335"/>
                    <p:cNvSpPr/>
                    <p:nvPr/>
                  </p:nvSpPr>
                  <p:spPr>
                    <a:xfrm rot="20470200">
                      <a:off x="5994720" y="3900240"/>
                      <a:ext cx="18720" cy="55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2559" name="AutoShape 336"/>
                  <p:cNvCxnSpPr/>
                  <p:nvPr/>
                </p:nvCxnSpPr>
                <p:spPr>
                  <a:xfrm flipH="1">
                    <a:off x="5970960" y="3947400"/>
                    <a:ext cx="66240" cy="23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560" name="Group 337"/>
                <p:cNvGrpSpPr/>
                <p:nvPr/>
              </p:nvGrpSpPr>
              <p:grpSpPr>
                <a:xfrm>
                  <a:off x="5856840" y="3538800"/>
                  <a:ext cx="297000" cy="451080"/>
                  <a:chOff x="5856840" y="3538800"/>
                  <a:chExt cx="297000" cy="451080"/>
                </a:xfrm>
              </p:grpSpPr>
              <p:sp>
                <p:nvSpPr>
                  <p:cNvPr id="2561" name="Arc 338"/>
                  <p:cNvSpPr/>
                  <p:nvPr/>
                </p:nvSpPr>
                <p:spPr>
                  <a:xfrm flipV="1" rot="20469600">
                    <a:off x="5908320" y="3616200"/>
                    <a:ext cx="193680" cy="351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62" name="Group 339"/>
                  <p:cNvGrpSpPr/>
                  <p:nvPr/>
                </p:nvGrpSpPr>
                <p:grpSpPr>
                  <a:xfrm>
                    <a:off x="6041880" y="3538800"/>
                    <a:ext cx="89640" cy="267120"/>
                    <a:chOff x="6041880" y="3538800"/>
                    <a:chExt cx="89640" cy="267120"/>
                  </a:xfrm>
                </p:grpSpPr>
                <p:cxnSp>
                  <p:nvCxnSpPr>
                    <p:cNvPr id="2563" name="AutoShape 340"/>
                    <p:cNvCxnSpPr/>
                    <p:nvPr/>
                  </p:nvCxnSpPr>
                  <p:spPr>
                    <a:xfrm flipH="1">
                      <a:off x="6041880" y="3538800"/>
                      <a:ext cx="33840" cy="92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64" name="AutoShape 341"/>
                    <p:cNvCxnSpPr/>
                    <p:nvPr/>
                  </p:nvCxnSpPr>
                  <p:spPr>
                    <a:xfrm flipH="1">
                      <a:off x="6061680" y="3690360"/>
                      <a:ext cx="70200" cy="115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65" name="AutoShape 342"/>
                    <p:cNvCxnSpPr/>
                    <p:nvPr/>
                  </p:nvCxnSpPr>
                  <p:spPr>
                    <a:xfrm flipH="1">
                      <a:off x="6065640" y="3589560"/>
                      <a:ext cx="42120" cy="79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66" name="AutoShape 343"/>
                    <p:cNvCxnSpPr/>
                    <p:nvPr/>
                  </p:nvCxnSpPr>
                  <p:spPr>
                    <a:xfrm flipH="1">
                      <a:off x="6066360" y="3657960"/>
                      <a:ext cx="45720" cy="74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567" name="Group 344"/>
                  <p:cNvGrpSpPr/>
                  <p:nvPr/>
                </p:nvGrpSpPr>
                <p:grpSpPr>
                  <a:xfrm>
                    <a:off x="5988240" y="3567960"/>
                    <a:ext cx="91440" cy="249840"/>
                    <a:chOff x="5988240" y="3567960"/>
                    <a:chExt cx="91440" cy="249840"/>
                  </a:xfrm>
                </p:grpSpPr>
                <p:cxnSp>
                  <p:nvCxnSpPr>
                    <p:cNvPr id="2568" name="AutoShape 345"/>
                    <p:cNvCxnSpPr/>
                    <p:nvPr/>
                  </p:nvCxnSpPr>
                  <p:spPr>
                    <a:xfrm>
                      <a:off x="6019920" y="3567960"/>
                      <a:ext cx="50400" cy="86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69" name="AutoShape 346"/>
                    <p:cNvCxnSpPr/>
                    <p:nvPr/>
                  </p:nvCxnSpPr>
                  <p:spPr>
                    <a:xfrm>
                      <a:off x="5988240" y="3710520"/>
                      <a:ext cx="91800" cy="1076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70" name="AutoShape 347"/>
                    <p:cNvCxnSpPr/>
                    <p:nvPr/>
                  </p:nvCxnSpPr>
                  <p:spPr>
                    <a:xfrm>
                      <a:off x="5995800" y="3616200"/>
                      <a:ext cx="56520" cy="74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71" name="AutoShape 348"/>
                    <p:cNvCxnSpPr/>
                    <p:nvPr/>
                  </p:nvCxnSpPr>
                  <p:spPr>
                    <a:xfrm>
                      <a:off x="6004080" y="3680640"/>
                      <a:ext cx="59040" cy="68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572" name="Group 349"/>
                <p:cNvGrpSpPr/>
                <p:nvPr/>
              </p:nvGrpSpPr>
              <p:grpSpPr>
                <a:xfrm>
                  <a:off x="5719680" y="3608640"/>
                  <a:ext cx="259920" cy="401760"/>
                  <a:chOff x="5719680" y="3608640"/>
                  <a:chExt cx="259920" cy="401760"/>
                </a:xfrm>
              </p:grpSpPr>
              <p:sp>
                <p:nvSpPr>
                  <p:cNvPr id="2573" name="Arc 350"/>
                  <p:cNvSpPr/>
                  <p:nvPr/>
                </p:nvSpPr>
                <p:spPr>
                  <a:xfrm flipH="1" flipV="1" rot="20470200">
                    <a:off x="5805720" y="3616560"/>
                    <a:ext cx="114120" cy="385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4" name="Group 351"/>
                  <p:cNvGrpSpPr/>
                  <p:nvPr/>
                </p:nvGrpSpPr>
                <p:grpSpPr>
                  <a:xfrm>
                    <a:off x="5719680" y="3617640"/>
                    <a:ext cx="113400" cy="229320"/>
                    <a:chOff x="5719680" y="3617640"/>
                    <a:chExt cx="113400" cy="229320"/>
                  </a:xfrm>
                </p:grpSpPr>
                <p:cxnSp>
                  <p:nvCxnSpPr>
                    <p:cNvPr id="2575" name="AutoShape 352"/>
                    <p:cNvCxnSpPr/>
                    <p:nvPr/>
                  </p:nvCxnSpPr>
                  <p:spPr>
                    <a:xfrm>
                      <a:off x="5719680" y="3617640"/>
                      <a:ext cx="52200" cy="61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76" name="AutoShape 353"/>
                    <p:cNvCxnSpPr/>
                    <p:nvPr/>
                  </p:nvCxnSpPr>
                  <p:spPr>
                    <a:xfrm>
                      <a:off x="5754960" y="3787920"/>
                      <a:ext cx="78480" cy="59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77" name="AutoShape 354"/>
                    <p:cNvCxnSpPr/>
                    <p:nvPr/>
                  </p:nvCxnSpPr>
                  <p:spPr>
                    <a:xfrm>
                      <a:off x="5725800" y="3682440"/>
                      <a:ext cx="50760" cy="45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78" name="AutoShape 355"/>
                    <p:cNvCxnSpPr/>
                    <p:nvPr/>
                  </p:nvCxnSpPr>
                  <p:spPr>
                    <a:xfrm>
                      <a:off x="5751720" y="3746520"/>
                      <a:ext cx="50040" cy="37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579" name="Group 356"/>
                  <p:cNvGrpSpPr/>
                  <p:nvPr/>
                </p:nvGrpSpPr>
                <p:grpSpPr>
                  <a:xfrm>
                    <a:off x="5770440" y="3635640"/>
                    <a:ext cx="68760" cy="214200"/>
                    <a:chOff x="5770440" y="3635640"/>
                    <a:chExt cx="68760" cy="214200"/>
                  </a:xfrm>
                </p:grpSpPr>
                <p:cxnSp>
                  <p:nvCxnSpPr>
                    <p:cNvPr id="2580" name="AutoShape 357"/>
                    <p:cNvCxnSpPr/>
                    <p:nvPr/>
                  </p:nvCxnSpPr>
                  <p:spPr>
                    <a:xfrm flipH="1">
                      <a:off x="5770440" y="3635640"/>
                      <a:ext cx="11160" cy="96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81" name="AutoShape 358"/>
                    <p:cNvCxnSpPr/>
                    <p:nvPr/>
                  </p:nvCxnSpPr>
                  <p:spPr>
                    <a:xfrm flipH="1">
                      <a:off x="5806440" y="3707640"/>
                      <a:ext cx="33120" cy="142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82" name="AutoShape 359"/>
                    <p:cNvCxnSpPr/>
                    <p:nvPr/>
                  </p:nvCxnSpPr>
                  <p:spPr>
                    <a:xfrm flipH="1">
                      <a:off x="5792040" y="3648960"/>
                      <a:ext cx="18000" cy="93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83" name="AutoShape 360"/>
                    <p:cNvCxnSpPr/>
                    <p:nvPr/>
                  </p:nvCxnSpPr>
                  <p:spPr>
                    <a:xfrm flipH="1">
                      <a:off x="5800680" y="3699000"/>
                      <a:ext cx="20880" cy="9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584" name="Group 361"/>
                <p:cNvGrpSpPr/>
                <p:nvPr/>
              </p:nvGrpSpPr>
              <p:grpSpPr>
                <a:xfrm>
                  <a:off x="5610960" y="3583440"/>
                  <a:ext cx="429840" cy="473760"/>
                  <a:chOff x="5610960" y="3583440"/>
                  <a:chExt cx="429840" cy="473760"/>
                </a:xfrm>
              </p:grpSpPr>
              <p:sp>
                <p:nvSpPr>
                  <p:cNvPr id="2585" name="Arc 362"/>
                  <p:cNvSpPr/>
                  <p:nvPr/>
                </p:nvSpPr>
                <p:spPr>
                  <a:xfrm flipH="1" flipV="1" rot="20281800">
                    <a:off x="5691600" y="3622320"/>
                    <a:ext cx="284760" cy="396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86" name="Group 363"/>
                  <p:cNvGrpSpPr/>
                  <p:nvPr/>
                </p:nvGrpSpPr>
                <p:grpSpPr>
                  <a:xfrm>
                    <a:off x="5610960" y="3722760"/>
                    <a:ext cx="144720" cy="161280"/>
                    <a:chOff x="5610960" y="3722760"/>
                    <a:chExt cx="144720" cy="161280"/>
                  </a:xfrm>
                </p:grpSpPr>
                <p:cxnSp>
                  <p:nvCxnSpPr>
                    <p:cNvPr id="2587" name="AutoShape 364"/>
                    <p:cNvCxnSpPr/>
                    <p:nvPr/>
                  </p:nvCxnSpPr>
                  <p:spPr>
                    <a:xfrm>
                      <a:off x="5632560" y="3830400"/>
                      <a:ext cx="6480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88" name="AutoShape 365"/>
                    <p:cNvCxnSpPr/>
                    <p:nvPr/>
                  </p:nvCxnSpPr>
                  <p:spPr>
                    <a:xfrm>
                      <a:off x="5610960" y="3791880"/>
                      <a:ext cx="65160" cy="3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89" name="AutoShape 366"/>
                    <p:cNvCxnSpPr/>
                    <p:nvPr/>
                  </p:nvCxnSpPr>
                  <p:spPr>
                    <a:xfrm flipH="1">
                      <a:off x="5675400" y="3722760"/>
                      <a:ext cx="21600" cy="73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90" name="AutoShape 367"/>
                    <p:cNvCxnSpPr/>
                    <p:nvPr/>
                  </p:nvCxnSpPr>
                  <p:spPr>
                    <a:xfrm flipH="1">
                      <a:off x="5691240" y="3757320"/>
                      <a:ext cx="35280" cy="69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91" name="AutoShape 368"/>
                    <p:cNvCxnSpPr/>
                    <p:nvPr/>
                  </p:nvCxnSpPr>
                  <p:spPr>
                    <a:xfrm flipH="1">
                      <a:off x="5747760" y="3794400"/>
                      <a:ext cx="8280" cy="90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92" name="AutoShape 369"/>
                    <p:cNvCxnSpPr/>
                    <p:nvPr/>
                  </p:nvCxnSpPr>
                  <p:spPr>
                    <a:xfrm>
                      <a:off x="5663160" y="3868560"/>
                      <a:ext cx="90000" cy="11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sp>
              <p:nvSpPr>
                <p:cNvPr id="2593" name="Freeform 370"/>
                <p:cNvSpPr/>
                <p:nvPr/>
              </p:nvSpPr>
              <p:spPr>
                <a:xfrm flipH="1" rot="20469600">
                  <a:off x="5960520" y="4019400"/>
                  <a:ext cx="97920" cy="153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Freeform 371"/>
                <p:cNvSpPr/>
                <p:nvPr/>
              </p:nvSpPr>
              <p:spPr>
                <a:xfrm flipH="1" rot="20469600">
                  <a:off x="5864040" y="4024440"/>
                  <a:ext cx="172080" cy="185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Freeform 372"/>
                <p:cNvSpPr/>
                <p:nvPr/>
              </p:nvSpPr>
              <p:spPr>
                <a:xfrm flipH="1" rot="20469600">
                  <a:off x="5944680" y="4060440"/>
                  <a:ext cx="81000" cy="134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Rectangle 373"/>
                <p:cNvSpPr/>
                <p:nvPr/>
              </p:nvSpPr>
              <p:spPr>
                <a:xfrm flipH="1" rot="20469600">
                  <a:off x="5964480" y="3963960"/>
                  <a:ext cx="101880" cy="7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Freeform 374"/>
                <p:cNvSpPr/>
                <p:nvPr/>
              </p:nvSpPr>
              <p:spPr>
                <a:xfrm flipH="1" rot="18950400">
                  <a:off x="5876280" y="4068000"/>
                  <a:ext cx="145080" cy="85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8" name="Group 375"/>
                <p:cNvGrpSpPr/>
                <p:nvPr/>
              </p:nvGrpSpPr>
              <p:grpSpPr>
                <a:xfrm>
                  <a:off x="6012360" y="3927960"/>
                  <a:ext cx="196560" cy="236880"/>
                  <a:chOff x="6012360" y="3927960"/>
                  <a:chExt cx="196560" cy="236880"/>
                </a:xfrm>
              </p:grpSpPr>
              <p:sp>
                <p:nvSpPr>
                  <p:cNvPr id="2599" name="Freeform 376"/>
                  <p:cNvSpPr/>
                  <p:nvPr/>
                </p:nvSpPr>
                <p:spPr>
                  <a:xfrm flipH="1" rot="20469600">
                    <a:off x="6058080" y="3954960"/>
                    <a:ext cx="138600" cy="97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377"/>
                  <p:cNvSpPr/>
                  <p:nvPr/>
                </p:nvSpPr>
                <p:spPr>
                  <a:xfrm flipH="1" rot="20469600">
                    <a:off x="6076080" y="3965760"/>
                    <a:ext cx="65160" cy="193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378"/>
                  <p:cNvSpPr/>
                  <p:nvPr/>
                </p:nvSpPr>
                <p:spPr>
                  <a:xfrm flipH="1" rot="20469600">
                    <a:off x="6050520" y="3949920"/>
                    <a:ext cx="147600" cy="65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Freeform 379"/>
                  <p:cNvSpPr/>
                  <p:nvPr/>
                </p:nvSpPr>
                <p:spPr>
                  <a:xfrm rot="20934600">
                    <a:off x="6071400" y="3965760"/>
                    <a:ext cx="121680" cy="157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Freeform 380"/>
                  <p:cNvSpPr/>
                  <p:nvPr/>
                </p:nvSpPr>
                <p:spPr>
                  <a:xfrm flipH="1" rot="1902000">
                    <a:off x="6014160" y="4034160"/>
                    <a:ext cx="170280" cy="56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4" name="Group 485"/>
          <p:cNvGrpSpPr/>
          <p:nvPr/>
        </p:nvGrpSpPr>
        <p:grpSpPr>
          <a:xfrm>
            <a:off x="3505320" y="2437920"/>
            <a:ext cx="1626840" cy="2194200"/>
            <a:chOff x="3505320" y="2437920"/>
            <a:chExt cx="1626840" cy="2194200"/>
          </a:xfrm>
        </p:grpSpPr>
        <p:sp>
          <p:nvSpPr>
            <p:cNvPr id="2605" name="Line 486"/>
            <p:cNvSpPr/>
            <p:nvPr/>
          </p:nvSpPr>
          <p:spPr>
            <a:xfrm>
              <a:off x="4258800" y="2719800"/>
              <a:ext cx="10800" cy="132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AutoShape 487"/>
            <p:cNvSpPr/>
            <p:nvPr/>
          </p:nvSpPr>
          <p:spPr>
            <a:xfrm rot="10800000">
              <a:off x="4081680" y="2437920"/>
              <a:ext cx="350640" cy="291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Arc 488"/>
            <p:cNvSpPr/>
            <p:nvPr/>
          </p:nvSpPr>
          <p:spPr>
            <a:xfrm flipV="1">
              <a:off x="4258800" y="2947680"/>
              <a:ext cx="176760" cy="253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Arc 489"/>
            <p:cNvSpPr/>
            <p:nvPr/>
          </p:nvSpPr>
          <p:spPr>
            <a:xfrm flipH="1" flipV="1" rot="1816200">
              <a:off x="4356000" y="2784600"/>
              <a:ext cx="113400" cy="17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Line 490"/>
            <p:cNvSpPr/>
            <p:nvPr/>
          </p:nvSpPr>
          <p:spPr>
            <a:xfrm flipV="1">
              <a:off x="4283280" y="2808000"/>
              <a:ext cx="26532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Line 491"/>
            <p:cNvSpPr/>
            <p:nvPr/>
          </p:nvSpPr>
          <p:spPr>
            <a:xfrm flipV="1">
              <a:off x="4426200" y="2792880"/>
              <a:ext cx="288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AutoShape 492"/>
            <p:cNvSpPr/>
            <p:nvPr/>
          </p:nvSpPr>
          <p:spPr>
            <a:xfrm rot="14044200">
              <a:off x="4513680" y="2650320"/>
              <a:ext cx="258840" cy="249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AutoShape 493"/>
            <p:cNvSpPr/>
            <p:nvPr/>
          </p:nvSpPr>
          <p:spPr>
            <a:xfrm rot="10800000">
              <a:off x="4323600" y="2656080"/>
              <a:ext cx="194040" cy="174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Arc 494"/>
            <p:cNvSpPr/>
            <p:nvPr/>
          </p:nvSpPr>
          <p:spPr>
            <a:xfrm flipH="1" flipV="1">
              <a:off x="4124520" y="3503520"/>
              <a:ext cx="158400" cy="21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Arc 495"/>
            <p:cNvSpPr/>
            <p:nvPr/>
          </p:nvSpPr>
          <p:spPr>
            <a:xfrm flipV="1" rot="19780800">
              <a:off x="4041360" y="3275640"/>
              <a:ext cx="9540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Line 496"/>
            <p:cNvSpPr/>
            <p:nvPr/>
          </p:nvSpPr>
          <p:spPr>
            <a:xfrm>
              <a:off x="3979800" y="3209400"/>
              <a:ext cx="243360" cy="5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AutoShape 497"/>
            <p:cNvSpPr/>
            <p:nvPr/>
          </p:nvSpPr>
          <p:spPr>
            <a:xfrm flipH="1" rot="8721600">
              <a:off x="3747600" y="3052800"/>
              <a:ext cx="314640" cy="18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7" name="Group 498"/>
            <p:cNvGrpSpPr/>
            <p:nvPr/>
          </p:nvGrpSpPr>
          <p:grpSpPr>
            <a:xfrm>
              <a:off x="3620880" y="4003200"/>
              <a:ext cx="1290600" cy="628920"/>
              <a:chOff x="3620880" y="4003200"/>
              <a:chExt cx="1290600" cy="628920"/>
            </a:xfrm>
          </p:grpSpPr>
          <p:sp>
            <p:nvSpPr>
              <p:cNvPr id="2618" name="Freeform 499"/>
              <p:cNvSpPr/>
              <p:nvPr/>
            </p:nvSpPr>
            <p:spPr>
              <a:xfrm>
                <a:off x="4223880" y="4126320"/>
                <a:ext cx="349560" cy="409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500"/>
              <p:cNvSpPr/>
              <p:nvPr/>
            </p:nvSpPr>
            <p:spPr>
              <a:xfrm>
                <a:off x="4272480" y="4105080"/>
                <a:ext cx="449640" cy="274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501"/>
              <p:cNvSpPr/>
              <p:nvPr/>
            </p:nvSpPr>
            <p:spPr>
              <a:xfrm rot="772200">
                <a:off x="3717000" y="4046040"/>
                <a:ext cx="435600" cy="444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502"/>
              <p:cNvSpPr/>
              <p:nvPr/>
            </p:nvSpPr>
            <p:spPr>
              <a:xfrm>
                <a:off x="4222800" y="4101840"/>
                <a:ext cx="454680" cy="364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Rectangle 503"/>
              <p:cNvSpPr/>
              <p:nvPr/>
            </p:nvSpPr>
            <p:spPr>
              <a:xfrm>
                <a:off x="4152600" y="4058640"/>
                <a:ext cx="192240" cy="11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Freeform 504"/>
              <p:cNvSpPr/>
              <p:nvPr/>
            </p:nvSpPr>
            <p:spPr>
              <a:xfrm rot="1519200">
                <a:off x="4223880" y="4188240"/>
                <a:ext cx="454320" cy="363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4" name="Group 505"/>
              <p:cNvGrpSpPr/>
              <p:nvPr/>
            </p:nvGrpSpPr>
            <p:grpSpPr>
              <a:xfrm>
                <a:off x="3620880" y="4089600"/>
                <a:ext cx="668520" cy="462960"/>
                <a:chOff x="3620880" y="4089600"/>
                <a:chExt cx="668520" cy="462960"/>
              </a:xfrm>
            </p:grpSpPr>
            <p:sp>
              <p:nvSpPr>
                <p:cNvPr id="2625" name="Freeform 506"/>
                <p:cNvSpPr/>
                <p:nvPr/>
              </p:nvSpPr>
              <p:spPr>
                <a:xfrm>
                  <a:off x="3653640" y="4101840"/>
                  <a:ext cx="518400" cy="225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Freeform 507"/>
                <p:cNvSpPr/>
                <p:nvPr/>
              </p:nvSpPr>
              <p:spPr>
                <a:xfrm>
                  <a:off x="3927960" y="4105440"/>
                  <a:ext cx="243720" cy="447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Freeform 508"/>
                <p:cNvSpPr/>
                <p:nvPr/>
              </p:nvSpPr>
              <p:spPr>
                <a:xfrm>
                  <a:off x="3620880" y="4089600"/>
                  <a:ext cx="551160" cy="150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Freeform 509"/>
                <p:cNvSpPr/>
                <p:nvPr/>
              </p:nvSpPr>
              <p:spPr>
                <a:xfrm flipH="1" rot="21135600">
                  <a:off x="3717000" y="4124880"/>
                  <a:ext cx="454680" cy="364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Freeform 510"/>
                <p:cNvSpPr/>
                <p:nvPr/>
              </p:nvSpPr>
              <p:spPr>
                <a:xfrm rot="18567600">
                  <a:off x="3885480" y="4217400"/>
                  <a:ext cx="394560" cy="209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0" name="Group 511"/>
              <p:cNvGrpSpPr/>
              <p:nvPr/>
            </p:nvGrpSpPr>
            <p:grpSpPr>
              <a:xfrm>
                <a:off x="4243680" y="4058640"/>
                <a:ext cx="667800" cy="462960"/>
                <a:chOff x="4243680" y="4058640"/>
                <a:chExt cx="667800" cy="462960"/>
              </a:xfrm>
            </p:grpSpPr>
            <p:sp>
              <p:nvSpPr>
                <p:cNvPr id="2631" name="Freeform 512"/>
                <p:cNvSpPr/>
                <p:nvPr/>
              </p:nvSpPr>
              <p:spPr>
                <a:xfrm flipH="1">
                  <a:off x="4360320" y="4070880"/>
                  <a:ext cx="518040" cy="225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13"/>
                <p:cNvSpPr/>
                <p:nvPr/>
              </p:nvSpPr>
              <p:spPr>
                <a:xfrm flipH="1">
                  <a:off x="4360320" y="4074480"/>
                  <a:ext cx="243720" cy="447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14"/>
                <p:cNvSpPr/>
                <p:nvPr/>
              </p:nvSpPr>
              <p:spPr>
                <a:xfrm flipH="1">
                  <a:off x="4360680" y="4058640"/>
                  <a:ext cx="550800" cy="150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15"/>
                <p:cNvSpPr/>
                <p:nvPr/>
              </p:nvSpPr>
              <p:spPr>
                <a:xfrm rot="464400">
                  <a:off x="4361040" y="4094280"/>
                  <a:ext cx="454320" cy="364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Freeform 516"/>
                <p:cNvSpPr/>
                <p:nvPr/>
              </p:nvSpPr>
              <p:spPr>
                <a:xfrm flipH="1" rot="3032400">
                  <a:off x="4252680" y="4186800"/>
                  <a:ext cx="394560" cy="209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6" name="Group 517"/>
            <p:cNvGrpSpPr/>
            <p:nvPr/>
          </p:nvGrpSpPr>
          <p:grpSpPr>
            <a:xfrm>
              <a:off x="4190760" y="3535560"/>
              <a:ext cx="941400" cy="722160"/>
              <a:chOff x="4190760" y="3535560"/>
              <a:chExt cx="941400" cy="722160"/>
            </a:xfrm>
          </p:grpSpPr>
          <p:sp>
            <p:nvSpPr>
              <p:cNvPr id="2637" name="Arc 518"/>
              <p:cNvSpPr/>
              <p:nvPr/>
            </p:nvSpPr>
            <p:spPr>
              <a:xfrm flipV="1" rot="245400">
                <a:off x="4352040" y="3559680"/>
                <a:ext cx="634680" cy="567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8" name="Group 519"/>
              <p:cNvGrpSpPr/>
              <p:nvPr/>
            </p:nvGrpSpPr>
            <p:grpSpPr>
              <a:xfrm>
                <a:off x="4840560" y="3620160"/>
                <a:ext cx="291600" cy="310320"/>
                <a:chOff x="4840560" y="3620160"/>
                <a:chExt cx="291600" cy="310320"/>
              </a:xfrm>
            </p:grpSpPr>
            <p:cxnSp>
              <p:nvCxnSpPr>
                <p:cNvPr id="2639" name="AutoShape 520"/>
                <p:cNvCxnSpPr/>
                <p:nvPr/>
              </p:nvCxnSpPr>
              <p:spPr>
                <a:xfrm flipH="1">
                  <a:off x="4986360" y="3620160"/>
                  <a:ext cx="146160" cy="85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40" name="AutoShape 521"/>
                <p:cNvCxnSpPr/>
                <p:nvPr/>
              </p:nvCxnSpPr>
              <p:spPr>
                <a:xfrm flipH="1">
                  <a:off x="4840560" y="3845160"/>
                  <a:ext cx="227880" cy="85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41" name="AutoShape 522"/>
                <p:cNvCxnSpPr/>
                <p:nvPr/>
              </p:nvCxnSpPr>
              <p:spPr>
                <a:xfrm flipH="1">
                  <a:off x="4986360" y="3705480"/>
                  <a:ext cx="146160" cy="64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42" name="AutoShape 523"/>
                <p:cNvCxnSpPr/>
                <p:nvPr/>
              </p:nvCxnSpPr>
              <p:spPr>
                <a:xfrm flipH="1">
                  <a:off x="4921920" y="3790800"/>
                  <a:ext cx="146520" cy="55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643" name="Group 524"/>
              <p:cNvGrpSpPr/>
              <p:nvPr/>
            </p:nvGrpSpPr>
            <p:grpSpPr>
              <a:xfrm>
                <a:off x="4831560" y="3535560"/>
                <a:ext cx="170280" cy="437760"/>
                <a:chOff x="4831560" y="3535560"/>
                <a:chExt cx="170280" cy="437760"/>
              </a:xfrm>
            </p:grpSpPr>
            <p:cxnSp>
              <p:nvCxnSpPr>
                <p:cNvPr id="2644" name="AutoShape 525"/>
                <p:cNvCxnSpPr/>
                <p:nvPr/>
              </p:nvCxnSpPr>
              <p:spPr>
                <a:xfrm>
                  <a:off x="4995720" y="3535560"/>
                  <a:ext cx="6480" cy="1587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45" name="AutoShape 526"/>
                <p:cNvCxnSpPr/>
                <p:nvPr/>
              </p:nvCxnSpPr>
              <p:spPr>
                <a:xfrm>
                  <a:off x="4831560" y="3767760"/>
                  <a:ext cx="52560" cy="205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46" name="AutoShape 527"/>
                <p:cNvCxnSpPr/>
                <p:nvPr/>
              </p:nvCxnSpPr>
              <p:spPr>
                <a:xfrm>
                  <a:off x="4919760" y="3609360"/>
                  <a:ext cx="2556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47" name="AutoShape 528"/>
                <p:cNvCxnSpPr/>
                <p:nvPr/>
              </p:nvCxnSpPr>
              <p:spPr>
                <a:xfrm>
                  <a:off x="4880520" y="3720240"/>
                  <a:ext cx="34200" cy="132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648" name="Group 529"/>
              <p:cNvGrpSpPr/>
              <p:nvPr/>
            </p:nvGrpSpPr>
            <p:grpSpPr>
              <a:xfrm>
                <a:off x="4190760" y="3606120"/>
                <a:ext cx="570240" cy="651600"/>
                <a:chOff x="4190760" y="3606120"/>
                <a:chExt cx="570240" cy="651600"/>
              </a:xfrm>
            </p:grpSpPr>
            <p:grpSp>
              <p:nvGrpSpPr>
                <p:cNvPr id="2649" name="Group 530"/>
                <p:cNvGrpSpPr/>
                <p:nvPr/>
              </p:nvGrpSpPr>
              <p:grpSpPr>
                <a:xfrm>
                  <a:off x="4354560" y="3899160"/>
                  <a:ext cx="90360" cy="115560"/>
                  <a:chOff x="4354560" y="3899160"/>
                  <a:chExt cx="90360" cy="115560"/>
                </a:xfrm>
              </p:grpSpPr>
              <p:grpSp>
                <p:nvGrpSpPr>
                  <p:cNvPr id="2650" name="Group 531"/>
                  <p:cNvGrpSpPr/>
                  <p:nvPr/>
                </p:nvGrpSpPr>
                <p:grpSpPr>
                  <a:xfrm>
                    <a:off x="4354560" y="3899160"/>
                    <a:ext cx="90360" cy="115560"/>
                    <a:chOff x="4354560" y="3899160"/>
                    <a:chExt cx="90360" cy="115560"/>
                  </a:xfrm>
                </p:grpSpPr>
                <p:sp>
                  <p:nvSpPr>
                    <p:cNvPr id="2651" name="Arc 532"/>
                    <p:cNvSpPr/>
                    <p:nvPr/>
                  </p:nvSpPr>
                  <p:spPr>
                    <a:xfrm rot="735000">
                      <a:off x="4399560" y="3909240"/>
                      <a:ext cx="34560" cy="102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2" name="Arc 533"/>
                    <p:cNvSpPr/>
                    <p:nvPr/>
                  </p:nvSpPr>
                  <p:spPr>
                    <a:xfrm flipH="1" rot="735000">
                      <a:off x="4365000" y="3901320"/>
                      <a:ext cx="34560" cy="102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3" name="Group 534"/>
                  <p:cNvGrpSpPr/>
                  <p:nvPr/>
                </p:nvGrpSpPr>
                <p:grpSpPr>
                  <a:xfrm>
                    <a:off x="4369680" y="3947040"/>
                    <a:ext cx="48960" cy="61200"/>
                    <a:chOff x="4369680" y="3947040"/>
                    <a:chExt cx="48960" cy="61200"/>
                  </a:xfrm>
                </p:grpSpPr>
                <p:sp>
                  <p:nvSpPr>
                    <p:cNvPr id="2654" name="Arc 535"/>
                    <p:cNvSpPr/>
                    <p:nvPr/>
                  </p:nvSpPr>
                  <p:spPr>
                    <a:xfrm rot="735000">
                      <a:off x="4394160" y="3952440"/>
                      <a:ext cx="18720" cy="54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5" name="Arc 536"/>
                    <p:cNvSpPr/>
                    <p:nvPr/>
                  </p:nvSpPr>
                  <p:spPr>
                    <a:xfrm flipH="1" rot="735000">
                      <a:off x="4374720" y="3948120"/>
                      <a:ext cx="18720" cy="54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2656" name="AutoShape 537"/>
                  <p:cNvCxnSpPr/>
                  <p:nvPr/>
                </p:nvCxnSpPr>
                <p:spPr>
                  <a:xfrm>
                    <a:off x="4354920" y="3997440"/>
                    <a:ext cx="69480" cy="16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657" name="Group 538"/>
                <p:cNvGrpSpPr/>
                <p:nvPr/>
              </p:nvGrpSpPr>
              <p:grpSpPr>
                <a:xfrm>
                  <a:off x="4228200" y="3606120"/>
                  <a:ext cx="270360" cy="424440"/>
                  <a:chOff x="4228200" y="3606120"/>
                  <a:chExt cx="270360" cy="424440"/>
                </a:xfrm>
              </p:grpSpPr>
              <p:sp>
                <p:nvSpPr>
                  <p:cNvPr id="2658" name="Arc 539"/>
                  <p:cNvSpPr/>
                  <p:nvPr/>
                </p:nvSpPr>
                <p:spPr>
                  <a:xfrm flipH="1" flipV="1" rot="735000">
                    <a:off x="4268160" y="3673080"/>
                    <a:ext cx="196200" cy="340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9" name="Group 540"/>
                  <p:cNvGrpSpPr/>
                  <p:nvPr/>
                </p:nvGrpSpPr>
                <p:grpSpPr>
                  <a:xfrm>
                    <a:off x="4228200" y="3606120"/>
                    <a:ext cx="84960" cy="258480"/>
                    <a:chOff x="4228200" y="3606120"/>
                    <a:chExt cx="84960" cy="258480"/>
                  </a:xfrm>
                </p:grpSpPr>
                <p:cxnSp>
                  <p:nvCxnSpPr>
                    <p:cNvPr id="2660" name="AutoShape 541"/>
                    <p:cNvCxnSpPr/>
                    <p:nvPr/>
                  </p:nvCxnSpPr>
                  <p:spPr>
                    <a:xfrm>
                      <a:off x="4263840" y="3606120"/>
                      <a:ext cx="45720" cy="87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61" name="AutoShape 542"/>
                    <p:cNvCxnSpPr/>
                    <p:nvPr/>
                  </p:nvCxnSpPr>
                  <p:spPr>
                    <a:xfrm>
                      <a:off x="4228200" y="3758760"/>
                      <a:ext cx="85320" cy="106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62" name="AutoShape 543"/>
                    <p:cNvCxnSpPr/>
                    <p:nvPr/>
                  </p:nvCxnSpPr>
                  <p:spPr>
                    <a:xfrm>
                      <a:off x="4238280" y="3658680"/>
                      <a:ext cx="52560" cy="73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63" name="AutoShape 544"/>
                    <p:cNvCxnSpPr/>
                    <p:nvPr/>
                  </p:nvCxnSpPr>
                  <p:spPr>
                    <a:xfrm>
                      <a:off x="4244400" y="3726000"/>
                      <a:ext cx="54720" cy="67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664" name="Group 545"/>
                  <p:cNvGrpSpPr/>
                  <p:nvPr/>
                </p:nvGrpSpPr>
                <p:grpSpPr>
                  <a:xfrm>
                    <a:off x="4284720" y="3627360"/>
                    <a:ext cx="86760" cy="253080"/>
                    <a:chOff x="4284720" y="3627360"/>
                    <a:chExt cx="86760" cy="253080"/>
                  </a:xfrm>
                </p:grpSpPr>
                <p:cxnSp>
                  <p:nvCxnSpPr>
                    <p:cNvPr id="2665" name="AutoShape 546"/>
                    <p:cNvCxnSpPr/>
                    <p:nvPr/>
                  </p:nvCxnSpPr>
                  <p:spPr>
                    <a:xfrm flipH="1">
                      <a:off x="4284720" y="3627360"/>
                      <a:ext cx="37800" cy="90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66" name="AutoShape 547"/>
                    <p:cNvCxnSpPr/>
                    <p:nvPr/>
                  </p:nvCxnSpPr>
                  <p:spPr>
                    <a:xfrm flipH="1">
                      <a:off x="4296960" y="3765600"/>
                      <a:ext cx="74880" cy="115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67" name="AutoShape 548"/>
                    <p:cNvCxnSpPr/>
                    <p:nvPr/>
                  </p:nvCxnSpPr>
                  <p:spPr>
                    <a:xfrm flipH="1">
                      <a:off x="4306680" y="3672360"/>
                      <a:ext cx="45360" cy="78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68" name="AutoShape 549"/>
                    <p:cNvCxnSpPr/>
                    <p:nvPr/>
                  </p:nvCxnSpPr>
                  <p:spPr>
                    <a:xfrm flipH="1">
                      <a:off x="4303800" y="3737520"/>
                      <a:ext cx="48600" cy="73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669" name="Group 550"/>
                <p:cNvGrpSpPr/>
                <p:nvPr/>
              </p:nvGrpSpPr>
              <p:grpSpPr>
                <a:xfrm>
                  <a:off x="4415040" y="3646800"/>
                  <a:ext cx="218160" cy="394200"/>
                  <a:chOff x="4415040" y="3646800"/>
                  <a:chExt cx="218160" cy="394200"/>
                </a:xfrm>
              </p:grpSpPr>
              <p:sp>
                <p:nvSpPr>
                  <p:cNvPr id="2670" name="Arc 551"/>
                  <p:cNvSpPr/>
                  <p:nvPr/>
                </p:nvSpPr>
                <p:spPr>
                  <a:xfrm flipV="1" rot="735000">
                    <a:off x="4453200" y="3660120"/>
                    <a:ext cx="115200" cy="372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71" name="Group 552"/>
                  <p:cNvGrpSpPr/>
                  <p:nvPr/>
                </p:nvGrpSpPr>
                <p:grpSpPr>
                  <a:xfrm>
                    <a:off x="4545360" y="3646800"/>
                    <a:ext cx="87840" cy="233280"/>
                    <a:chOff x="4545360" y="3646800"/>
                    <a:chExt cx="87840" cy="233280"/>
                  </a:xfrm>
                </p:grpSpPr>
                <p:cxnSp>
                  <p:nvCxnSpPr>
                    <p:cNvPr id="2672" name="AutoShape 553"/>
                    <p:cNvCxnSpPr/>
                    <p:nvPr/>
                  </p:nvCxnSpPr>
                  <p:spPr>
                    <a:xfrm flipH="1">
                      <a:off x="4587120" y="3646800"/>
                      <a:ext cx="45360" cy="6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73" name="AutoShape 554"/>
                    <p:cNvCxnSpPr/>
                    <p:nvPr/>
                  </p:nvCxnSpPr>
                  <p:spPr>
                    <a:xfrm flipH="1">
                      <a:off x="4545360" y="3814560"/>
                      <a:ext cx="70920" cy="65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74" name="AutoShape 555"/>
                    <p:cNvCxnSpPr/>
                    <p:nvPr/>
                  </p:nvCxnSpPr>
                  <p:spPr>
                    <a:xfrm flipH="1">
                      <a:off x="4588200" y="3710160"/>
                      <a:ext cx="45360" cy="493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75" name="AutoShape 556"/>
                    <p:cNvCxnSpPr/>
                    <p:nvPr/>
                  </p:nvCxnSpPr>
                  <p:spPr>
                    <a:xfrm flipH="1">
                      <a:off x="4568760" y="3774240"/>
                      <a:ext cx="46440" cy="42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676" name="Group 557"/>
                  <p:cNvGrpSpPr/>
                  <p:nvPr/>
                </p:nvGrpSpPr>
                <p:grpSpPr>
                  <a:xfrm>
                    <a:off x="4523400" y="3669480"/>
                    <a:ext cx="70200" cy="211320"/>
                    <a:chOff x="4523400" y="3669480"/>
                    <a:chExt cx="70200" cy="211320"/>
                  </a:xfrm>
                </p:grpSpPr>
                <p:cxnSp>
                  <p:nvCxnSpPr>
                    <p:cNvPr id="2677" name="AutoShape 558"/>
                    <p:cNvCxnSpPr/>
                    <p:nvPr/>
                  </p:nvCxnSpPr>
                  <p:spPr>
                    <a:xfrm>
                      <a:off x="4574160" y="3669480"/>
                      <a:ext cx="1980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78" name="AutoShape 559"/>
                    <p:cNvCxnSpPr/>
                    <p:nvPr/>
                  </p:nvCxnSpPr>
                  <p:spPr>
                    <a:xfrm>
                      <a:off x="4523400" y="3747240"/>
                      <a:ext cx="46080" cy="133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79" name="AutoShape 560"/>
                    <p:cNvCxnSpPr/>
                    <p:nvPr/>
                  </p:nvCxnSpPr>
                  <p:spPr>
                    <a:xfrm>
                      <a:off x="4547160" y="3686400"/>
                      <a:ext cx="26640" cy="88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80" name="AutoShape 561"/>
                    <p:cNvCxnSpPr/>
                    <p:nvPr/>
                  </p:nvCxnSpPr>
                  <p:spPr>
                    <a:xfrm>
                      <a:off x="4540680" y="3736440"/>
                      <a:ext cx="29880" cy="86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681" name="Group 562"/>
                <p:cNvGrpSpPr/>
                <p:nvPr/>
              </p:nvGrpSpPr>
              <p:grpSpPr>
                <a:xfrm>
                  <a:off x="4352040" y="3632400"/>
                  <a:ext cx="408960" cy="445680"/>
                  <a:chOff x="4352040" y="3632400"/>
                  <a:chExt cx="408960" cy="445680"/>
                </a:xfrm>
              </p:grpSpPr>
              <p:sp>
                <p:nvSpPr>
                  <p:cNvPr id="2682" name="Arc 563"/>
                  <p:cNvSpPr/>
                  <p:nvPr/>
                </p:nvSpPr>
                <p:spPr>
                  <a:xfrm flipV="1" rot="922800">
                    <a:off x="4397400" y="3663360"/>
                    <a:ext cx="288000" cy="3830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83" name="Group 564"/>
                  <p:cNvGrpSpPr/>
                  <p:nvPr/>
                </p:nvGrpSpPr>
                <p:grpSpPr>
                  <a:xfrm>
                    <a:off x="4617720" y="3745440"/>
                    <a:ext cx="143280" cy="162000"/>
                    <a:chOff x="4617720" y="3745440"/>
                    <a:chExt cx="143280" cy="162000"/>
                  </a:xfrm>
                </p:grpSpPr>
                <p:cxnSp>
                  <p:nvCxnSpPr>
                    <p:cNvPr id="2684" name="AutoShape 565"/>
                    <p:cNvCxnSpPr/>
                    <p:nvPr/>
                  </p:nvCxnSpPr>
                  <p:spPr>
                    <a:xfrm flipH="1">
                      <a:off x="4680720" y="3844800"/>
                      <a:ext cx="64080" cy="9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85" name="AutoShape 566"/>
                    <p:cNvCxnSpPr/>
                    <p:nvPr/>
                  </p:nvCxnSpPr>
                  <p:spPr>
                    <a:xfrm flipH="1">
                      <a:off x="4696920" y="3804840"/>
                      <a:ext cx="64440" cy="10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86" name="AutoShape 567"/>
                    <p:cNvCxnSpPr/>
                    <p:nvPr/>
                  </p:nvCxnSpPr>
                  <p:spPr>
                    <a:xfrm>
                      <a:off x="4666680" y="3745440"/>
                      <a:ext cx="30960" cy="69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87" name="AutoShape 568"/>
                    <p:cNvCxnSpPr/>
                    <p:nvPr/>
                  </p:nvCxnSpPr>
                  <p:spPr>
                    <a:xfrm>
                      <a:off x="4642200" y="3781800"/>
                      <a:ext cx="43920" cy="6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88" name="AutoShape 569"/>
                    <p:cNvCxnSpPr/>
                    <p:nvPr/>
                  </p:nvCxnSpPr>
                  <p:spPr>
                    <a:xfrm>
                      <a:off x="4617720" y="3820680"/>
                      <a:ext cx="20160" cy="87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89" name="AutoShape 570"/>
                    <p:cNvCxnSpPr/>
                    <p:nvPr/>
                  </p:nvCxnSpPr>
                  <p:spPr>
                    <a:xfrm flipH="1">
                      <a:off x="4632480" y="3884760"/>
                      <a:ext cx="87120" cy="19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sp>
              <p:nvSpPr>
                <p:cNvPr id="2690" name="Freeform 571"/>
                <p:cNvSpPr/>
                <p:nvPr/>
              </p:nvSpPr>
              <p:spPr>
                <a:xfrm rot="735000">
                  <a:off x="4351320" y="4063320"/>
                  <a:ext cx="99000" cy="148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Freeform 572"/>
                <p:cNvSpPr/>
                <p:nvPr/>
              </p:nvSpPr>
              <p:spPr>
                <a:xfrm rot="735000">
                  <a:off x="4375800" y="4062240"/>
                  <a:ext cx="174240" cy="178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Freeform 573"/>
                <p:cNvSpPr/>
                <p:nvPr/>
              </p:nvSpPr>
              <p:spPr>
                <a:xfrm rot="735000">
                  <a:off x="4388040" y="4101120"/>
                  <a:ext cx="82080" cy="129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Rectangle 574"/>
                <p:cNvSpPr/>
                <p:nvPr/>
              </p:nvSpPr>
              <p:spPr>
                <a:xfrm rot="735000">
                  <a:off x="4331160" y="4011840"/>
                  <a:ext cx="103320" cy="76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Freeform 575"/>
                <p:cNvSpPr/>
                <p:nvPr/>
              </p:nvSpPr>
              <p:spPr>
                <a:xfrm rot="2254200">
                  <a:off x="4389120" y="4104720"/>
                  <a:ext cx="146880" cy="83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95" name="Group 576"/>
                <p:cNvGrpSpPr/>
                <p:nvPr/>
              </p:nvGrpSpPr>
              <p:grpSpPr>
                <a:xfrm>
                  <a:off x="4190760" y="3993480"/>
                  <a:ext cx="197280" cy="220320"/>
                  <a:chOff x="4190760" y="3993480"/>
                  <a:chExt cx="197280" cy="220320"/>
                </a:xfrm>
              </p:grpSpPr>
              <p:sp>
                <p:nvSpPr>
                  <p:cNvPr id="2696" name="Freeform 577"/>
                  <p:cNvSpPr/>
                  <p:nvPr/>
                </p:nvSpPr>
                <p:spPr>
                  <a:xfrm rot="735000">
                    <a:off x="4199760" y="4014000"/>
                    <a:ext cx="140400" cy="93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7" name="Freeform 578"/>
                  <p:cNvSpPr/>
                  <p:nvPr/>
                </p:nvSpPr>
                <p:spPr>
                  <a:xfrm rot="735000">
                    <a:off x="4263120" y="4022280"/>
                    <a:ext cx="65880" cy="186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Freeform 579"/>
                  <p:cNvSpPr/>
                  <p:nvPr/>
                </p:nvSpPr>
                <p:spPr>
                  <a:xfrm rot="735000">
                    <a:off x="4195440" y="4008240"/>
                    <a:ext cx="149040" cy="62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Freeform 580"/>
                  <p:cNvSpPr/>
                  <p:nvPr/>
                </p:nvSpPr>
                <p:spPr>
                  <a:xfrm flipH="1" rot="270000">
                    <a:off x="4208760" y="4024440"/>
                    <a:ext cx="123120" cy="151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Freeform 581"/>
                  <p:cNvSpPr/>
                  <p:nvPr/>
                </p:nvSpPr>
                <p:spPr>
                  <a:xfrm rot="19302600">
                    <a:off x="4223160" y="4086000"/>
                    <a:ext cx="164520" cy="56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01" name="Group 582"/>
            <p:cNvGrpSpPr/>
            <p:nvPr/>
          </p:nvGrpSpPr>
          <p:grpSpPr>
            <a:xfrm>
              <a:off x="3505320" y="3531960"/>
              <a:ext cx="797040" cy="582480"/>
              <a:chOff x="3505320" y="3531960"/>
              <a:chExt cx="797040" cy="582480"/>
            </a:xfrm>
          </p:grpSpPr>
          <p:grpSp>
            <p:nvGrpSpPr>
              <p:cNvPr id="2702" name="Group 583"/>
              <p:cNvGrpSpPr/>
              <p:nvPr/>
            </p:nvGrpSpPr>
            <p:grpSpPr>
              <a:xfrm>
                <a:off x="3505320" y="3531960"/>
                <a:ext cx="601920" cy="411840"/>
                <a:chOff x="3505320" y="3531960"/>
                <a:chExt cx="601920" cy="411840"/>
              </a:xfrm>
            </p:grpSpPr>
            <p:grpSp>
              <p:nvGrpSpPr>
                <p:cNvPr id="2703" name="Group 584"/>
                <p:cNvGrpSpPr/>
                <p:nvPr/>
              </p:nvGrpSpPr>
              <p:grpSpPr>
                <a:xfrm>
                  <a:off x="3505320" y="3641400"/>
                  <a:ext cx="228600" cy="279360"/>
                  <a:chOff x="3505320" y="3641400"/>
                  <a:chExt cx="228600" cy="279360"/>
                </a:xfrm>
              </p:grpSpPr>
              <p:cxnSp>
                <p:nvCxnSpPr>
                  <p:cNvPr id="2704" name="AutoShape 585"/>
                  <p:cNvCxnSpPr/>
                  <p:nvPr/>
                </p:nvCxnSpPr>
                <p:spPr>
                  <a:xfrm>
                    <a:off x="3505320" y="3641400"/>
                    <a:ext cx="114840" cy="7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05" name="AutoShape 586"/>
                  <p:cNvCxnSpPr/>
                  <p:nvPr/>
                </p:nvCxnSpPr>
                <p:spPr>
                  <a:xfrm>
                    <a:off x="3555360" y="3843720"/>
                    <a:ext cx="178920" cy="7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06" name="AutoShape 587"/>
                  <p:cNvCxnSpPr/>
                  <p:nvPr/>
                </p:nvCxnSpPr>
                <p:spPr>
                  <a:xfrm>
                    <a:off x="3505320" y="3718080"/>
                    <a:ext cx="114840" cy="579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07" name="AutoShape 588"/>
                  <p:cNvCxnSpPr/>
                  <p:nvPr/>
                </p:nvCxnSpPr>
                <p:spPr>
                  <a:xfrm>
                    <a:off x="3555720" y="3795120"/>
                    <a:ext cx="114840" cy="49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708" name="Group 589"/>
                <p:cNvGrpSpPr/>
                <p:nvPr/>
              </p:nvGrpSpPr>
              <p:grpSpPr>
                <a:xfrm>
                  <a:off x="3683520" y="3588120"/>
                  <a:ext cx="228600" cy="279360"/>
                  <a:chOff x="3683520" y="3588120"/>
                  <a:chExt cx="228600" cy="279360"/>
                </a:xfrm>
              </p:grpSpPr>
              <p:cxnSp>
                <p:nvCxnSpPr>
                  <p:cNvPr id="2709" name="AutoShape 590"/>
                  <p:cNvCxnSpPr/>
                  <p:nvPr/>
                </p:nvCxnSpPr>
                <p:spPr>
                  <a:xfrm>
                    <a:off x="3683520" y="3588120"/>
                    <a:ext cx="114840" cy="7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10" name="AutoShape 591"/>
                  <p:cNvCxnSpPr/>
                  <p:nvPr/>
                </p:nvCxnSpPr>
                <p:spPr>
                  <a:xfrm>
                    <a:off x="3733560" y="3790440"/>
                    <a:ext cx="178920" cy="7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11" name="AutoShape 592"/>
                  <p:cNvCxnSpPr/>
                  <p:nvPr/>
                </p:nvCxnSpPr>
                <p:spPr>
                  <a:xfrm>
                    <a:off x="3683520" y="3664800"/>
                    <a:ext cx="114840" cy="579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12" name="AutoShape 593"/>
                  <p:cNvCxnSpPr/>
                  <p:nvPr/>
                </p:nvCxnSpPr>
                <p:spPr>
                  <a:xfrm>
                    <a:off x="3733920" y="3741840"/>
                    <a:ext cx="114840" cy="49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713" name="Group 594"/>
                <p:cNvGrpSpPr/>
                <p:nvPr/>
              </p:nvGrpSpPr>
              <p:grpSpPr>
                <a:xfrm>
                  <a:off x="3888000" y="3531960"/>
                  <a:ext cx="174600" cy="325080"/>
                  <a:chOff x="3888000" y="3531960"/>
                  <a:chExt cx="174600" cy="325080"/>
                </a:xfrm>
              </p:grpSpPr>
              <p:cxnSp>
                <p:nvCxnSpPr>
                  <p:cNvPr id="2714" name="AutoShape 595"/>
                  <p:cNvCxnSpPr/>
                  <p:nvPr/>
                </p:nvCxnSpPr>
                <p:spPr>
                  <a:xfrm>
                    <a:off x="3906000" y="3531960"/>
                    <a:ext cx="93600" cy="101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15" name="AutoShape 596"/>
                  <p:cNvCxnSpPr/>
                  <p:nvPr/>
                </p:nvCxnSpPr>
                <p:spPr>
                  <a:xfrm>
                    <a:off x="3907080" y="3740400"/>
                    <a:ext cx="155880" cy="117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16" name="AutoShape 597"/>
                  <p:cNvCxnSpPr/>
                  <p:nvPr/>
                </p:nvCxnSpPr>
                <p:spPr>
                  <a:xfrm>
                    <a:off x="3888000" y="3606480"/>
                    <a:ext cx="97920" cy="83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17" name="AutoShape 598"/>
                  <p:cNvCxnSpPr/>
                  <p:nvPr/>
                </p:nvCxnSpPr>
                <p:spPr>
                  <a:xfrm>
                    <a:off x="3918960" y="3693240"/>
                    <a:ext cx="100080" cy="74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718" name="Group 599"/>
                <p:cNvGrpSpPr/>
                <p:nvPr/>
              </p:nvGrpSpPr>
              <p:grpSpPr>
                <a:xfrm>
                  <a:off x="3607560" y="3581640"/>
                  <a:ext cx="138600" cy="362160"/>
                  <a:chOff x="3607560" y="3581640"/>
                  <a:chExt cx="138600" cy="362160"/>
                </a:xfrm>
              </p:grpSpPr>
              <p:cxnSp>
                <p:nvCxnSpPr>
                  <p:cNvPr id="2719" name="AutoShape 600"/>
                  <p:cNvCxnSpPr/>
                  <p:nvPr/>
                </p:nvCxnSpPr>
                <p:spPr>
                  <a:xfrm flipH="1">
                    <a:off x="3607560" y="3581640"/>
                    <a:ext cx="14760" cy="1342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20" name="AutoShape 601"/>
                  <p:cNvCxnSpPr/>
                  <p:nvPr/>
                </p:nvCxnSpPr>
                <p:spPr>
                  <a:xfrm flipH="1">
                    <a:off x="3690720" y="3767760"/>
                    <a:ext cx="55800" cy="176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21" name="AutoShape 602"/>
                  <p:cNvCxnSpPr/>
                  <p:nvPr/>
                </p:nvCxnSpPr>
                <p:spPr>
                  <a:xfrm flipH="1">
                    <a:off x="3651840" y="3639600"/>
                    <a:ext cx="29520" cy="119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22" name="AutoShape 603"/>
                  <p:cNvCxnSpPr/>
                  <p:nvPr/>
                </p:nvCxnSpPr>
                <p:spPr>
                  <a:xfrm flipH="1">
                    <a:off x="3672000" y="3731040"/>
                    <a:ext cx="36000" cy="113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723" name="Group 604"/>
                <p:cNvGrpSpPr/>
                <p:nvPr/>
              </p:nvGrpSpPr>
              <p:grpSpPr>
                <a:xfrm>
                  <a:off x="3972960" y="3535560"/>
                  <a:ext cx="134280" cy="352800"/>
                  <a:chOff x="3972960" y="3535560"/>
                  <a:chExt cx="134280" cy="352800"/>
                </a:xfrm>
              </p:grpSpPr>
              <p:cxnSp>
                <p:nvCxnSpPr>
                  <p:cNvPr id="2724" name="AutoShape 605"/>
                  <p:cNvCxnSpPr/>
                  <p:nvPr/>
                </p:nvCxnSpPr>
                <p:spPr>
                  <a:xfrm flipH="1">
                    <a:off x="3972960" y="3535560"/>
                    <a:ext cx="18000" cy="131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25" name="AutoShape 606"/>
                  <p:cNvCxnSpPr/>
                  <p:nvPr/>
                </p:nvCxnSpPr>
                <p:spPr>
                  <a:xfrm flipH="1">
                    <a:off x="4048200" y="3714480"/>
                    <a:ext cx="59400" cy="174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26" name="AutoShape 607"/>
                  <p:cNvCxnSpPr/>
                  <p:nvPr/>
                </p:nvCxnSpPr>
                <p:spPr>
                  <a:xfrm flipH="1">
                    <a:off x="4015800" y="3591000"/>
                    <a:ext cx="31680" cy="117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27" name="AutoShape 608"/>
                  <p:cNvCxnSpPr/>
                  <p:nvPr/>
                </p:nvCxnSpPr>
                <p:spPr>
                  <a:xfrm flipH="1">
                    <a:off x="4033440" y="3679560"/>
                    <a:ext cx="38160" cy="1119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728" name="Group 609"/>
                <p:cNvGrpSpPr/>
                <p:nvPr/>
              </p:nvGrpSpPr>
              <p:grpSpPr>
                <a:xfrm>
                  <a:off x="3819240" y="3562920"/>
                  <a:ext cx="138600" cy="362160"/>
                  <a:chOff x="3819240" y="3562920"/>
                  <a:chExt cx="138600" cy="362160"/>
                </a:xfrm>
              </p:grpSpPr>
              <p:cxnSp>
                <p:nvCxnSpPr>
                  <p:cNvPr id="2729" name="AutoShape 610"/>
                  <p:cNvCxnSpPr/>
                  <p:nvPr/>
                </p:nvCxnSpPr>
                <p:spPr>
                  <a:xfrm flipH="1">
                    <a:off x="3819240" y="3562920"/>
                    <a:ext cx="14760" cy="1342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30" name="AutoShape 611"/>
                  <p:cNvCxnSpPr/>
                  <p:nvPr/>
                </p:nvCxnSpPr>
                <p:spPr>
                  <a:xfrm flipH="1">
                    <a:off x="3902400" y="3749040"/>
                    <a:ext cx="55800" cy="176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31" name="AutoShape 612"/>
                  <p:cNvCxnSpPr/>
                  <p:nvPr/>
                </p:nvCxnSpPr>
                <p:spPr>
                  <a:xfrm flipH="1">
                    <a:off x="3863520" y="3620880"/>
                    <a:ext cx="29520" cy="119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732" name="AutoShape 613"/>
                  <p:cNvCxnSpPr/>
                  <p:nvPr/>
                </p:nvCxnSpPr>
                <p:spPr>
                  <a:xfrm flipH="1">
                    <a:off x="3883680" y="3712320"/>
                    <a:ext cx="36000" cy="113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2733" name="Group 614"/>
              <p:cNvGrpSpPr/>
              <p:nvPr/>
            </p:nvGrpSpPr>
            <p:grpSpPr>
              <a:xfrm>
                <a:off x="3602520" y="3554280"/>
                <a:ext cx="699840" cy="560160"/>
                <a:chOff x="3602520" y="3554280"/>
                <a:chExt cx="699840" cy="560160"/>
              </a:xfrm>
            </p:grpSpPr>
            <p:sp>
              <p:nvSpPr>
                <p:cNvPr id="2734" name="Arc 615"/>
                <p:cNvSpPr/>
                <p:nvPr/>
              </p:nvSpPr>
              <p:spPr>
                <a:xfrm flipH="1" flipV="1" rot="505800">
                  <a:off x="3776760" y="3587760"/>
                  <a:ext cx="495360" cy="448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Arc 616"/>
                <p:cNvSpPr/>
                <p:nvPr/>
              </p:nvSpPr>
              <p:spPr>
                <a:xfrm flipH="1" flipV="1" rot="21354600">
                  <a:off x="3619800" y="3587760"/>
                  <a:ext cx="496440" cy="509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Arc 617"/>
                <p:cNvSpPr/>
                <p:nvPr/>
              </p:nvSpPr>
              <p:spPr>
                <a:xfrm flipH="1" flipV="1">
                  <a:off x="3986280" y="3587760"/>
                  <a:ext cx="285480" cy="448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7" name="Group 618"/>
          <p:cNvGrpSpPr/>
          <p:nvPr/>
        </p:nvGrpSpPr>
        <p:grpSpPr>
          <a:xfrm>
            <a:off x="7163280" y="3504960"/>
            <a:ext cx="1980000" cy="1441080"/>
            <a:chOff x="7163280" y="3504960"/>
            <a:chExt cx="1980000" cy="1441080"/>
          </a:xfrm>
        </p:grpSpPr>
        <p:sp>
          <p:nvSpPr>
            <p:cNvPr id="2738" name="Arc 619"/>
            <p:cNvSpPr/>
            <p:nvPr/>
          </p:nvSpPr>
          <p:spPr>
            <a:xfrm flipH="1" flipV="1">
              <a:off x="8039880" y="3504600"/>
              <a:ext cx="173520" cy="279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9" name="Group 620"/>
            <p:cNvGrpSpPr/>
            <p:nvPr/>
          </p:nvGrpSpPr>
          <p:grpSpPr>
            <a:xfrm>
              <a:off x="7488000" y="4160160"/>
              <a:ext cx="1413720" cy="785880"/>
              <a:chOff x="7488000" y="4160160"/>
              <a:chExt cx="1413720" cy="785880"/>
            </a:xfrm>
          </p:grpSpPr>
          <p:sp>
            <p:nvSpPr>
              <p:cNvPr id="2740" name="Freeform 621"/>
              <p:cNvSpPr/>
              <p:nvPr/>
            </p:nvSpPr>
            <p:spPr>
              <a:xfrm>
                <a:off x="8148600" y="4309920"/>
                <a:ext cx="382680" cy="530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622"/>
              <p:cNvSpPr/>
              <p:nvPr/>
            </p:nvSpPr>
            <p:spPr>
              <a:xfrm>
                <a:off x="8201880" y="4282200"/>
                <a:ext cx="492480" cy="356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623"/>
              <p:cNvSpPr/>
              <p:nvPr/>
            </p:nvSpPr>
            <p:spPr>
              <a:xfrm rot="772200">
                <a:off x="7593120" y="4205880"/>
                <a:ext cx="477000" cy="576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624"/>
              <p:cNvSpPr/>
              <p:nvPr/>
            </p:nvSpPr>
            <p:spPr>
              <a:xfrm>
                <a:off x="8147160" y="4278240"/>
                <a:ext cx="497880" cy="471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Rectangle 625"/>
              <p:cNvSpPr/>
              <p:nvPr/>
            </p:nvSpPr>
            <p:spPr>
              <a:xfrm>
                <a:off x="8070480" y="4222440"/>
                <a:ext cx="210600" cy="14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626"/>
              <p:cNvSpPr/>
              <p:nvPr/>
            </p:nvSpPr>
            <p:spPr>
              <a:xfrm rot="1519200">
                <a:off x="8148600" y="4390200"/>
                <a:ext cx="497520" cy="471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6" name="Group 627"/>
              <p:cNvGrpSpPr/>
              <p:nvPr/>
            </p:nvGrpSpPr>
            <p:grpSpPr>
              <a:xfrm>
                <a:off x="7488000" y="4262400"/>
                <a:ext cx="756720" cy="600120"/>
                <a:chOff x="7488000" y="4262400"/>
                <a:chExt cx="756720" cy="600120"/>
              </a:xfrm>
            </p:grpSpPr>
            <p:sp>
              <p:nvSpPr>
                <p:cNvPr id="2747" name="Freeform 628"/>
                <p:cNvSpPr/>
                <p:nvPr/>
              </p:nvSpPr>
              <p:spPr>
                <a:xfrm>
                  <a:off x="7523640" y="4278240"/>
                  <a:ext cx="567720" cy="291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Freeform 629"/>
                <p:cNvSpPr/>
                <p:nvPr/>
              </p:nvSpPr>
              <p:spPr>
                <a:xfrm>
                  <a:off x="7824600" y="4282920"/>
                  <a:ext cx="266760" cy="579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Freeform 630"/>
                <p:cNvSpPr/>
                <p:nvPr/>
              </p:nvSpPr>
              <p:spPr>
                <a:xfrm>
                  <a:off x="7488000" y="4262400"/>
                  <a:ext cx="603720" cy="194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Freeform 631"/>
                <p:cNvSpPr/>
                <p:nvPr/>
              </p:nvSpPr>
              <p:spPr>
                <a:xfrm flipH="1" rot="21135600">
                  <a:off x="7593120" y="4308480"/>
                  <a:ext cx="498240" cy="472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Freeform 632"/>
                <p:cNvSpPr/>
                <p:nvPr/>
              </p:nvSpPr>
              <p:spPr>
                <a:xfrm rot="18567600">
                  <a:off x="7737840" y="4448880"/>
                  <a:ext cx="511200" cy="229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2" name="Group 633"/>
              <p:cNvGrpSpPr/>
              <p:nvPr/>
            </p:nvGrpSpPr>
            <p:grpSpPr>
              <a:xfrm>
                <a:off x="8145000" y="4222440"/>
                <a:ext cx="756720" cy="600120"/>
                <a:chOff x="8145000" y="4222440"/>
                <a:chExt cx="756720" cy="600120"/>
              </a:xfrm>
            </p:grpSpPr>
            <p:sp>
              <p:nvSpPr>
                <p:cNvPr id="2753" name="Freeform 634"/>
                <p:cNvSpPr/>
                <p:nvPr/>
              </p:nvSpPr>
              <p:spPr>
                <a:xfrm flipH="1">
                  <a:off x="8298720" y="4238280"/>
                  <a:ext cx="567360" cy="291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Freeform 635"/>
                <p:cNvSpPr/>
                <p:nvPr/>
              </p:nvSpPr>
              <p:spPr>
                <a:xfrm flipH="1">
                  <a:off x="8298360" y="4242960"/>
                  <a:ext cx="266760" cy="579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Freeform 636"/>
                <p:cNvSpPr/>
                <p:nvPr/>
              </p:nvSpPr>
              <p:spPr>
                <a:xfrm flipH="1">
                  <a:off x="8298360" y="4222440"/>
                  <a:ext cx="603360" cy="194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Freeform 637"/>
                <p:cNvSpPr/>
                <p:nvPr/>
              </p:nvSpPr>
              <p:spPr>
                <a:xfrm rot="464400">
                  <a:off x="8299080" y="4268520"/>
                  <a:ext cx="497880" cy="472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Freeform 638"/>
                <p:cNvSpPr/>
                <p:nvPr/>
              </p:nvSpPr>
              <p:spPr>
                <a:xfrm flipH="1" rot="3032400">
                  <a:off x="8139960" y="4408920"/>
                  <a:ext cx="510840" cy="229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8" name="Group 639"/>
            <p:cNvGrpSpPr/>
            <p:nvPr/>
          </p:nvGrpSpPr>
          <p:grpSpPr>
            <a:xfrm>
              <a:off x="8104320" y="3553200"/>
              <a:ext cx="1038960" cy="920160"/>
              <a:chOff x="8104320" y="3553200"/>
              <a:chExt cx="1038960" cy="920160"/>
            </a:xfrm>
          </p:grpSpPr>
          <p:sp>
            <p:nvSpPr>
              <p:cNvPr id="2759" name="Arc 640"/>
              <p:cNvSpPr/>
              <p:nvPr/>
            </p:nvSpPr>
            <p:spPr>
              <a:xfrm flipV="1" rot="245400">
                <a:off x="8289000" y="3576600"/>
                <a:ext cx="694440" cy="735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0" name="Group 641"/>
              <p:cNvGrpSpPr/>
              <p:nvPr/>
            </p:nvGrpSpPr>
            <p:grpSpPr>
              <a:xfrm>
                <a:off x="8823960" y="3655080"/>
                <a:ext cx="319320" cy="401760"/>
                <a:chOff x="8823960" y="3655080"/>
                <a:chExt cx="319320" cy="401760"/>
              </a:xfrm>
            </p:grpSpPr>
            <p:cxnSp>
              <p:nvCxnSpPr>
                <p:cNvPr id="2761" name="AutoShape 642"/>
                <p:cNvCxnSpPr/>
                <p:nvPr/>
              </p:nvCxnSpPr>
              <p:spPr>
                <a:xfrm flipH="1">
                  <a:off x="8983440" y="3655080"/>
                  <a:ext cx="160200" cy="110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62" name="AutoShape 643"/>
                <p:cNvCxnSpPr/>
                <p:nvPr/>
              </p:nvCxnSpPr>
              <p:spPr>
                <a:xfrm flipH="1">
                  <a:off x="8823960" y="3946320"/>
                  <a:ext cx="249480" cy="110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63" name="AutoShape 644"/>
                <p:cNvCxnSpPr/>
                <p:nvPr/>
              </p:nvCxnSpPr>
              <p:spPr>
                <a:xfrm flipH="1">
                  <a:off x="8983440" y="3764880"/>
                  <a:ext cx="160200" cy="83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64" name="AutoShape 645"/>
                <p:cNvCxnSpPr/>
                <p:nvPr/>
              </p:nvCxnSpPr>
              <p:spPr>
                <a:xfrm flipH="1">
                  <a:off x="8912880" y="3875400"/>
                  <a:ext cx="160200" cy="70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765" name="Group 646"/>
              <p:cNvGrpSpPr/>
              <p:nvPr/>
            </p:nvGrpSpPr>
            <p:grpSpPr>
              <a:xfrm>
                <a:off x="8804880" y="3572280"/>
                <a:ext cx="195840" cy="512640"/>
                <a:chOff x="8804880" y="3572280"/>
                <a:chExt cx="195840" cy="512640"/>
              </a:xfrm>
            </p:grpSpPr>
            <p:cxnSp>
              <p:nvCxnSpPr>
                <p:cNvPr id="2766" name="AutoShape 647"/>
                <p:cNvCxnSpPr/>
                <p:nvPr/>
              </p:nvCxnSpPr>
              <p:spPr>
                <a:xfrm>
                  <a:off x="8977320" y="3572280"/>
                  <a:ext cx="23760" cy="19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67" name="AutoShape 648"/>
                <p:cNvCxnSpPr/>
                <p:nvPr/>
              </p:nvCxnSpPr>
              <p:spPr>
                <a:xfrm>
                  <a:off x="8804880" y="3833640"/>
                  <a:ext cx="83160" cy="251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68" name="AutoShape 649"/>
                <p:cNvCxnSpPr/>
                <p:nvPr/>
              </p:nvCxnSpPr>
              <p:spPr>
                <a:xfrm>
                  <a:off x="8894520" y="3652920"/>
                  <a:ext cx="44640" cy="170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69" name="AutoShape 650"/>
                <p:cNvCxnSpPr/>
                <p:nvPr/>
              </p:nvCxnSpPr>
              <p:spPr>
                <a:xfrm>
                  <a:off x="8858520" y="3781800"/>
                  <a:ext cx="54000" cy="161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770" name="Group 651"/>
              <p:cNvGrpSpPr/>
              <p:nvPr/>
            </p:nvGrpSpPr>
            <p:grpSpPr>
              <a:xfrm>
                <a:off x="8104320" y="3652200"/>
                <a:ext cx="645120" cy="821160"/>
                <a:chOff x="8104320" y="3652200"/>
                <a:chExt cx="645120" cy="821160"/>
              </a:xfrm>
            </p:grpSpPr>
            <p:grpSp>
              <p:nvGrpSpPr>
                <p:cNvPr id="2771" name="Group 652"/>
                <p:cNvGrpSpPr/>
                <p:nvPr/>
              </p:nvGrpSpPr>
              <p:grpSpPr>
                <a:xfrm>
                  <a:off x="8287560" y="4019040"/>
                  <a:ext cx="103680" cy="146160"/>
                  <a:chOff x="8287560" y="4019040"/>
                  <a:chExt cx="103680" cy="146160"/>
                </a:xfrm>
              </p:grpSpPr>
              <p:grpSp>
                <p:nvGrpSpPr>
                  <p:cNvPr id="2772" name="Group 653"/>
                  <p:cNvGrpSpPr/>
                  <p:nvPr/>
                </p:nvGrpSpPr>
                <p:grpSpPr>
                  <a:xfrm>
                    <a:off x="8287560" y="4019040"/>
                    <a:ext cx="103680" cy="146160"/>
                    <a:chOff x="8287560" y="4019040"/>
                    <a:chExt cx="103680" cy="146160"/>
                  </a:xfrm>
                </p:grpSpPr>
                <p:sp>
                  <p:nvSpPr>
                    <p:cNvPr id="2773" name="Arc 654"/>
                    <p:cNvSpPr/>
                    <p:nvPr/>
                  </p:nvSpPr>
                  <p:spPr>
                    <a:xfrm rot="735000">
                      <a:off x="8339040" y="4029840"/>
                      <a:ext cx="38160" cy="132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4" name="Arc 655"/>
                    <p:cNvSpPr/>
                    <p:nvPr/>
                  </p:nvSpPr>
                  <p:spPr>
                    <a:xfrm flipH="1" rot="735000">
                      <a:off x="8300880" y="4021200"/>
                      <a:ext cx="38160" cy="132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5" name="Group 656"/>
                  <p:cNvGrpSpPr/>
                  <p:nvPr/>
                </p:nvGrpSpPr>
                <p:grpSpPr>
                  <a:xfrm>
                    <a:off x="8304120" y="4079880"/>
                    <a:ext cx="56160" cy="77760"/>
                    <a:chOff x="8304120" y="4079880"/>
                    <a:chExt cx="56160" cy="77760"/>
                  </a:xfrm>
                </p:grpSpPr>
                <p:sp>
                  <p:nvSpPr>
                    <p:cNvPr id="2776" name="Arc 657"/>
                    <p:cNvSpPr/>
                    <p:nvPr/>
                  </p:nvSpPr>
                  <p:spPr>
                    <a:xfrm rot="735000">
                      <a:off x="8332200" y="4085640"/>
                      <a:ext cx="20520" cy="70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7" name="Arc 658"/>
                    <p:cNvSpPr/>
                    <p:nvPr/>
                  </p:nvSpPr>
                  <p:spPr>
                    <a:xfrm flipH="1" rot="735000">
                      <a:off x="8310960" y="4080960"/>
                      <a:ext cx="20520" cy="70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2778" name="AutoShape 659"/>
                  <p:cNvCxnSpPr/>
                  <p:nvPr/>
                </p:nvCxnSpPr>
                <p:spPr>
                  <a:xfrm>
                    <a:off x="8287560" y="4145760"/>
                    <a:ext cx="76320" cy="17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779" name="Group 660"/>
                <p:cNvGrpSpPr/>
                <p:nvPr/>
              </p:nvGrpSpPr>
              <p:grpSpPr>
                <a:xfrm>
                  <a:off x="8155800" y="3652200"/>
                  <a:ext cx="303480" cy="534960"/>
                  <a:chOff x="8155800" y="3652200"/>
                  <a:chExt cx="303480" cy="534960"/>
                </a:xfrm>
              </p:grpSpPr>
              <p:sp>
                <p:nvSpPr>
                  <p:cNvPr id="2780" name="Arc 661"/>
                  <p:cNvSpPr/>
                  <p:nvPr/>
                </p:nvSpPr>
                <p:spPr>
                  <a:xfrm flipH="1" flipV="1" rot="735000">
                    <a:off x="8200440" y="3728160"/>
                    <a:ext cx="214560" cy="440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81" name="Group 662"/>
                  <p:cNvGrpSpPr/>
                  <p:nvPr/>
                </p:nvGrpSpPr>
                <p:grpSpPr>
                  <a:xfrm>
                    <a:off x="8155800" y="3652200"/>
                    <a:ext cx="97200" cy="321120"/>
                    <a:chOff x="8155800" y="3652200"/>
                    <a:chExt cx="97200" cy="321120"/>
                  </a:xfrm>
                </p:grpSpPr>
                <p:cxnSp>
                  <p:nvCxnSpPr>
                    <p:cNvPr id="2782" name="AutoShape 663"/>
                    <p:cNvCxnSpPr/>
                    <p:nvPr/>
                  </p:nvCxnSpPr>
                  <p:spPr>
                    <a:xfrm>
                      <a:off x="8207640" y="3652200"/>
                      <a:ext cx="45720" cy="105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83" name="AutoShape 664"/>
                    <p:cNvCxnSpPr/>
                    <p:nvPr/>
                  </p:nvCxnSpPr>
                  <p:spPr>
                    <a:xfrm>
                      <a:off x="8155800" y="3846960"/>
                      <a:ext cx="88560" cy="126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84" name="AutoShape 665"/>
                    <p:cNvCxnSpPr/>
                    <p:nvPr/>
                  </p:nvCxnSpPr>
                  <p:spPr>
                    <a:xfrm>
                      <a:off x="8175600" y="3719160"/>
                      <a:ext cx="53640" cy="88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85" name="AutoShape 666"/>
                    <p:cNvCxnSpPr/>
                    <p:nvPr/>
                  </p:nvCxnSpPr>
                  <p:spPr>
                    <a:xfrm>
                      <a:off x="8177040" y="3803040"/>
                      <a:ext cx="57240" cy="81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786" name="Group 667"/>
                  <p:cNvGrpSpPr/>
                  <p:nvPr/>
                </p:nvGrpSpPr>
                <p:grpSpPr>
                  <a:xfrm>
                    <a:off x="8220960" y="3687480"/>
                    <a:ext cx="102600" cy="294840"/>
                    <a:chOff x="8220960" y="3687480"/>
                    <a:chExt cx="102600" cy="294840"/>
                  </a:xfrm>
                </p:grpSpPr>
                <p:cxnSp>
                  <p:nvCxnSpPr>
                    <p:cNvPr id="2787" name="AutoShape 668"/>
                    <p:cNvCxnSpPr/>
                    <p:nvPr/>
                  </p:nvCxnSpPr>
                  <p:spPr>
                    <a:xfrm flipH="1">
                      <a:off x="8221320" y="3687480"/>
                      <a:ext cx="54000" cy="107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88" name="AutoShape 669"/>
                    <p:cNvCxnSpPr/>
                    <p:nvPr/>
                  </p:nvCxnSpPr>
                  <p:spPr>
                    <a:xfrm flipH="1">
                      <a:off x="8220960" y="3842640"/>
                      <a:ext cx="102960" cy="140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89" name="AutoShape 670"/>
                    <p:cNvCxnSpPr/>
                    <p:nvPr/>
                  </p:nvCxnSpPr>
                  <p:spPr>
                    <a:xfrm flipH="1">
                      <a:off x="8245800" y="3736800"/>
                      <a:ext cx="62280" cy="95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90" name="AutoShape 671"/>
                    <p:cNvCxnSpPr/>
                    <p:nvPr/>
                  </p:nvCxnSpPr>
                  <p:spPr>
                    <a:xfrm flipH="1">
                      <a:off x="8236440" y="3811680"/>
                      <a:ext cx="66240" cy="90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791" name="Group 672"/>
                <p:cNvGrpSpPr/>
                <p:nvPr/>
              </p:nvGrpSpPr>
              <p:grpSpPr>
                <a:xfrm>
                  <a:off x="8353800" y="3684960"/>
                  <a:ext cx="251280" cy="510480"/>
                  <a:chOff x="8353800" y="3684960"/>
                  <a:chExt cx="251280" cy="510480"/>
                </a:xfrm>
              </p:grpSpPr>
              <p:sp>
                <p:nvSpPr>
                  <p:cNvPr id="2792" name="Arc 673"/>
                  <p:cNvSpPr/>
                  <p:nvPr/>
                </p:nvSpPr>
                <p:spPr>
                  <a:xfrm flipV="1" rot="735000">
                    <a:off x="8403480" y="3704760"/>
                    <a:ext cx="126360" cy="482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93" name="Group 674"/>
                  <p:cNvGrpSpPr/>
                  <p:nvPr/>
                </p:nvGrpSpPr>
                <p:grpSpPr>
                  <a:xfrm>
                    <a:off x="8508240" y="3684960"/>
                    <a:ext cx="96840" cy="301320"/>
                    <a:chOff x="8508240" y="3684960"/>
                    <a:chExt cx="96840" cy="301320"/>
                  </a:xfrm>
                </p:grpSpPr>
                <p:cxnSp>
                  <p:nvCxnSpPr>
                    <p:cNvPr id="2794" name="AutoShape 675"/>
                    <p:cNvCxnSpPr/>
                    <p:nvPr/>
                  </p:nvCxnSpPr>
                  <p:spPr>
                    <a:xfrm flipH="1">
                      <a:off x="8554320" y="3684960"/>
                      <a:ext cx="49320" cy="83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95" name="AutoShape 676"/>
                    <p:cNvCxnSpPr/>
                    <p:nvPr/>
                  </p:nvCxnSpPr>
                  <p:spPr>
                    <a:xfrm flipH="1">
                      <a:off x="8508240" y="3902040"/>
                      <a:ext cx="78120" cy="84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96" name="AutoShape 677"/>
                    <p:cNvCxnSpPr/>
                    <p:nvPr/>
                  </p:nvCxnSpPr>
                  <p:spPr>
                    <a:xfrm flipH="1">
                      <a:off x="8555400" y="3766680"/>
                      <a:ext cx="50040" cy="63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97" name="AutoShape 678"/>
                    <p:cNvCxnSpPr/>
                    <p:nvPr/>
                  </p:nvCxnSpPr>
                  <p:spPr>
                    <a:xfrm flipH="1">
                      <a:off x="8534880" y="3849480"/>
                      <a:ext cx="49680" cy="54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798" name="Group 679"/>
                  <p:cNvGrpSpPr/>
                  <p:nvPr/>
                </p:nvGrpSpPr>
                <p:grpSpPr>
                  <a:xfrm>
                    <a:off x="8478360" y="3720240"/>
                    <a:ext cx="82440" cy="260640"/>
                    <a:chOff x="8478360" y="3720240"/>
                    <a:chExt cx="82440" cy="260640"/>
                  </a:xfrm>
                </p:grpSpPr>
                <p:cxnSp>
                  <p:nvCxnSpPr>
                    <p:cNvPr id="2799" name="AutoShape 680"/>
                    <p:cNvCxnSpPr/>
                    <p:nvPr/>
                  </p:nvCxnSpPr>
                  <p:spPr>
                    <a:xfrm>
                      <a:off x="8530200" y="3720240"/>
                      <a:ext cx="30960" cy="116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00" name="AutoShape 681"/>
                    <p:cNvCxnSpPr/>
                    <p:nvPr/>
                  </p:nvCxnSpPr>
                  <p:spPr>
                    <a:xfrm>
                      <a:off x="8478360" y="3811320"/>
                      <a:ext cx="64800" cy="169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01" name="AutoShape 682"/>
                    <p:cNvCxnSpPr/>
                    <p:nvPr/>
                  </p:nvCxnSpPr>
                  <p:spPr>
                    <a:xfrm>
                      <a:off x="8500320" y="3739320"/>
                      <a:ext cx="38520" cy="110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02" name="AutoShape 683"/>
                    <p:cNvCxnSpPr/>
                    <p:nvPr/>
                  </p:nvCxnSpPr>
                  <p:spPr>
                    <a:xfrm>
                      <a:off x="8497440" y="3800160"/>
                      <a:ext cx="41400" cy="109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803" name="Group 684"/>
                <p:cNvGrpSpPr/>
                <p:nvPr/>
              </p:nvGrpSpPr>
              <p:grpSpPr>
                <a:xfrm>
                  <a:off x="8281800" y="3674880"/>
                  <a:ext cx="467640" cy="561240"/>
                  <a:chOff x="8281800" y="3674880"/>
                  <a:chExt cx="467640" cy="561240"/>
                </a:xfrm>
              </p:grpSpPr>
              <p:sp>
                <p:nvSpPr>
                  <p:cNvPr id="2804" name="Arc 685"/>
                  <p:cNvSpPr/>
                  <p:nvPr/>
                </p:nvSpPr>
                <p:spPr>
                  <a:xfrm flipV="1" rot="922800">
                    <a:off x="8341560" y="3707280"/>
                    <a:ext cx="315360" cy="495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05" name="Group 686"/>
                  <p:cNvGrpSpPr/>
                  <p:nvPr/>
                </p:nvGrpSpPr>
                <p:grpSpPr>
                  <a:xfrm>
                    <a:off x="8584200" y="3814560"/>
                    <a:ext cx="165240" cy="202320"/>
                    <a:chOff x="8584200" y="3814560"/>
                    <a:chExt cx="165240" cy="202320"/>
                  </a:xfrm>
                </p:grpSpPr>
                <p:cxnSp>
                  <p:nvCxnSpPr>
                    <p:cNvPr id="2806" name="AutoShape 687"/>
                    <p:cNvCxnSpPr/>
                    <p:nvPr/>
                  </p:nvCxnSpPr>
                  <p:spPr>
                    <a:xfrm flipH="1">
                      <a:off x="8652960" y="3930120"/>
                      <a:ext cx="74520" cy="176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07" name="AutoShape 688"/>
                    <p:cNvCxnSpPr/>
                    <p:nvPr/>
                  </p:nvCxnSpPr>
                  <p:spPr>
                    <a:xfrm flipH="1">
                      <a:off x="8675280" y="3879720"/>
                      <a:ext cx="74520" cy="18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08" name="AutoShape 689"/>
                    <p:cNvCxnSpPr/>
                    <p:nvPr/>
                  </p:nvCxnSpPr>
                  <p:spPr>
                    <a:xfrm>
                      <a:off x="8646480" y="3814560"/>
                      <a:ext cx="29520" cy="83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09" name="AutoShape 690"/>
                    <p:cNvCxnSpPr/>
                    <p:nvPr/>
                  </p:nvCxnSpPr>
                  <p:spPr>
                    <a:xfrm>
                      <a:off x="8614800" y="3862080"/>
                      <a:ext cx="45000" cy="759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10" name="AutoShape 691"/>
                    <p:cNvCxnSpPr/>
                    <p:nvPr/>
                  </p:nvCxnSpPr>
                  <p:spPr>
                    <a:xfrm>
                      <a:off x="8584200" y="3911400"/>
                      <a:ext cx="15840" cy="105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11" name="AutoShape 692"/>
                    <p:cNvCxnSpPr/>
                    <p:nvPr/>
                  </p:nvCxnSpPr>
                  <p:spPr>
                    <a:xfrm flipH="1">
                      <a:off x="8592480" y="3980520"/>
                      <a:ext cx="102240" cy="32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sp>
              <p:nvSpPr>
                <p:cNvPr id="2812" name="Freeform 693"/>
                <p:cNvSpPr/>
                <p:nvPr/>
              </p:nvSpPr>
              <p:spPr>
                <a:xfrm rot="735000">
                  <a:off x="8278560" y="4228200"/>
                  <a:ext cx="108360" cy="192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Freeform 694"/>
                <p:cNvSpPr/>
                <p:nvPr/>
              </p:nvSpPr>
              <p:spPr>
                <a:xfrm rot="735000">
                  <a:off x="8305560" y="4223880"/>
                  <a:ext cx="190800" cy="231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Freeform 695"/>
                <p:cNvSpPr/>
                <p:nvPr/>
              </p:nvSpPr>
              <p:spPr>
                <a:xfrm rot="735000">
                  <a:off x="8317800" y="4275360"/>
                  <a:ext cx="89640" cy="168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Rectangle 696"/>
                <p:cNvSpPr/>
                <p:nvPr/>
              </p:nvSpPr>
              <p:spPr>
                <a:xfrm rot="735000">
                  <a:off x="8260200" y="4162680"/>
                  <a:ext cx="113040" cy="9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Freeform 697"/>
                <p:cNvSpPr/>
                <p:nvPr/>
              </p:nvSpPr>
              <p:spPr>
                <a:xfrm rot="2254200">
                  <a:off x="8320320" y="4278960"/>
                  <a:ext cx="160920" cy="107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17" name="Group 698"/>
                <p:cNvGrpSpPr/>
                <p:nvPr/>
              </p:nvGrpSpPr>
              <p:grpSpPr>
                <a:xfrm>
                  <a:off x="8104320" y="4147200"/>
                  <a:ext cx="227880" cy="278640"/>
                  <a:chOff x="8104320" y="4147200"/>
                  <a:chExt cx="227880" cy="278640"/>
                </a:xfrm>
              </p:grpSpPr>
              <p:sp>
                <p:nvSpPr>
                  <p:cNvPr id="2818" name="Freeform 699"/>
                  <p:cNvSpPr/>
                  <p:nvPr/>
                </p:nvSpPr>
                <p:spPr>
                  <a:xfrm rot="735000">
                    <a:off x="8115480" y="4170240"/>
                    <a:ext cx="153360" cy="1216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Freeform 700"/>
                  <p:cNvSpPr/>
                  <p:nvPr/>
                </p:nvSpPr>
                <p:spPr>
                  <a:xfrm rot="735000">
                    <a:off x="8182800" y="4179240"/>
                    <a:ext cx="72000" cy="241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Freeform 701"/>
                  <p:cNvSpPr/>
                  <p:nvPr/>
                </p:nvSpPr>
                <p:spPr>
                  <a:xfrm rot="735000">
                    <a:off x="8111520" y="4163400"/>
                    <a:ext cx="163080" cy="81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1" name="Freeform 702"/>
                  <p:cNvSpPr/>
                  <p:nvPr/>
                </p:nvSpPr>
                <p:spPr>
                  <a:xfrm flipH="1" rot="270000">
                    <a:off x="8122680" y="4183200"/>
                    <a:ext cx="134640" cy="196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2" name="Freeform 703"/>
                  <p:cNvSpPr/>
                  <p:nvPr/>
                </p:nvSpPr>
                <p:spPr>
                  <a:xfrm rot="19302600">
                    <a:off x="8123040" y="4267440"/>
                    <a:ext cx="212760" cy="61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23" name="Group 704"/>
            <p:cNvGrpSpPr/>
            <p:nvPr/>
          </p:nvGrpSpPr>
          <p:grpSpPr>
            <a:xfrm>
              <a:off x="7163280" y="3529800"/>
              <a:ext cx="1103400" cy="932040"/>
              <a:chOff x="7163280" y="3529800"/>
              <a:chExt cx="1103400" cy="932040"/>
            </a:xfrm>
          </p:grpSpPr>
          <p:sp>
            <p:nvSpPr>
              <p:cNvPr id="2824" name="Arc 705"/>
              <p:cNvSpPr/>
              <p:nvPr/>
            </p:nvSpPr>
            <p:spPr>
              <a:xfrm flipH="1" flipV="1" rot="20959800">
                <a:off x="7353000" y="3587400"/>
                <a:ext cx="694440" cy="735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5" name="Group 706"/>
              <p:cNvGrpSpPr/>
              <p:nvPr/>
            </p:nvGrpSpPr>
            <p:grpSpPr>
              <a:xfrm>
                <a:off x="7163280" y="3725640"/>
                <a:ext cx="363240" cy="362520"/>
                <a:chOff x="7163280" y="3725640"/>
                <a:chExt cx="363240" cy="362520"/>
              </a:xfrm>
            </p:grpSpPr>
            <p:cxnSp>
              <p:nvCxnSpPr>
                <p:cNvPr id="2826" name="AutoShape 707"/>
                <p:cNvCxnSpPr/>
                <p:nvPr/>
              </p:nvCxnSpPr>
              <p:spPr>
                <a:xfrm>
                  <a:off x="7163280" y="3725640"/>
                  <a:ext cx="171720" cy="9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27" name="AutoShape 708"/>
                <p:cNvCxnSpPr/>
                <p:nvPr/>
              </p:nvCxnSpPr>
              <p:spPr>
                <a:xfrm>
                  <a:off x="7266600" y="4006800"/>
                  <a:ext cx="260280" cy="81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28" name="AutoShape 709"/>
                <p:cNvCxnSpPr/>
                <p:nvPr/>
              </p:nvCxnSpPr>
              <p:spPr>
                <a:xfrm>
                  <a:off x="7175880" y="3834720"/>
                  <a:ext cx="168480" cy="64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29" name="AutoShape 710"/>
                <p:cNvCxnSpPr/>
                <p:nvPr/>
              </p:nvCxnSpPr>
              <p:spPr>
                <a:xfrm>
                  <a:off x="7258680" y="3936600"/>
                  <a:ext cx="167040" cy="51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830" name="Group 711"/>
              <p:cNvGrpSpPr/>
              <p:nvPr/>
            </p:nvGrpSpPr>
            <p:grpSpPr>
              <a:xfrm>
                <a:off x="7317360" y="3624480"/>
                <a:ext cx="202680" cy="498960"/>
                <a:chOff x="7317360" y="3624480"/>
                <a:chExt cx="202680" cy="498960"/>
              </a:xfrm>
            </p:grpSpPr>
            <p:cxnSp>
              <p:nvCxnSpPr>
                <p:cNvPr id="2831" name="AutoShape 712"/>
                <p:cNvCxnSpPr/>
                <p:nvPr/>
              </p:nvCxnSpPr>
              <p:spPr>
                <a:xfrm flipH="1">
                  <a:off x="7317360" y="3624480"/>
                  <a:ext cx="1800" cy="192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32" name="AutoShape 713"/>
                <p:cNvCxnSpPr/>
                <p:nvPr/>
              </p:nvCxnSpPr>
              <p:spPr>
                <a:xfrm flipH="1">
                  <a:off x="7466400" y="3864240"/>
                  <a:ext cx="54000" cy="259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33" name="AutoShape 714"/>
                <p:cNvCxnSpPr/>
                <p:nvPr/>
              </p:nvCxnSpPr>
              <p:spPr>
                <a:xfrm flipH="1">
                  <a:off x="7385760" y="3695040"/>
                  <a:ext cx="24840" cy="174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34" name="AutoShape 715"/>
                <p:cNvCxnSpPr/>
                <p:nvPr/>
              </p:nvCxnSpPr>
              <p:spPr>
                <a:xfrm flipH="1">
                  <a:off x="7426080" y="3818880"/>
                  <a:ext cx="34920" cy="16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835" name="Group 716"/>
              <p:cNvGrpSpPr/>
              <p:nvPr/>
            </p:nvGrpSpPr>
            <p:grpSpPr>
              <a:xfrm>
                <a:off x="7580160" y="3615480"/>
                <a:ext cx="686520" cy="846360"/>
                <a:chOff x="7580160" y="3615480"/>
                <a:chExt cx="686520" cy="846360"/>
              </a:xfrm>
            </p:grpSpPr>
            <p:grpSp>
              <p:nvGrpSpPr>
                <p:cNvPr id="2836" name="Group 717"/>
                <p:cNvGrpSpPr/>
                <p:nvPr/>
              </p:nvGrpSpPr>
              <p:grpSpPr>
                <a:xfrm>
                  <a:off x="7954200" y="3992400"/>
                  <a:ext cx="115920" cy="150480"/>
                  <a:chOff x="7954200" y="3992400"/>
                  <a:chExt cx="115920" cy="150480"/>
                </a:xfrm>
              </p:grpSpPr>
              <p:grpSp>
                <p:nvGrpSpPr>
                  <p:cNvPr id="2837" name="Group 718"/>
                  <p:cNvGrpSpPr/>
                  <p:nvPr/>
                </p:nvGrpSpPr>
                <p:grpSpPr>
                  <a:xfrm>
                    <a:off x="7954200" y="3992400"/>
                    <a:ext cx="115920" cy="150480"/>
                    <a:chOff x="7954200" y="3992400"/>
                    <a:chExt cx="115920" cy="150480"/>
                  </a:xfrm>
                </p:grpSpPr>
                <p:sp>
                  <p:nvSpPr>
                    <p:cNvPr id="2838" name="Arc 719"/>
                    <p:cNvSpPr/>
                    <p:nvPr/>
                  </p:nvSpPr>
                  <p:spPr>
                    <a:xfrm flipH="1" rot="20469600">
                      <a:off x="7974000" y="4007520"/>
                      <a:ext cx="38160" cy="132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9" name="Arc 720"/>
                    <p:cNvSpPr/>
                    <p:nvPr/>
                  </p:nvSpPr>
                  <p:spPr>
                    <a:xfrm rot="20470200">
                      <a:off x="8011440" y="3994920"/>
                      <a:ext cx="38160" cy="132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0" name="Group 721"/>
                  <p:cNvGrpSpPr/>
                  <p:nvPr/>
                </p:nvGrpSpPr>
                <p:grpSpPr>
                  <a:xfrm>
                    <a:off x="7990920" y="4053240"/>
                    <a:ext cx="62280" cy="79920"/>
                    <a:chOff x="7990920" y="4053240"/>
                    <a:chExt cx="62280" cy="79920"/>
                  </a:xfrm>
                </p:grpSpPr>
                <p:sp>
                  <p:nvSpPr>
                    <p:cNvPr id="2841" name="Arc 722"/>
                    <p:cNvSpPr/>
                    <p:nvPr/>
                  </p:nvSpPr>
                  <p:spPr>
                    <a:xfrm flipH="1" rot="20469600">
                      <a:off x="8001360" y="4061520"/>
                      <a:ext cx="20520" cy="70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2" name="Arc 723"/>
                    <p:cNvSpPr/>
                    <p:nvPr/>
                  </p:nvSpPr>
                  <p:spPr>
                    <a:xfrm rot="20470200">
                      <a:off x="8021880" y="4054320"/>
                      <a:ext cx="20520" cy="70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2843" name="AutoShape 724"/>
                  <p:cNvCxnSpPr/>
                  <p:nvPr/>
                </p:nvCxnSpPr>
                <p:spPr>
                  <a:xfrm flipH="1">
                    <a:off x="7996320" y="4114800"/>
                    <a:ext cx="73800" cy="262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844" name="Group 725"/>
                <p:cNvGrpSpPr/>
                <p:nvPr/>
              </p:nvGrpSpPr>
              <p:grpSpPr>
                <a:xfrm>
                  <a:off x="7854480" y="3615480"/>
                  <a:ext cx="345240" cy="549720"/>
                  <a:chOff x="7854480" y="3615480"/>
                  <a:chExt cx="345240" cy="549720"/>
                </a:xfrm>
              </p:grpSpPr>
              <p:sp>
                <p:nvSpPr>
                  <p:cNvPr id="2845" name="Arc 726"/>
                  <p:cNvSpPr/>
                  <p:nvPr/>
                </p:nvSpPr>
                <p:spPr>
                  <a:xfrm flipV="1" rot="20469600">
                    <a:off x="7919640" y="3701160"/>
                    <a:ext cx="214560" cy="440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46" name="Group 727"/>
                  <p:cNvGrpSpPr/>
                  <p:nvPr/>
                </p:nvGrpSpPr>
                <p:grpSpPr>
                  <a:xfrm>
                    <a:off x="8059320" y="3615480"/>
                    <a:ext cx="106920" cy="323280"/>
                    <a:chOff x="8059320" y="3615480"/>
                    <a:chExt cx="106920" cy="323280"/>
                  </a:xfrm>
                </p:grpSpPr>
                <p:cxnSp>
                  <p:nvCxnSpPr>
                    <p:cNvPr id="2847" name="AutoShape 728"/>
                    <p:cNvCxnSpPr/>
                    <p:nvPr/>
                  </p:nvCxnSpPr>
                  <p:spPr>
                    <a:xfrm flipH="1">
                      <a:off x="8059320" y="3615480"/>
                      <a:ext cx="33480" cy="109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48" name="AutoShape 729"/>
                    <p:cNvCxnSpPr/>
                    <p:nvPr/>
                  </p:nvCxnSpPr>
                  <p:spPr>
                    <a:xfrm flipH="1">
                      <a:off x="8093160" y="3803040"/>
                      <a:ext cx="73440" cy="136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49" name="AutoShape 730"/>
                    <p:cNvCxnSpPr/>
                    <p:nvPr/>
                  </p:nvCxnSpPr>
                  <p:spPr>
                    <a:xfrm flipH="1">
                      <a:off x="8089200" y="3678120"/>
                      <a:ext cx="43200" cy="943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50" name="AutoShape 731"/>
                    <p:cNvCxnSpPr/>
                    <p:nvPr/>
                  </p:nvCxnSpPr>
                  <p:spPr>
                    <a:xfrm flipH="1">
                      <a:off x="8092800" y="3761640"/>
                      <a:ext cx="47520" cy="87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851" name="Group 732"/>
                  <p:cNvGrpSpPr/>
                  <p:nvPr/>
                </p:nvGrpSpPr>
                <p:grpSpPr>
                  <a:xfrm>
                    <a:off x="7999200" y="3658320"/>
                    <a:ext cx="117720" cy="286560"/>
                    <a:chOff x="7999200" y="3658320"/>
                    <a:chExt cx="117720" cy="286560"/>
                  </a:xfrm>
                </p:grpSpPr>
                <p:cxnSp>
                  <p:nvCxnSpPr>
                    <p:cNvPr id="2852" name="AutoShape 733"/>
                    <p:cNvCxnSpPr/>
                    <p:nvPr/>
                  </p:nvCxnSpPr>
                  <p:spPr>
                    <a:xfrm>
                      <a:off x="8029440" y="3658320"/>
                      <a:ext cx="65880" cy="100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53" name="AutoShape 734"/>
                    <p:cNvCxnSpPr/>
                    <p:nvPr/>
                  </p:nvCxnSpPr>
                  <p:spPr>
                    <a:xfrm>
                      <a:off x="7999200" y="3817800"/>
                      <a:ext cx="118080" cy="127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54" name="AutoShape 735"/>
                    <p:cNvCxnSpPr/>
                    <p:nvPr/>
                  </p:nvCxnSpPr>
                  <p:spPr>
                    <a:xfrm>
                      <a:off x="8002800" y="3710880"/>
                      <a:ext cx="72720" cy="87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55" name="AutoShape 736"/>
                    <p:cNvCxnSpPr/>
                    <p:nvPr/>
                  </p:nvCxnSpPr>
                  <p:spPr>
                    <a:xfrm>
                      <a:off x="8016480" y="3784680"/>
                      <a:ext cx="76320" cy="82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856" name="Group 737"/>
                <p:cNvGrpSpPr/>
                <p:nvPr/>
              </p:nvGrpSpPr>
              <p:grpSpPr>
                <a:xfrm>
                  <a:off x="7703280" y="3688560"/>
                  <a:ext cx="303120" cy="497520"/>
                  <a:chOff x="7703280" y="3688560"/>
                  <a:chExt cx="303120" cy="497520"/>
                </a:xfrm>
              </p:grpSpPr>
              <p:sp>
                <p:nvSpPr>
                  <p:cNvPr id="2857" name="Arc 738"/>
                  <p:cNvSpPr/>
                  <p:nvPr/>
                </p:nvSpPr>
                <p:spPr>
                  <a:xfrm flipH="1" flipV="1" rot="20470200">
                    <a:off x="7805520" y="3695040"/>
                    <a:ext cx="126360" cy="4827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58" name="Group 739"/>
                  <p:cNvGrpSpPr/>
                  <p:nvPr/>
                </p:nvGrpSpPr>
                <p:grpSpPr>
                  <a:xfrm>
                    <a:off x="7703280" y="3693240"/>
                    <a:ext cx="128880" cy="288720"/>
                    <a:chOff x="7703280" y="3693240"/>
                    <a:chExt cx="128880" cy="288720"/>
                  </a:xfrm>
                </p:grpSpPr>
                <p:cxnSp>
                  <p:nvCxnSpPr>
                    <p:cNvPr id="2859" name="AutoShape 740"/>
                    <p:cNvCxnSpPr/>
                    <p:nvPr/>
                  </p:nvCxnSpPr>
                  <p:spPr>
                    <a:xfrm>
                      <a:off x="7703280" y="3693240"/>
                      <a:ext cx="58320" cy="77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60" name="AutoShape 741"/>
                    <p:cNvCxnSpPr/>
                    <p:nvPr/>
                  </p:nvCxnSpPr>
                  <p:spPr>
                    <a:xfrm>
                      <a:off x="7745040" y="3907080"/>
                      <a:ext cx="87480" cy="75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61" name="AutoShape 742"/>
                    <p:cNvCxnSpPr/>
                    <p:nvPr/>
                  </p:nvCxnSpPr>
                  <p:spPr>
                    <a:xfrm>
                      <a:off x="7710840" y="3774960"/>
                      <a:ext cx="56880" cy="57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62" name="AutoShape 743"/>
                    <p:cNvCxnSpPr/>
                    <p:nvPr/>
                  </p:nvCxnSpPr>
                  <p:spPr>
                    <a:xfrm>
                      <a:off x="7741080" y="3854520"/>
                      <a:ext cx="55440" cy="48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863" name="Group 744"/>
                  <p:cNvGrpSpPr/>
                  <p:nvPr/>
                </p:nvGrpSpPr>
                <p:grpSpPr>
                  <a:xfrm>
                    <a:off x="7762680" y="3720240"/>
                    <a:ext cx="79200" cy="260280"/>
                    <a:chOff x="7762680" y="3720240"/>
                    <a:chExt cx="79200" cy="260280"/>
                  </a:xfrm>
                </p:grpSpPr>
                <p:cxnSp>
                  <p:nvCxnSpPr>
                    <p:cNvPr id="2864" name="AutoShape 745"/>
                    <p:cNvCxnSpPr/>
                    <p:nvPr/>
                  </p:nvCxnSpPr>
                  <p:spPr>
                    <a:xfrm flipH="1">
                      <a:off x="7762680" y="3720240"/>
                      <a:ext cx="17640" cy="118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65" name="AutoShape 746"/>
                    <p:cNvCxnSpPr/>
                    <p:nvPr/>
                  </p:nvCxnSpPr>
                  <p:spPr>
                    <a:xfrm flipH="1">
                      <a:off x="7797240" y="3804480"/>
                      <a:ext cx="45000" cy="176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66" name="AutoShape 747"/>
                    <p:cNvCxnSpPr/>
                    <p:nvPr/>
                  </p:nvCxnSpPr>
                  <p:spPr>
                    <a:xfrm flipH="1">
                      <a:off x="7786440" y="3735720"/>
                      <a:ext cx="25560" cy="114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67" name="AutoShape 748"/>
                    <p:cNvCxnSpPr/>
                    <p:nvPr/>
                  </p:nvCxnSpPr>
                  <p:spPr>
                    <a:xfrm flipH="1">
                      <a:off x="7793280" y="3795840"/>
                      <a:ext cx="28440" cy="113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868" name="Group 749"/>
                <p:cNvGrpSpPr/>
                <p:nvPr/>
              </p:nvGrpSpPr>
              <p:grpSpPr>
                <a:xfrm>
                  <a:off x="7580160" y="3661560"/>
                  <a:ext cx="495720" cy="577440"/>
                  <a:chOff x="7580160" y="3661560"/>
                  <a:chExt cx="495720" cy="577440"/>
                </a:xfrm>
              </p:grpSpPr>
              <p:sp>
                <p:nvSpPr>
                  <p:cNvPr id="2869" name="Arc 750"/>
                  <p:cNvSpPr/>
                  <p:nvPr/>
                </p:nvSpPr>
                <p:spPr>
                  <a:xfrm flipH="1" flipV="1" rot="20281800">
                    <a:off x="7678800" y="3702240"/>
                    <a:ext cx="315360" cy="495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70" name="Group 751"/>
                  <p:cNvGrpSpPr/>
                  <p:nvPr/>
                </p:nvGrpSpPr>
                <p:grpSpPr>
                  <a:xfrm>
                    <a:off x="7580160" y="3827160"/>
                    <a:ext cx="171360" cy="195480"/>
                    <a:chOff x="7580160" y="3827160"/>
                    <a:chExt cx="171360" cy="195480"/>
                  </a:xfrm>
                </p:grpSpPr>
                <p:cxnSp>
                  <p:nvCxnSpPr>
                    <p:cNvPr id="2871" name="AutoShape 752"/>
                    <p:cNvCxnSpPr/>
                    <p:nvPr/>
                  </p:nvCxnSpPr>
                  <p:spPr>
                    <a:xfrm>
                      <a:off x="7608240" y="3951000"/>
                      <a:ext cx="75960" cy="90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72" name="AutoShape 753"/>
                    <p:cNvCxnSpPr/>
                    <p:nvPr/>
                  </p:nvCxnSpPr>
                  <p:spPr>
                    <a:xfrm>
                      <a:off x="7580160" y="3903480"/>
                      <a:ext cx="76320" cy="9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73" name="AutoShape 754"/>
                    <p:cNvCxnSpPr/>
                    <p:nvPr/>
                  </p:nvCxnSpPr>
                  <p:spPr>
                    <a:xfrm flipH="1">
                      <a:off x="7655760" y="3827160"/>
                      <a:ext cx="19800" cy="86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74" name="AutoShape 755"/>
                    <p:cNvCxnSpPr/>
                    <p:nvPr/>
                  </p:nvCxnSpPr>
                  <p:spPr>
                    <a:xfrm flipH="1">
                      <a:off x="7676280" y="3870720"/>
                      <a:ext cx="36000" cy="806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75" name="AutoShape 756"/>
                    <p:cNvCxnSpPr/>
                    <p:nvPr/>
                  </p:nvCxnSpPr>
                  <p:spPr>
                    <a:xfrm flipH="1">
                      <a:off x="7744680" y="3916080"/>
                      <a:ext cx="3600" cy="106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876" name="AutoShape 757"/>
                    <p:cNvCxnSpPr/>
                    <p:nvPr/>
                  </p:nvCxnSpPr>
                  <p:spPr>
                    <a:xfrm>
                      <a:off x="7646760" y="3997440"/>
                      <a:ext cx="105120" cy="20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sp>
              <p:nvSpPr>
                <p:cNvPr id="2877" name="Freeform 758"/>
                <p:cNvSpPr/>
                <p:nvPr/>
              </p:nvSpPr>
              <p:spPr>
                <a:xfrm flipH="1" rot="20469600">
                  <a:off x="7990560" y="4201560"/>
                  <a:ext cx="108360" cy="19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Freeform 759"/>
                <p:cNvSpPr/>
                <p:nvPr/>
              </p:nvSpPr>
              <p:spPr>
                <a:xfrm flipH="1" rot="20469600">
                  <a:off x="7882920" y="4205160"/>
                  <a:ext cx="190800" cy="231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Freeform 760"/>
                <p:cNvSpPr/>
                <p:nvPr/>
              </p:nvSpPr>
              <p:spPr>
                <a:xfrm flipH="1" rot="20469600">
                  <a:off x="7974360" y="4251600"/>
                  <a:ext cx="89640" cy="168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Rectangle 761"/>
                <p:cNvSpPr/>
                <p:nvPr/>
              </p:nvSpPr>
              <p:spPr>
                <a:xfrm flipH="1" rot="20469600">
                  <a:off x="7991640" y="4134600"/>
                  <a:ext cx="113040" cy="9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Freeform 762"/>
                <p:cNvSpPr/>
                <p:nvPr/>
              </p:nvSpPr>
              <p:spPr>
                <a:xfrm flipH="1" rot="18950400">
                  <a:off x="7898040" y="4259880"/>
                  <a:ext cx="160920" cy="108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2" name="Group 763"/>
                <p:cNvGrpSpPr/>
                <p:nvPr/>
              </p:nvGrpSpPr>
              <p:grpSpPr>
                <a:xfrm>
                  <a:off x="8038080" y="4097520"/>
                  <a:ext cx="228600" cy="289080"/>
                  <a:chOff x="8038080" y="4097520"/>
                  <a:chExt cx="228600" cy="289080"/>
                </a:xfrm>
              </p:grpSpPr>
              <p:sp>
                <p:nvSpPr>
                  <p:cNvPr id="2883" name="Freeform 764"/>
                  <p:cNvSpPr/>
                  <p:nvPr/>
                </p:nvSpPr>
                <p:spPr>
                  <a:xfrm flipH="1" rot="20469600">
                    <a:off x="8097120" y="4127760"/>
                    <a:ext cx="153360" cy="121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4" name="Freeform 765"/>
                  <p:cNvSpPr/>
                  <p:nvPr/>
                </p:nvSpPr>
                <p:spPr>
                  <a:xfrm flipH="1" rot="20469600">
                    <a:off x="8119080" y="4139640"/>
                    <a:ext cx="72000" cy="241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5" name="Freeform 766"/>
                  <p:cNvSpPr/>
                  <p:nvPr/>
                </p:nvSpPr>
                <p:spPr>
                  <a:xfrm flipH="1" rot="20469600">
                    <a:off x="8087400" y="4121280"/>
                    <a:ext cx="163080" cy="81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6" name="Freeform 767"/>
                  <p:cNvSpPr/>
                  <p:nvPr/>
                </p:nvSpPr>
                <p:spPr>
                  <a:xfrm rot="20934600">
                    <a:off x="8114400" y="4140360"/>
                    <a:ext cx="134640" cy="196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7" name="Freeform 768"/>
                  <p:cNvSpPr/>
                  <p:nvPr/>
                </p:nvSpPr>
                <p:spPr>
                  <a:xfrm flipH="1" rot="1902000">
                    <a:off x="8038080" y="4228920"/>
                    <a:ext cx="212760" cy="61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88" name="Группа 868"/>
          <p:cNvGrpSpPr/>
          <p:nvPr/>
        </p:nvGrpSpPr>
        <p:grpSpPr>
          <a:xfrm>
            <a:off x="1136160" y="1443240"/>
            <a:ext cx="505440" cy="1150200"/>
            <a:chOff x="1136160" y="1443240"/>
            <a:chExt cx="505440" cy="1150200"/>
          </a:xfrm>
        </p:grpSpPr>
        <p:grpSp>
          <p:nvGrpSpPr>
            <p:cNvPr id="2889" name="Group 3"/>
            <p:cNvGrpSpPr/>
            <p:nvPr/>
          </p:nvGrpSpPr>
          <p:grpSpPr>
            <a:xfrm>
              <a:off x="1136160" y="1443240"/>
              <a:ext cx="505440" cy="523800"/>
              <a:chOff x="1136160" y="1443240"/>
              <a:chExt cx="505440" cy="523800"/>
            </a:xfrm>
          </p:grpSpPr>
          <p:sp>
            <p:nvSpPr>
              <p:cNvPr id="2890" name="Arc 4"/>
              <p:cNvSpPr/>
              <p:nvPr/>
            </p:nvSpPr>
            <p:spPr>
              <a:xfrm flipV="1" rot="21094200">
                <a:off x="1362960" y="1508400"/>
                <a:ext cx="237600" cy="12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Arc 5"/>
              <p:cNvSpPr/>
              <p:nvPr/>
            </p:nvSpPr>
            <p:spPr>
              <a:xfrm flipH="1" flipV="1" rot="505800">
                <a:off x="1203120" y="1517040"/>
                <a:ext cx="167760" cy="126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Oval 6"/>
              <p:cNvSpPr/>
              <p:nvPr/>
            </p:nvSpPr>
            <p:spPr>
              <a:xfrm>
                <a:off x="1481040" y="1447920"/>
                <a:ext cx="160560" cy="69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Oval 7"/>
              <p:cNvSpPr/>
              <p:nvPr/>
            </p:nvSpPr>
            <p:spPr>
              <a:xfrm rot="600000">
                <a:off x="1142640" y="1456200"/>
                <a:ext cx="160560" cy="93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8"/>
              <p:cNvSpPr/>
              <p:nvPr/>
            </p:nvSpPr>
            <p:spPr>
              <a:xfrm rot="5056800">
                <a:off x="1345320" y="1810800"/>
                <a:ext cx="119160" cy="69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9"/>
              <p:cNvSpPr/>
              <p:nvPr/>
            </p:nvSpPr>
            <p:spPr>
              <a:xfrm>
                <a:off x="1347480" y="1629000"/>
                <a:ext cx="18360" cy="338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6" name="TextBox 856"/>
            <p:cNvSpPr/>
            <p:nvPr/>
          </p:nvSpPr>
          <p:spPr>
            <a:xfrm>
              <a:off x="1218960" y="213372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7" name="Группа 869"/>
          <p:cNvGrpSpPr/>
          <p:nvPr/>
        </p:nvGrpSpPr>
        <p:grpSpPr>
          <a:xfrm>
            <a:off x="1775880" y="748080"/>
            <a:ext cx="1038600" cy="1845720"/>
            <a:chOff x="1775880" y="748080"/>
            <a:chExt cx="1038600" cy="1845720"/>
          </a:xfrm>
        </p:grpSpPr>
        <p:grpSp>
          <p:nvGrpSpPr>
            <p:cNvPr id="2898" name="Group 10"/>
            <p:cNvGrpSpPr/>
            <p:nvPr/>
          </p:nvGrpSpPr>
          <p:grpSpPr>
            <a:xfrm>
              <a:off x="1775880" y="748080"/>
              <a:ext cx="1038600" cy="1707120"/>
              <a:chOff x="1775880" y="748080"/>
              <a:chExt cx="1038600" cy="1707120"/>
            </a:xfrm>
          </p:grpSpPr>
          <p:grpSp>
            <p:nvGrpSpPr>
              <p:cNvPr id="2899" name="Group 11"/>
              <p:cNvGrpSpPr/>
              <p:nvPr/>
            </p:nvGrpSpPr>
            <p:grpSpPr>
              <a:xfrm>
                <a:off x="2237760" y="1333800"/>
                <a:ext cx="128160" cy="235080"/>
                <a:chOff x="2237760" y="1333800"/>
                <a:chExt cx="128160" cy="235080"/>
              </a:xfrm>
            </p:grpSpPr>
            <p:grpSp>
              <p:nvGrpSpPr>
                <p:cNvPr id="2900" name="Group 12"/>
                <p:cNvGrpSpPr/>
                <p:nvPr/>
              </p:nvGrpSpPr>
              <p:grpSpPr>
                <a:xfrm>
                  <a:off x="2237760" y="1333800"/>
                  <a:ext cx="111240" cy="235080"/>
                  <a:chOff x="2237760" y="1333800"/>
                  <a:chExt cx="111240" cy="235080"/>
                </a:xfrm>
              </p:grpSpPr>
              <p:sp>
                <p:nvSpPr>
                  <p:cNvPr id="2901" name="Arc 13"/>
                  <p:cNvSpPr/>
                  <p:nvPr/>
                </p:nvSpPr>
                <p:spPr>
                  <a:xfrm>
                    <a:off x="2302920" y="1333800"/>
                    <a:ext cx="46080" cy="235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2" name="Arc 14"/>
                  <p:cNvSpPr/>
                  <p:nvPr/>
                </p:nvSpPr>
                <p:spPr>
                  <a:xfrm flipH="1">
                    <a:off x="2237400" y="1333800"/>
                    <a:ext cx="63000" cy="190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3" name="Group 15"/>
                <p:cNvGrpSpPr/>
                <p:nvPr/>
              </p:nvGrpSpPr>
              <p:grpSpPr>
                <a:xfrm>
                  <a:off x="2265480" y="1438560"/>
                  <a:ext cx="68760" cy="123840"/>
                  <a:chOff x="2265480" y="1438560"/>
                  <a:chExt cx="68760" cy="123840"/>
                </a:xfrm>
              </p:grpSpPr>
              <p:sp>
                <p:nvSpPr>
                  <p:cNvPr id="2904" name="Arc 16"/>
                  <p:cNvSpPr/>
                  <p:nvPr/>
                </p:nvSpPr>
                <p:spPr>
                  <a:xfrm>
                    <a:off x="2300400" y="1438560"/>
                    <a:ext cx="33840" cy="123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5" name="Arc 17"/>
                  <p:cNvSpPr/>
                  <p:nvPr/>
                </p:nvSpPr>
                <p:spPr>
                  <a:xfrm flipH="1">
                    <a:off x="2265480" y="1438560"/>
                    <a:ext cx="33840" cy="123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2906" name="AutoShape 18"/>
                <p:cNvCxnSpPr/>
                <p:nvPr/>
              </p:nvCxnSpPr>
              <p:spPr>
                <a:xfrm>
                  <a:off x="2238120" y="1564200"/>
                  <a:ext cx="1281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907" name="Arc 19"/>
              <p:cNvSpPr/>
              <p:nvPr/>
            </p:nvSpPr>
            <p:spPr>
              <a:xfrm flipV="1" rot="245400">
                <a:off x="2367720" y="960120"/>
                <a:ext cx="325080" cy="603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Arc 20"/>
              <p:cNvSpPr/>
              <p:nvPr/>
            </p:nvSpPr>
            <p:spPr>
              <a:xfrm flipH="1" flipV="1" rot="505800">
                <a:off x="1991520" y="1232640"/>
                <a:ext cx="318600" cy="302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1"/>
              <p:cNvSpPr/>
              <p:nvPr/>
            </p:nvSpPr>
            <p:spPr>
              <a:xfrm>
                <a:off x="2523960" y="1021320"/>
                <a:ext cx="290520" cy="2502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0" name="Group 22"/>
              <p:cNvGrpSpPr/>
              <p:nvPr/>
            </p:nvGrpSpPr>
            <p:grpSpPr>
              <a:xfrm>
                <a:off x="1828800" y="1568880"/>
                <a:ext cx="830520" cy="886320"/>
                <a:chOff x="1828800" y="1568880"/>
                <a:chExt cx="830520" cy="886320"/>
              </a:xfrm>
            </p:grpSpPr>
            <p:sp>
              <p:nvSpPr>
                <p:cNvPr id="2911" name="Freeform 23"/>
                <p:cNvSpPr/>
                <p:nvPr/>
              </p:nvSpPr>
              <p:spPr>
                <a:xfrm>
                  <a:off x="1828800" y="1572120"/>
                  <a:ext cx="426240" cy="326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Freeform 24"/>
                <p:cNvSpPr/>
                <p:nvPr/>
              </p:nvSpPr>
              <p:spPr>
                <a:xfrm rot="5056800">
                  <a:off x="2227320" y="2053800"/>
                  <a:ext cx="312480" cy="16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Freeform 25"/>
                <p:cNvSpPr/>
                <p:nvPr/>
              </p:nvSpPr>
              <p:spPr>
                <a:xfrm>
                  <a:off x="2144160" y="1767600"/>
                  <a:ext cx="159480" cy="397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Freeform 26"/>
                <p:cNvSpPr/>
                <p:nvPr/>
              </p:nvSpPr>
              <p:spPr>
                <a:xfrm>
                  <a:off x="2247120" y="1568880"/>
                  <a:ext cx="43560" cy="88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Freeform 27"/>
                <p:cNvSpPr/>
                <p:nvPr/>
              </p:nvSpPr>
              <p:spPr>
                <a:xfrm>
                  <a:off x="2283480" y="1590840"/>
                  <a:ext cx="375840" cy="231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6" name="Freeform 28"/>
              <p:cNvSpPr/>
              <p:nvPr/>
            </p:nvSpPr>
            <p:spPr>
              <a:xfrm rot="18482400">
                <a:off x="1832040" y="1085760"/>
                <a:ext cx="266040" cy="272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7" name="Group 29"/>
              <p:cNvGrpSpPr/>
              <p:nvPr/>
            </p:nvGrpSpPr>
            <p:grpSpPr>
              <a:xfrm>
                <a:off x="2211840" y="748080"/>
                <a:ext cx="365040" cy="826920"/>
                <a:chOff x="2211840" y="748080"/>
                <a:chExt cx="365040" cy="826920"/>
              </a:xfrm>
            </p:grpSpPr>
            <p:sp>
              <p:nvSpPr>
                <p:cNvPr id="2918" name="Arc 30"/>
                <p:cNvSpPr/>
                <p:nvPr/>
              </p:nvSpPr>
              <p:spPr>
                <a:xfrm flipV="1" rot="21094200">
                  <a:off x="2268720" y="761040"/>
                  <a:ext cx="244440" cy="799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19" name="AutoShape 31"/>
                <p:cNvCxnSpPr/>
                <p:nvPr/>
              </p:nvCxnSpPr>
              <p:spPr>
                <a:xfrm flipH="1">
                  <a:off x="2490840" y="960480"/>
                  <a:ext cx="86400" cy="58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20" name="AutoShape 32"/>
                <p:cNvCxnSpPr/>
                <p:nvPr/>
              </p:nvCxnSpPr>
              <p:spPr>
                <a:xfrm flipH="1">
                  <a:off x="2477880" y="901800"/>
                  <a:ext cx="85680" cy="59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21" name="AutoShape 33"/>
                <p:cNvCxnSpPr/>
                <p:nvPr/>
              </p:nvCxnSpPr>
              <p:spPr>
                <a:xfrm>
                  <a:off x="2367360" y="901800"/>
                  <a:ext cx="111240" cy="59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22" name="AutoShape 34"/>
                <p:cNvCxnSpPr/>
                <p:nvPr/>
              </p:nvCxnSpPr>
              <p:spPr>
                <a:xfrm>
                  <a:off x="2364840" y="963000"/>
                  <a:ext cx="111960" cy="59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</p:grpSp>
        <p:sp>
          <p:nvSpPr>
            <p:cNvPr id="2923" name="TextBox 858"/>
            <p:cNvSpPr/>
            <p:nvPr/>
          </p:nvSpPr>
          <p:spPr>
            <a:xfrm>
              <a:off x="2133360" y="2134080"/>
              <a:ext cx="30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Группа 870"/>
          <p:cNvGrpSpPr/>
          <p:nvPr/>
        </p:nvGrpSpPr>
        <p:grpSpPr>
          <a:xfrm>
            <a:off x="3030120" y="980280"/>
            <a:ext cx="1107720" cy="1613520"/>
            <a:chOff x="3030120" y="980280"/>
            <a:chExt cx="1107720" cy="1613520"/>
          </a:xfrm>
        </p:grpSpPr>
        <p:grpSp>
          <p:nvGrpSpPr>
            <p:cNvPr id="2925" name="Group 35"/>
            <p:cNvGrpSpPr/>
            <p:nvPr/>
          </p:nvGrpSpPr>
          <p:grpSpPr>
            <a:xfrm>
              <a:off x="3030120" y="980280"/>
              <a:ext cx="1107720" cy="1068840"/>
              <a:chOff x="3030120" y="980280"/>
              <a:chExt cx="1107720" cy="1068840"/>
            </a:xfrm>
          </p:grpSpPr>
          <p:grpSp>
            <p:nvGrpSpPr>
              <p:cNvPr id="2926" name="Group 36"/>
              <p:cNvGrpSpPr/>
              <p:nvPr/>
            </p:nvGrpSpPr>
            <p:grpSpPr>
              <a:xfrm>
                <a:off x="3531240" y="1341360"/>
                <a:ext cx="110880" cy="188280"/>
                <a:chOff x="3531240" y="1341360"/>
                <a:chExt cx="110880" cy="188280"/>
              </a:xfrm>
            </p:grpSpPr>
            <p:grpSp>
              <p:nvGrpSpPr>
                <p:cNvPr id="2927" name="Group 37"/>
                <p:cNvGrpSpPr/>
                <p:nvPr/>
              </p:nvGrpSpPr>
              <p:grpSpPr>
                <a:xfrm>
                  <a:off x="3531240" y="1341360"/>
                  <a:ext cx="110880" cy="188280"/>
                  <a:chOff x="3531240" y="1341360"/>
                  <a:chExt cx="110880" cy="188280"/>
                </a:xfrm>
              </p:grpSpPr>
              <p:sp>
                <p:nvSpPr>
                  <p:cNvPr id="2928" name="Arc 38"/>
                  <p:cNvSpPr/>
                  <p:nvPr/>
                </p:nvSpPr>
                <p:spPr>
                  <a:xfrm>
                    <a:off x="3587760" y="1341360"/>
                    <a:ext cx="54360" cy="188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9" name="Arc 39"/>
                  <p:cNvSpPr/>
                  <p:nvPr/>
                </p:nvSpPr>
                <p:spPr>
                  <a:xfrm flipH="1">
                    <a:off x="3530880" y="1341360"/>
                    <a:ext cx="54360" cy="188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0" name="Group 40"/>
                <p:cNvGrpSpPr/>
                <p:nvPr/>
              </p:nvGrpSpPr>
              <p:grpSpPr>
                <a:xfrm>
                  <a:off x="3555000" y="1425240"/>
                  <a:ext cx="60120" cy="99360"/>
                  <a:chOff x="3555000" y="1425240"/>
                  <a:chExt cx="60120" cy="99360"/>
                </a:xfrm>
              </p:grpSpPr>
              <p:sp>
                <p:nvSpPr>
                  <p:cNvPr id="2931" name="Arc 41"/>
                  <p:cNvSpPr/>
                  <p:nvPr/>
                </p:nvSpPr>
                <p:spPr>
                  <a:xfrm>
                    <a:off x="3585600" y="1425240"/>
                    <a:ext cx="29520" cy="99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Arc 42"/>
                  <p:cNvSpPr/>
                  <p:nvPr/>
                </p:nvSpPr>
                <p:spPr>
                  <a:xfrm flipH="1">
                    <a:off x="3554640" y="1425240"/>
                    <a:ext cx="29160" cy="99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2933" name="AutoShape 43"/>
                <p:cNvCxnSpPr/>
                <p:nvPr/>
              </p:nvCxnSpPr>
              <p:spPr>
                <a:xfrm>
                  <a:off x="3531240" y="1525680"/>
                  <a:ext cx="1112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2934" name="Group 44"/>
              <p:cNvGrpSpPr/>
              <p:nvPr/>
            </p:nvGrpSpPr>
            <p:grpSpPr>
              <a:xfrm>
                <a:off x="3123000" y="1494360"/>
                <a:ext cx="947880" cy="554760"/>
                <a:chOff x="3123000" y="1494360"/>
                <a:chExt cx="947880" cy="554760"/>
              </a:xfrm>
            </p:grpSpPr>
            <p:sp>
              <p:nvSpPr>
                <p:cNvPr id="2935" name="Freeform 45"/>
                <p:cNvSpPr/>
                <p:nvPr/>
              </p:nvSpPr>
              <p:spPr>
                <a:xfrm>
                  <a:off x="3565800" y="1599120"/>
                  <a:ext cx="256680" cy="378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Freeform 46"/>
                <p:cNvSpPr/>
                <p:nvPr/>
              </p:nvSpPr>
              <p:spPr>
                <a:xfrm>
                  <a:off x="3601800" y="1579320"/>
                  <a:ext cx="330120" cy="254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Freeform 47"/>
                <p:cNvSpPr/>
                <p:nvPr/>
              </p:nvSpPr>
              <p:spPr>
                <a:xfrm rot="772200">
                  <a:off x="3193200" y="1524600"/>
                  <a:ext cx="319680" cy="411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Freeform 48"/>
                <p:cNvSpPr/>
                <p:nvPr/>
              </p:nvSpPr>
              <p:spPr>
                <a:xfrm>
                  <a:off x="3565080" y="1576800"/>
                  <a:ext cx="334080" cy="336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Rectangle 49"/>
                <p:cNvSpPr/>
                <p:nvPr/>
              </p:nvSpPr>
              <p:spPr>
                <a:xfrm>
                  <a:off x="3513600" y="1536840"/>
                  <a:ext cx="141120" cy="104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Freeform 50"/>
                <p:cNvSpPr/>
                <p:nvPr/>
              </p:nvSpPr>
              <p:spPr>
                <a:xfrm rot="1519200">
                  <a:off x="3565800" y="1656720"/>
                  <a:ext cx="333720" cy="336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41" name="Group 51"/>
                <p:cNvGrpSpPr/>
                <p:nvPr/>
              </p:nvGrpSpPr>
              <p:grpSpPr>
                <a:xfrm>
                  <a:off x="3123000" y="1565280"/>
                  <a:ext cx="515160" cy="428040"/>
                  <a:chOff x="3123000" y="1565280"/>
                  <a:chExt cx="515160" cy="428040"/>
                </a:xfrm>
              </p:grpSpPr>
              <p:sp>
                <p:nvSpPr>
                  <p:cNvPr id="2942" name="Freeform 52"/>
                  <p:cNvSpPr/>
                  <p:nvPr/>
                </p:nvSpPr>
                <p:spPr>
                  <a:xfrm>
                    <a:off x="3147120" y="1576440"/>
                    <a:ext cx="380880" cy="208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3" name="Freeform 53"/>
                  <p:cNvSpPr/>
                  <p:nvPr/>
                </p:nvSpPr>
                <p:spPr>
                  <a:xfrm>
                    <a:off x="3348720" y="1579680"/>
                    <a:ext cx="178920" cy="413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4" name="Freeform 54"/>
                  <p:cNvSpPr/>
                  <p:nvPr/>
                </p:nvSpPr>
                <p:spPr>
                  <a:xfrm>
                    <a:off x="3123000" y="1565280"/>
                    <a:ext cx="405000" cy="138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5" name="Freeform 55"/>
                  <p:cNvSpPr/>
                  <p:nvPr/>
                </p:nvSpPr>
                <p:spPr>
                  <a:xfrm flipH="1" rot="21135600">
                    <a:off x="3193200" y="1598400"/>
                    <a:ext cx="334080" cy="3376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6" name="Freeform 56"/>
                  <p:cNvSpPr/>
                  <p:nvPr/>
                </p:nvSpPr>
                <p:spPr>
                  <a:xfrm rot="18567600">
                    <a:off x="3279960" y="1703520"/>
                    <a:ext cx="365040" cy="154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7" name="Group 57"/>
                <p:cNvGrpSpPr/>
                <p:nvPr/>
              </p:nvGrpSpPr>
              <p:grpSpPr>
                <a:xfrm>
                  <a:off x="3556080" y="1536840"/>
                  <a:ext cx="514800" cy="428040"/>
                  <a:chOff x="3556080" y="1536840"/>
                  <a:chExt cx="514800" cy="428040"/>
                </a:xfrm>
              </p:grpSpPr>
              <p:sp>
                <p:nvSpPr>
                  <p:cNvPr id="2948" name="Freeform 58"/>
                  <p:cNvSpPr/>
                  <p:nvPr/>
                </p:nvSpPr>
                <p:spPr>
                  <a:xfrm flipH="1">
                    <a:off x="3665880" y="1548000"/>
                    <a:ext cx="380520" cy="2084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Freeform 59"/>
                  <p:cNvSpPr/>
                  <p:nvPr/>
                </p:nvSpPr>
                <p:spPr>
                  <a:xfrm flipH="1">
                    <a:off x="3666240" y="1551240"/>
                    <a:ext cx="178920" cy="413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0" name="Freeform 60"/>
                  <p:cNvSpPr/>
                  <p:nvPr/>
                </p:nvSpPr>
                <p:spPr>
                  <a:xfrm flipH="1">
                    <a:off x="3666240" y="1536840"/>
                    <a:ext cx="404640" cy="138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1" name="Freeform 61"/>
                  <p:cNvSpPr/>
                  <p:nvPr/>
                </p:nvSpPr>
                <p:spPr>
                  <a:xfrm rot="464400">
                    <a:off x="3666600" y="1569960"/>
                    <a:ext cx="333720" cy="3376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2" name="Freeform 62"/>
                  <p:cNvSpPr/>
                  <p:nvPr/>
                </p:nvSpPr>
                <p:spPr>
                  <a:xfrm flipH="1" rot="3032400">
                    <a:off x="3548520" y="1675080"/>
                    <a:ext cx="365040" cy="154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3" name="Group 63"/>
              <p:cNvGrpSpPr/>
              <p:nvPr/>
            </p:nvGrpSpPr>
            <p:grpSpPr>
              <a:xfrm>
                <a:off x="3277440" y="1032840"/>
                <a:ext cx="359640" cy="518400"/>
                <a:chOff x="3277440" y="1032840"/>
                <a:chExt cx="359640" cy="518400"/>
              </a:xfrm>
            </p:grpSpPr>
            <p:sp>
              <p:nvSpPr>
                <p:cNvPr id="2954" name="Arc 64"/>
                <p:cNvSpPr/>
                <p:nvPr/>
              </p:nvSpPr>
              <p:spPr>
                <a:xfrm flipH="1" flipV="1">
                  <a:off x="3369240" y="1088280"/>
                  <a:ext cx="267840" cy="46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5" name="Group 65"/>
                <p:cNvGrpSpPr/>
                <p:nvPr/>
              </p:nvGrpSpPr>
              <p:grpSpPr>
                <a:xfrm>
                  <a:off x="3277440" y="1032840"/>
                  <a:ext cx="160560" cy="329760"/>
                  <a:chOff x="3277440" y="1032840"/>
                  <a:chExt cx="160560" cy="329760"/>
                </a:xfrm>
              </p:grpSpPr>
              <p:cxnSp>
                <p:nvCxnSpPr>
                  <p:cNvPr id="2956" name="AutoShape 66"/>
                  <p:cNvCxnSpPr/>
                  <p:nvPr/>
                </p:nvCxnSpPr>
                <p:spPr>
                  <a:xfrm>
                    <a:off x="3296160" y="1032840"/>
                    <a:ext cx="86400" cy="1026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57" name="AutoShape 67"/>
                  <p:cNvCxnSpPr/>
                  <p:nvPr/>
                </p:nvCxnSpPr>
                <p:spPr>
                  <a:xfrm>
                    <a:off x="3293640" y="1246320"/>
                    <a:ext cx="144720" cy="116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58" name="AutoShape 68"/>
                  <p:cNvCxnSpPr/>
                  <p:nvPr/>
                </p:nvCxnSpPr>
                <p:spPr>
                  <a:xfrm>
                    <a:off x="3277440" y="1109520"/>
                    <a:ext cx="91440" cy="83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59" name="AutoShape 69"/>
                  <p:cNvCxnSpPr/>
                  <p:nvPr/>
                </p:nvCxnSpPr>
                <p:spPr>
                  <a:xfrm>
                    <a:off x="3305160" y="1197360"/>
                    <a:ext cx="93240" cy="74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960" name="Group 70"/>
                <p:cNvGrpSpPr/>
                <p:nvPr/>
              </p:nvGrpSpPr>
              <p:grpSpPr>
                <a:xfrm>
                  <a:off x="3356640" y="1044000"/>
                  <a:ext cx="129960" cy="344160"/>
                  <a:chOff x="3356640" y="1044000"/>
                  <a:chExt cx="129960" cy="344160"/>
                </a:xfrm>
              </p:grpSpPr>
              <p:cxnSp>
                <p:nvCxnSpPr>
                  <p:cNvPr id="2961" name="AutoShape 71"/>
                  <p:cNvCxnSpPr/>
                  <p:nvPr/>
                </p:nvCxnSpPr>
                <p:spPr>
                  <a:xfrm flipH="1">
                    <a:off x="3356640" y="1044000"/>
                    <a:ext cx="23400" cy="130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62" name="AutoShape 72"/>
                  <p:cNvCxnSpPr/>
                  <p:nvPr/>
                </p:nvCxnSpPr>
                <p:spPr>
                  <a:xfrm flipH="1">
                    <a:off x="3420360" y="1213920"/>
                    <a:ext cx="66600" cy="1746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63" name="AutoShape 73"/>
                  <p:cNvCxnSpPr/>
                  <p:nvPr/>
                </p:nvCxnSpPr>
                <p:spPr>
                  <a:xfrm flipH="1">
                    <a:off x="3395880" y="1095480"/>
                    <a:ext cx="37080" cy="117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64" name="AutoShape 74"/>
                  <p:cNvCxnSpPr/>
                  <p:nvPr/>
                </p:nvCxnSpPr>
                <p:spPr>
                  <a:xfrm flipH="1">
                    <a:off x="3409920" y="1181160"/>
                    <a:ext cx="42840" cy="112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2965" name="Group 75"/>
              <p:cNvGrpSpPr/>
              <p:nvPr/>
            </p:nvGrpSpPr>
            <p:grpSpPr>
              <a:xfrm>
                <a:off x="3617640" y="980280"/>
                <a:ext cx="209160" cy="554760"/>
                <a:chOff x="3617640" y="980280"/>
                <a:chExt cx="209160" cy="554760"/>
              </a:xfrm>
            </p:grpSpPr>
            <p:sp>
              <p:nvSpPr>
                <p:cNvPr id="2966" name="Arc 76"/>
                <p:cNvSpPr/>
                <p:nvPr/>
              </p:nvSpPr>
              <p:spPr>
                <a:xfrm flipV="1">
                  <a:off x="3617640" y="1027440"/>
                  <a:ext cx="157320" cy="507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7" name="Group 77"/>
                <p:cNvGrpSpPr/>
                <p:nvPr/>
              </p:nvGrpSpPr>
              <p:grpSpPr>
                <a:xfrm>
                  <a:off x="3751200" y="980280"/>
                  <a:ext cx="75600" cy="335880"/>
                  <a:chOff x="3751200" y="980280"/>
                  <a:chExt cx="75600" cy="335880"/>
                </a:xfrm>
              </p:grpSpPr>
              <p:cxnSp>
                <p:nvCxnSpPr>
                  <p:cNvPr id="2968" name="AutoShape 78"/>
                  <p:cNvCxnSpPr/>
                  <p:nvPr/>
                </p:nvCxnSpPr>
                <p:spPr>
                  <a:xfrm flipH="1">
                    <a:off x="3759480" y="980280"/>
                    <a:ext cx="41400" cy="99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69" name="AutoShape 79"/>
                  <p:cNvCxnSpPr/>
                  <p:nvPr/>
                </p:nvCxnSpPr>
                <p:spPr>
                  <a:xfrm flipH="1">
                    <a:off x="3751200" y="1208880"/>
                    <a:ext cx="75960" cy="107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70" name="AutoShape 80"/>
                  <p:cNvCxnSpPr/>
                  <p:nvPr/>
                </p:nvCxnSpPr>
                <p:spPr>
                  <a:xfrm flipH="1">
                    <a:off x="3774600" y="1064160"/>
                    <a:ext cx="46440" cy="78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71" name="AutoShape 81"/>
                  <p:cNvCxnSpPr/>
                  <p:nvPr/>
                </p:nvCxnSpPr>
                <p:spPr>
                  <a:xfrm flipH="1">
                    <a:off x="3765600" y="1154520"/>
                    <a:ext cx="48600" cy="69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972" name="Group 82"/>
                <p:cNvGrpSpPr/>
                <p:nvPr/>
              </p:nvGrpSpPr>
              <p:grpSpPr>
                <a:xfrm>
                  <a:off x="3684240" y="1026720"/>
                  <a:ext cx="99360" cy="282240"/>
                  <a:chOff x="3684240" y="1026720"/>
                  <a:chExt cx="99360" cy="282240"/>
                </a:xfrm>
              </p:grpSpPr>
              <p:cxnSp>
                <p:nvCxnSpPr>
                  <p:cNvPr id="2973" name="AutoShape 83"/>
                  <p:cNvCxnSpPr/>
                  <p:nvPr/>
                </p:nvCxnSpPr>
                <p:spPr>
                  <a:xfrm>
                    <a:off x="3729960" y="1026720"/>
                    <a:ext cx="52560" cy="116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74" name="AutoShape 84"/>
                  <p:cNvCxnSpPr/>
                  <p:nvPr/>
                </p:nvCxnSpPr>
                <p:spPr>
                  <a:xfrm>
                    <a:off x="3684240" y="1144440"/>
                    <a:ext cx="99720" cy="164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75" name="AutoShape 85"/>
                  <p:cNvCxnSpPr/>
                  <p:nvPr/>
                </p:nvCxnSpPr>
                <p:spPr>
                  <a:xfrm>
                    <a:off x="3698280" y="1057320"/>
                    <a:ext cx="60840" cy="108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76" name="AutoShape 86"/>
                  <p:cNvCxnSpPr/>
                  <p:nvPr/>
                </p:nvCxnSpPr>
                <p:spPr>
                  <a:xfrm>
                    <a:off x="3704400" y="1125360"/>
                    <a:ext cx="64080" cy="106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2977" name="Group 87"/>
              <p:cNvGrpSpPr/>
              <p:nvPr/>
            </p:nvGrpSpPr>
            <p:grpSpPr>
              <a:xfrm>
                <a:off x="3594240" y="981720"/>
                <a:ext cx="382680" cy="551520"/>
                <a:chOff x="3594240" y="981720"/>
                <a:chExt cx="382680" cy="551520"/>
              </a:xfrm>
            </p:grpSpPr>
            <p:sp>
              <p:nvSpPr>
                <p:cNvPr id="2978" name="Arc 88"/>
                <p:cNvSpPr/>
                <p:nvPr/>
              </p:nvSpPr>
              <p:spPr>
                <a:xfrm flipV="1" rot="21094200">
                  <a:off x="3630240" y="1000080"/>
                  <a:ext cx="291600" cy="514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9" name="Group 89"/>
                <p:cNvGrpSpPr/>
                <p:nvPr/>
              </p:nvGrpSpPr>
              <p:grpSpPr>
                <a:xfrm>
                  <a:off x="3842280" y="1000440"/>
                  <a:ext cx="134640" cy="320400"/>
                  <a:chOff x="3842280" y="1000440"/>
                  <a:chExt cx="134640" cy="320400"/>
                </a:xfrm>
              </p:grpSpPr>
              <p:cxnSp>
                <p:nvCxnSpPr>
                  <p:cNvPr id="2980" name="AutoShape 90"/>
                  <p:cNvCxnSpPr/>
                  <p:nvPr/>
                </p:nvCxnSpPr>
                <p:spPr>
                  <a:xfrm flipH="1">
                    <a:off x="3909600" y="1000440"/>
                    <a:ext cx="67680" cy="885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81" name="AutoShape 91"/>
                  <p:cNvCxnSpPr/>
                  <p:nvPr/>
                </p:nvCxnSpPr>
                <p:spPr>
                  <a:xfrm flipH="1">
                    <a:off x="3842280" y="1232640"/>
                    <a:ext cx="105480" cy="885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82" name="AutoShape 92"/>
                  <p:cNvCxnSpPr/>
                  <p:nvPr/>
                </p:nvCxnSpPr>
                <p:spPr>
                  <a:xfrm flipH="1">
                    <a:off x="3909600" y="1087920"/>
                    <a:ext cx="67680" cy="666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83" name="AutoShape 93"/>
                  <p:cNvCxnSpPr/>
                  <p:nvPr/>
                </p:nvCxnSpPr>
                <p:spPr>
                  <a:xfrm flipH="1">
                    <a:off x="3879720" y="1176480"/>
                    <a:ext cx="68040" cy="56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2984" name="Group 94"/>
                <p:cNvGrpSpPr/>
                <p:nvPr/>
              </p:nvGrpSpPr>
              <p:grpSpPr>
                <a:xfrm>
                  <a:off x="3792600" y="1030320"/>
                  <a:ext cx="104760" cy="297720"/>
                  <a:chOff x="3792600" y="1030320"/>
                  <a:chExt cx="104760" cy="297720"/>
                </a:xfrm>
              </p:grpSpPr>
              <p:cxnSp>
                <p:nvCxnSpPr>
                  <p:cNvPr id="2985" name="AutoShape 95"/>
                  <p:cNvCxnSpPr/>
                  <p:nvPr/>
                </p:nvCxnSpPr>
                <p:spPr>
                  <a:xfrm>
                    <a:off x="3848400" y="1030320"/>
                    <a:ext cx="49320" cy="121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86" name="AutoShape 96"/>
                  <p:cNvCxnSpPr/>
                  <p:nvPr/>
                </p:nvCxnSpPr>
                <p:spPr>
                  <a:xfrm>
                    <a:off x="3792600" y="1158480"/>
                    <a:ext cx="96840" cy="169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87" name="AutoShape 97"/>
                  <p:cNvCxnSpPr/>
                  <p:nvPr/>
                </p:nvCxnSpPr>
                <p:spPr>
                  <a:xfrm>
                    <a:off x="3813480" y="1064520"/>
                    <a:ext cx="58680" cy="112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988" name="AutoShape 98"/>
                  <p:cNvCxnSpPr/>
                  <p:nvPr/>
                </p:nvCxnSpPr>
                <p:spPr>
                  <a:xfrm>
                    <a:off x="3815280" y="1136880"/>
                    <a:ext cx="62280" cy="109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2989" name="Group 99"/>
              <p:cNvGrpSpPr/>
              <p:nvPr/>
            </p:nvGrpSpPr>
            <p:grpSpPr>
              <a:xfrm>
                <a:off x="3696120" y="1048680"/>
                <a:ext cx="441720" cy="542520"/>
                <a:chOff x="3696120" y="1048680"/>
                <a:chExt cx="441720" cy="542520"/>
              </a:xfrm>
            </p:grpSpPr>
            <p:sp>
              <p:nvSpPr>
                <p:cNvPr id="2990" name="Arc 100"/>
                <p:cNvSpPr/>
                <p:nvPr/>
              </p:nvSpPr>
              <p:spPr>
                <a:xfrm flipV="1" rot="1204800">
                  <a:off x="3770640" y="1078200"/>
                  <a:ext cx="261000" cy="482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91" name="AutoShape 101"/>
                <p:cNvCxnSpPr/>
                <p:nvPr/>
              </p:nvCxnSpPr>
              <p:spPr>
                <a:xfrm flipH="1" flipV="1">
                  <a:off x="4035960" y="1294920"/>
                  <a:ext cx="97920" cy="13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92" name="AutoShape 102"/>
                <p:cNvCxnSpPr/>
                <p:nvPr/>
              </p:nvCxnSpPr>
              <p:spPr>
                <a:xfrm flipH="1" flipV="1">
                  <a:off x="4040640" y="1257120"/>
                  <a:ext cx="97560" cy="13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93" name="AutoShape 103"/>
                <p:cNvCxnSpPr/>
                <p:nvPr/>
              </p:nvCxnSpPr>
              <p:spPr>
                <a:xfrm>
                  <a:off x="3954240" y="1170360"/>
                  <a:ext cx="87480" cy="87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94" name="AutoShape 104"/>
                <p:cNvCxnSpPr/>
                <p:nvPr/>
              </p:nvCxnSpPr>
              <p:spPr>
                <a:xfrm>
                  <a:off x="3934080" y="1200960"/>
                  <a:ext cx="88200" cy="88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995" name="Arc 105"/>
              <p:cNvSpPr/>
              <p:nvPr/>
            </p:nvSpPr>
            <p:spPr>
              <a:xfrm flipH="1" flipV="1" rot="21411600">
                <a:off x="3124800" y="1037520"/>
                <a:ext cx="507600" cy="531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6" name="Group 106"/>
              <p:cNvGrpSpPr/>
              <p:nvPr/>
            </p:nvGrpSpPr>
            <p:grpSpPr>
              <a:xfrm>
                <a:off x="3030120" y="1110960"/>
                <a:ext cx="228960" cy="235800"/>
                <a:chOff x="3030120" y="1110960"/>
                <a:chExt cx="228960" cy="235800"/>
              </a:xfrm>
            </p:grpSpPr>
            <p:cxnSp>
              <p:nvCxnSpPr>
                <p:cNvPr id="2997" name="AutoShape 107"/>
                <p:cNvCxnSpPr/>
                <p:nvPr/>
              </p:nvCxnSpPr>
              <p:spPr>
                <a:xfrm>
                  <a:off x="3038400" y="1236600"/>
                  <a:ext cx="101160" cy="25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98" name="AutoShape 108"/>
                <p:cNvCxnSpPr/>
                <p:nvPr/>
              </p:nvCxnSpPr>
              <p:spPr>
                <a:xfrm>
                  <a:off x="3030120" y="1177920"/>
                  <a:ext cx="100800" cy="26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99" name="AutoShape 109"/>
                <p:cNvCxnSpPr/>
                <p:nvPr/>
              </p:nvCxnSpPr>
              <p:spPr>
                <a:xfrm flipH="1">
                  <a:off x="3130200" y="1110960"/>
                  <a:ext cx="84600" cy="93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00" name="AutoShape 110"/>
                <p:cNvCxnSpPr/>
                <p:nvPr/>
              </p:nvCxnSpPr>
              <p:spPr>
                <a:xfrm flipH="1">
                  <a:off x="3133800" y="1167120"/>
                  <a:ext cx="104040" cy="84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01" name="AutoShape 111"/>
                <p:cNvCxnSpPr/>
                <p:nvPr/>
              </p:nvCxnSpPr>
              <p:spPr>
                <a:xfrm flipH="1">
                  <a:off x="3184200" y="1226520"/>
                  <a:ext cx="75240" cy="120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02" name="AutoShape 112"/>
                <p:cNvCxnSpPr/>
                <p:nvPr/>
              </p:nvCxnSpPr>
              <p:spPr>
                <a:xfrm>
                  <a:off x="3060360" y="1298520"/>
                  <a:ext cx="135360" cy="44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</p:grpSp>
        <p:sp>
          <p:nvSpPr>
            <p:cNvPr id="3003" name="TextBox 859"/>
            <p:cNvSpPr/>
            <p:nvPr/>
          </p:nvSpPr>
          <p:spPr>
            <a:xfrm>
              <a:off x="3200400" y="2134080"/>
              <a:ext cx="685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4" name="Группа 871"/>
          <p:cNvGrpSpPr/>
          <p:nvPr/>
        </p:nvGrpSpPr>
        <p:grpSpPr>
          <a:xfrm>
            <a:off x="4557240" y="583200"/>
            <a:ext cx="1545120" cy="1972080"/>
            <a:chOff x="4557240" y="583200"/>
            <a:chExt cx="1545120" cy="1972080"/>
          </a:xfrm>
        </p:grpSpPr>
        <p:grpSp>
          <p:nvGrpSpPr>
            <p:cNvPr id="3005" name="Group 113"/>
            <p:cNvGrpSpPr/>
            <p:nvPr/>
          </p:nvGrpSpPr>
          <p:grpSpPr>
            <a:xfrm>
              <a:off x="4557240" y="583200"/>
              <a:ext cx="1545120" cy="1424160"/>
              <a:chOff x="4557240" y="583200"/>
              <a:chExt cx="1545120" cy="1424160"/>
            </a:xfrm>
          </p:grpSpPr>
          <p:grpSp>
            <p:nvGrpSpPr>
              <p:cNvPr id="3006" name="Group 114"/>
              <p:cNvGrpSpPr/>
              <p:nvPr/>
            </p:nvGrpSpPr>
            <p:grpSpPr>
              <a:xfrm>
                <a:off x="5203440" y="1225800"/>
                <a:ext cx="144720" cy="204120"/>
                <a:chOff x="5203440" y="1225800"/>
                <a:chExt cx="144720" cy="204120"/>
              </a:xfrm>
            </p:grpSpPr>
            <p:grpSp>
              <p:nvGrpSpPr>
                <p:cNvPr id="3007" name="Group 115"/>
                <p:cNvGrpSpPr/>
                <p:nvPr/>
              </p:nvGrpSpPr>
              <p:grpSpPr>
                <a:xfrm>
                  <a:off x="5203440" y="1225800"/>
                  <a:ext cx="144720" cy="204120"/>
                  <a:chOff x="5203440" y="1225800"/>
                  <a:chExt cx="144720" cy="204120"/>
                </a:xfrm>
              </p:grpSpPr>
              <p:sp>
                <p:nvSpPr>
                  <p:cNvPr id="3008" name="Arc 116"/>
                  <p:cNvSpPr/>
                  <p:nvPr/>
                </p:nvSpPr>
                <p:spPr>
                  <a:xfrm>
                    <a:off x="5277240" y="1225800"/>
                    <a:ext cx="70920" cy="20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9" name="Arc 117"/>
                  <p:cNvSpPr/>
                  <p:nvPr/>
                </p:nvSpPr>
                <p:spPr>
                  <a:xfrm flipH="1">
                    <a:off x="5203080" y="1225800"/>
                    <a:ext cx="70920" cy="204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0" name="Group 118"/>
                <p:cNvGrpSpPr/>
                <p:nvPr/>
              </p:nvGrpSpPr>
              <p:grpSpPr>
                <a:xfrm>
                  <a:off x="5235120" y="1316880"/>
                  <a:ext cx="77760" cy="107640"/>
                  <a:chOff x="5235120" y="1316880"/>
                  <a:chExt cx="77760" cy="107640"/>
                </a:xfrm>
              </p:grpSpPr>
              <p:sp>
                <p:nvSpPr>
                  <p:cNvPr id="3011" name="Arc 119"/>
                  <p:cNvSpPr/>
                  <p:nvPr/>
                </p:nvSpPr>
                <p:spPr>
                  <a:xfrm>
                    <a:off x="5274720" y="1316880"/>
                    <a:ext cx="38160" cy="107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2" name="Arc 120"/>
                  <p:cNvSpPr/>
                  <p:nvPr/>
                </p:nvSpPr>
                <p:spPr>
                  <a:xfrm flipH="1">
                    <a:off x="5235120" y="1316880"/>
                    <a:ext cx="38160" cy="107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013" name="AutoShape 121"/>
                <p:cNvCxnSpPr/>
                <p:nvPr/>
              </p:nvCxnSpPr>
              <p:spPr>
                <a:xfrm>
                  <a:off x="5203440" y="1425600"/>
                  <a:ext cx="144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3014" name="Group 122"/>
              <p:cNvGrpSpPr/>
              <p:nvPr/>
            </p:nvGrpSpPr>
            <p:grpSpPr>
              <a:xfrm>
                <a:off x="4669920" y="1383480"/>
                <a:ext cx="1239840" cy="623880"/>
                <a:chOff x="4669920" y="1383480"/>
                <a:chExt cx="1239840" cy="623880"/>
              </a:xfrm>
            </p:grpSpPr>
            <p:sp>
              <p:nvSpPr>
                <p:cNvPr id="3015" name="Freeform 123"/>
                <p:cNvSpPr/>
                <p:nvPr/>
              </p:nvSpPr>
              <p:spPr>
                <a:xfrm>
                  <a:off x="5249160" y="1504800"/>
                  <a:ext cx="335520" cy="410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Freeform 124"/>
                <p:cNvSpPr/>
                <p:nvPr/>
              </p:nvSpPr>
              <p:spPr>
                <a:xfrm>
                  <a:off x="5295600" y="1483560"/>
                  <a:ext cx="432000" cy="275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Freeform 125"/>
                <p:cNvSpPr/>
                <p:nvPr/>
              </p:nvSpPr>
              <p:spPr>
                <a:xfrm rot="772200">
                  <a:off x="4761720" y="1424160"/>
                  <a:ext cx="418320" cy="445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Freeform 126"/>
                <p:cNvSpPr/>
                <p:nvPr/>
              </p:nvSpPr>
              <p:spPr>
                <a:xfrm>
                  <a:off x="5248080" y="1480680"/>
                  <a:ext cx="436680" cy="365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Rectangle 127"/>
                <p:cNvSpPr/>
                <p:nvPr/>
              </p:nvSpPr>
              <p:spPr>
                <a:xfrm>
                  <a:off x="5180400" y="1437480"/>
                  <a:ext cx="18468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Freeform 128"/>
                <p:cNvSpPr/>
                <p:nvPr/>
              </p:nvSpPr>
              <p:spPr>
                <a:xfrm rot="1519200">
                  <a:off x="5249160" y="1566720"/>
                  <a:ext cx="436320" cy="364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1" name="Group 129"/>
                <p:cNvGrpSpPr/>
                <p:nvPr/>
              </p:nvGrpSpPr>
              <p:grpSpPr>
                <a:xfrm>
                  <a:off x="4669920" y="1468080"/>
                  <a:ext cx="646920" cy="464040"/>
                  <a:chOff x="4669920" y="1468080"/>
                  <a:chExt cx="646920" cy="464040"/>
                </a:xfrm>
              </p:grpSpPr>
              <p:sp>
                <p:nvSpPr>
                  <p:cNvPr id="3022" name="Freeform 130"/>
                  <p:cNvSpPr/>
                  <p:nvPr/>
                </p:nvSpPr>
                <p:spPr>
                  <a:xfrm>
                    <a:off x="4701240" y="1480320"/>
                    <a:ext cx="497520" cy="225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3" name="Freeform 131"/>
                  <p:cNvSpPr/>
                  <p:nvPr/>
                </p:nvSpPr>
                <p:spPr>
                  <a:xfrm>
                    <a:off x="4964760" y="1483920"/>
                    <a:ext cx="234000" cy="44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4" name="Freeform 132"/>
                  <p:cNvSpPr/>
                  <p:nvPr/>
                </p:nvSpPr>
                <p:spPr>
                  <a:xfrm>
                    <a:off x="4669920" y="1468080"/>
                    <a:ext cx="529200" cy="150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5" name="Freeform 133"/>
                  <p:cNvSpPr/>
                  <p:nvPr/>
                </p:nvSpPr>
                <p:spPr>
                  <a:xfrm flipH="1" rot="21135600">
                    <a:off x="4761360" y="1503360"/>
                    <a:ext cx="436680" cy="3657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6" name="Freeform 134"/>
                  <p:cNvSpPr/>
                  <p:nvPr/>
                </p:nvSpPr>
                <p:spPr>
                  <a:xfrm rot="18567600">
                    <a:off x="4915800" y="1600560"/>
                    <a:ext cx="395280" cy="201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7" name="Group 135"/>
                <p:cNvGrpSpPr/>
                <p:nvPr/>
              </p:nvGrpSpPr>
              <p:grpSpPr>
                <a:xfrm>
                  <a:off x="5262840" y="1437480"/>
                  <a:ext cx="646920" cy="464040"/>
                  <a:chOff x="5262840" y="1437480"/>
                  <a:chExt cx="646920" cy="464040"/>
                </a:xfrm>
              </p:grpSpPr>
              <p:sp>
                <p:nvSpPr>
                  <p:cNvPr id="3028" name="Freeform 136"/>
                  <p:cNvSpPr/>
                  <p:nvPr/>
                </p:nvSpPr>
                <p:spPr>
                  <a:xfrm flipH="1">
                    <a:off x="5380920" y="1449720"/>
                    <a:ext cx="497520" cy="225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9" name="Freeform 137"/>
                  <p:cNvSpPr/>
                  <p:nvPr/>
                </p:nvSpPr>
                <p:spPr>
                  <a:xfrm flipH="1">
                    <a:off x="5380920" y="1453320"/>
                    <a:ext cx="234000" cy="448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0" name="Freeform 138"/>
                  <p:cNvSpPr/>
                  <p:nvPr/>
                </p:nvSpPr>
                <p:spPr>
                  <a:xfrm flipH="1">
                    <a:off x="5380560" y="1437480"/>
                    <a:ext cx="529200" cy="150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1" name="Freeform 139"/>
                  <p:cNvSpPr/>
                  <p:nvPr/>
                </p:nvSpPr>
                <p:spPr>
                  <a:xfrm rot="464400">
                    <a:off x="5381280" y="1472760"/>
                    <a:ext cx="436680" cy="3657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2" name="Freeform 140"/>
                  <p:cNvSpPr/>
                  <p:nvPr/>
                </p:nvSpPr>
                <p:spPr>
                  <a:xfrm flipH="1" rot="3032400">
                    <a:off x="5268600" y="1569960"/>
                    <a:ext cx="395280" cy="201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3" name="Group 141"/>
              <p:cNvGrpSpPr/>
              <p:nvPr/>
            </p:nvGrpSpPr>
            <p:grpSpPr>
              <a:xfrm>
                <a:off x="4686840" y="748440"/>
                <a:ext cx="493200" cy="667080"/>
                <a:chOff x="4686840" y="748440"/>
                <a:chExt cx="493200" cy="667080"/>
              </a:xfrm>
            </p:grpSpPr>
            <p:sp>
              <p:nvSpPr>
                <p:cNvPr id="3034" name="Arc 142"/>
                <p:cNvSpPr/>
                <p:nvPr/>
              </p:nvSpPr>
              <p:spPr>
                <a:xfrm flipH="1" flipV="1">
                  <a:off x="4813560" y="820800"/>
                  <a:ext cx="366480" cy="594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5" name="Group 143"/>
                <p:cNvGrpSpPr/>
                <p:nvPr/>
              </p:nvGrpSpPr>
              <p:grpSpPr>
                <a:xfrm>
                  <a:off x="4686840" y="748440"/>
                  <a:ext cx="223920" cy="427320"/>
                  <a:chOff x="4686840" y="748440"/>
                  <a:chExt cx="223920" cy="427320"/>
                </a:xfrm>
              </p:grpSpPr>
              <p:cxnSp>
                <p:nvCxnSpPr>
                  <p:cNvPr id="3036" name="AutoShape 144"/>
                  <p:cNvCxnSpPr/>
                  <p:nvPr/>
                </p:nvCxnSpPr>
                <p:spPr>
                  <a:xfrm>
                    <a:off x="4710600" y="748440"/>
                    <a:ext cx="119880" cy="1335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37" name="AutoShape 145"/>
                  <p:cNvCxnSpPr/>
                  <p:nvPr/>
                </p:nvCxnSpPr>
                <p:spPr>
                  <a:xfrm>
                    <a:off x="4710960" y="1023120"/>
                    <a:ext cx="200160" cy="153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38" name="AutoShape 146"/>
                  <p:cNvCxnSpPr/>
                  <p:nvPr/>
                </p:nvCxnSpPr>
                <p:spPr>
                  <a:xfrm>
                    <a:off x="4686840" y="847080"/>
                    <a:ext cx="125640" cy="108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39" name="AutoShape 147"/>
                  <p:cNvCxnSpPr/>
                  <p:nvPr/>
                </p:nvCxnSpPr>
                <p:spPr>
                  <a:xfrm>
                    <a:off x="4726440" y="960120"/>
                    <a:ext cx="128160" cy="97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040" name="Group 148"/>
                <p:cNvGrpSpPr/>
                <p:nvPr/>
              </p:nvGrpSpPr>
              <p:grpSpPr>
                <a:xfrm>
                  <a:off x="4797000" y="756360"/>
                  <a:ext cx="174240" cy="458280"/>
                  <a:chOff x="4797000" y="756360"/>
                  <a:chExt cx="174240" cy="458280"/>
                </a:xfrm>
              </p:grpSpPr>
              <p:cxnSp>
                <p:nvCxnSpPr>
                  <p:cNvPr id="3041" name="AutoShape 149"/>
                  <p:cNvCxnSpPr/>
                  <p:nvPr/>
                </p:nvCxnSpPr>
                <p:spPr>
                  <a:xfrm flipH="1">
                    <a:off x="4797000" y="756360"/>
                    <a:ext cx="25200" cy="171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42" name="AutoShape 150"/>
                  <p:cNvCxnSpPr/>
                  <p:nvPr/>
                </p:nvCxnSpPr>
                <p:spPr>
                  <a:xfrm flipH="1">
                    <a:off x="4890600" y="986760"/>
                    <a:ext cx="81000" cy="228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43" name="AutoShape 151"/>
                  <p:cNvCxnSpPr/>
                  <p:nvPr/>
                </p:nvCxnSpPr>
                <p:spPr>
                  <a:xfrm flipH="1">
                    <a:off x="4851360" y="827280"/>
                    <a:ext cx="43560" cy="153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44" name="AutoShape 152"/>
                  <p:cNvCxnSpPr/>
                  <p:nvPr/>
                </p:nvCxnSpPr>
                <p:spPr>
                  <a:xfrm flipH="1">
                    <a:off x="4872600" y="941760"/>
                    <a:ext cx="52200" cy="146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3045" name="Group 153"/>
              <p:cNvGrpSpPr/>
              <p:nvPr/>
            </p:nvGrpSpPr>
            <p:grpSpPr>
              <a:xfrm>
                <a:off x="5313960" y="653760"/>
                <a:ext cx="454320" cy="781920"/>
                <a:chOff x="5313960" y="653760"/>
                <a:chExt cx="454320" cy="781920"/>
              </a:xfrm>
            </p:grpSpPr>
            <p:sp>
              <p:nvSpPr>
                <p:cNvPr id="3046" name="Arc 154"/>
                <p:cNvSpPr/>
                <p:nvPr/>
              </p:nvSpPr>
              <p:spPr>
                <a:xfrm flipV="1">
                  <a:off x="5313960" y="731520"/>
                  <a:ext cx="342000" cy="703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7" name="Group 155"/>
                <p:cNvGrpSpPr/>
                <p:nvPr/>
              </p:nvGrpSpPr>
              <p:grpSpPr>
                <a:xfrm>
                  <a:off x="5576040" y="653760"/>
                  <a:ext cx="192240" cy="488520"/>
                  <a:chOff x="5576040" y="653760"/>
                  <a:chExt cx="192240" cy="488520"/>
                </a:xfrm>
              </p:grpSpPr>
              <p:cxnSp>
                <p:nvCxnSpPr>
                  <p:cNvPr id="3048" name="AutoShape 156"/>
                  <p:cNvCxnSpPr/>
                  <p:nvPr/>
                </p:nvCxnSpPr>
                <p:spPr>
                  <a:xfrm flipH="1">
                    <a:off x="5635080" y="653760"/>
                    <a:ext cx="105480" cy="149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49" name="AutoShape 157"/>
                  <p:cNvCxnSpPr/>
                  <p:nvPr/>
                </p:nvCxnSpPr>
                <p:spPr>
                  <a:xfrm flipH="1">
                    <a:off x="5576040" y="975240"/>
                    <a:ext cx="180720" cy="1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50" name="AutoShape 158"/>
                  <p:cNvCxnSpPr/>
                  <p:nvPr/>
                </p:nvCxnSpPr>
                <p:spPr>
                  <a:xfrm flipH="1">
                    <a:off x="5655960" y="770400"/>
                    <a:ext cx="112680" cy="119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51" name="AutoShape 159"/>
                  <p:cNvCxnSpPr/>
                  <p:nvPr/>
                </p:nvCxnSpPr>
                <p:spPr>
                  <a:xfrm flipH="1">
                    <a:off x="5621760" y="901440"/>
                    <a:ext cx="116280" cy="1065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052" name="Group 160"/>
                <p:cNvGrpSpPr/>
                <p:nvPr/>
              </p:nvGrpSpPr>
              <p:grpSpPr>
                <a:xfrm>
                  <a:off x="5495760" y="687240"/>
                  <a:ext cx="175680" cy="478080"/>
                  <a:chOff x="5495760" y="687240"/>
                  <a:chExt cx="175680" cy="478080"/>
                </a:xfrm>
              </p:grpSpPr>
              <p:cxnSp>
                <p:nvCxnSpPr>
                  <p:cNvPr id="3053" name="AutoShape 161"/>
                  <p:cNvCxnSpPr/>
                  <p:nvPr/>
                </p:nvCxnSpPr>
                <p:spPr>
                  <a:xfrm>
                    <a:off x="5623200" y="687240"/>
                    <a:ext cx="48600" cy="185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54" name="AutoShape 162"/>
                  <p:cNvCxnSpPr/>
                  <p:nvPr/>
                </p:nvCxnSpPr>
                <p:spPr>
                  <a:xfrm>
                    <a:off x="5495760" y="913680"/>
                    <a:ext cx="113400" cy="252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55" name="AutoShape 163"/>
                  <p:cNvCxnSpPr/>
                  <p:nvPr/>
                </p:nvCxnSpPr>
                <p:spPr>
                  <a:xfrm>
                    <a:off x="5555880" y="753120"/>
                    <a:ext cx="65520" cy="1688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56" name="AutoShape 164"/>
                  <p:cNvCxnSpPr/>
                  <p:nvPr/>
                </p:nvCxnSpPr>
                <p:spPr>
                  <a:xfrm>
                    <a:off x="5539320" y="871560"/>
                    <a:ext cx="73440" cy="161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3057" name="Group 165"/>
              <p:cNvGrpSpPr/>
              <p:nvPr/>
            </p:nvGrpSpPr>
            <p:grpSpPr>
              <a:xfrm>
                <a:off x="5289840" y="723960"/>
                <a:ext cx="777960" cy="731880"/>
                <a:chOff x="5289840" y="723960"/>
                <a:chExt cx="777960" cy="731880"/>
              </a:xfrm>
            </p:grpSpPr>
            <p:sp>
              <p:nvSpPr>
                <p:cNvPr id="3058" name="Arc 166"/>
                <p:cNvSpPr/>
                <p:nvPr/>
              </p:nvSpPr>
              <p:spPr>
                <a:xfrm flipV="1" rot="21094200">
                  <a:off x="5333400" y="765000"/>
                  <a:ext cx="617040" cy="648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59" name="Group 167"/>
                <p:cNvGrpSpPr/>
                <p:nvPr/>
              </p:nvGrpSpPr>
              <p:grpSpPr>
                <a:xfrm>
                  <a:off x="5783040" y="765720"/>
                  <a:ext cx="284760" cy="403200"/>
                  <a:chOff x="5783040" y="765720"/>
                  <a:chExt cx="284760" cy="403200"/>
                </a:xfrm>
              </p:grpSpPr>
              <p:cxnSp>
                <p:nvCxnSpPr>
                  <p:cNvPr id="3060" name="AutoShape 168"/>
                  <p:cNvCxnSpPr/>
                  <p:nvPr/>
                </p:nvCxnSpPr>
                <p:spPr>
                  <a:xfrm flipH="1">
                    <a:off x="5925240" y="765720"/>
                    <a:ext cx="142920" cy="111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61" name="AutoShape 169"/>
                  <p:cNvCxnSpPr/>
                  <p:nvPr/>
                </p:nvCxnSpPr>
                <p:spPr>
                  <a:xfrm flipH="1">
                    <a:off x="5783040" y="1058040"/>
                    <a:ext cx="222840" cy="111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62" name="AutoShape 170"/>
                  <p:cNvCxnSpPr/>
                  <p:nvPr/>
                </p:nvCxnSpPr>
                <p:spPr>
                  <a:xfrm flipH="1">
                    <a:off x="5925240" y="876600"/>
                    <a:ext cx="142920" cy="83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63" name="AutoShape 171"/>
                  <p:cNvCxnSpPr/>
                  <p:nvPr/>
                </p:nvCxnSpPr>
                <p:spPr>
                  <a:xfrm flipH="1">
                    <a:off x="5862960" y="987480"/>
                    <a:ext cx="143280" cy="712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064" name="Group 172"/>
                <p:cNvGrpSpPr/>
                <p:nvPr/>
              </p:nvGrpSpPr>
              <p:grpSpPr>
                <a:xfrm>
                  <a:off x="5717520" y="749880"/>
                  <a:ext cx="181440" cy="480240"/>
                  <a:chOff x="5717520" y="749880"/>
                  <a:chExt cx="181440" cy="480240"/>
                </a:xfrm>
              </p:grpSpPr>
              <p:cxnSp>
                <p:nvCxnSpPr>
                  <p:cNvPr id="3065" name="AutoShape 173"/>
                  <p:cNvCxnSpPr/>
                  <p:nvPr/>
                </p:nvCxnSpPr>
                <p:spPr>
                  <a:xfrm>
                    <a:off x="5867280" y="749880"/>
                    <a:ext cx="32040" cy="1818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66" name="AutoShape 174"/>
                  <p:cNvCxnSpPr/>
                  <p:nvPr/>
                </p:nvCxnSpPr>
                <p:spPr>
                  <a:xfrm>
                    <a:off x="5717520" y="987840"/>
                    <a:ext cx="91800" cy="242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67" name="AutoShape 175"/>
                  <p:cNvCxnSpPr/>
                  <p:nvPr/>
                </p:nvCxnSpPr>
                <p:spPr>
                  <a:xfrm>
                    <a:off x="5793480" y="822240"/>
                    <a:ext cx="50400" cy="163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68" name="AutoShape 176"/>
                  <p:cNvCxnSpPr/>
                  <p:nvPr/>
                </p:nvCxnSpPr>
                <p:spPr>
                  <a:xfrm>
                    <a:off x="5765400" y="942120"/>
                    <a:ext cx="59040" cy="155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3069" name="Group 177"/>
              <p:cNvGrpSpPr/>
              <p:nvPr/>
            </p:nvGrpSpPr>
            <p:grpSpPr>
              <a:xfrm>
                <a:off x="4557240" y="879120"/>
                <a:ext cx="794880" cy="611280"/>
                <a:chOff x="4557240" y="879120"/>
                <a:chExt cx="794880" cy="611280"/>
              </a:xfrm>
            </p:grpSpPr>
            <p:sp>
              <p:nvSpPr>
                <p:cNvPr id="3070" name="Arc 178"/>
                <p:cNvSpPr/>
                <p:nvPr/>
              </p:nvSpPr>
              <p:spPr>
                <a:xfrm flipH="1" flipV="1" rot="21411600">
                  <a:off x="4672440" y="896760"/>
                  <a:ext cx="663840" cy="575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1" name="Group 179"/>
                <p:cNvGrpSpPr/>
                <p:nvPr/>
              </p:nvGrpSpPr>
              <p:grpSpPr>
                <a:xfrm>
                  <a:off x="4557240" y="967680"/>
                  <a:ext cx="288720" cy="263880"/>
                  <a:chOff x="4557240" y="967680"/>
                  <a:chExt cx="288720" cy="263880"/>
                </a:xfrm>
              </p:grpSpPr>
              <p:cxnSp>
                <p:nvCxnSpPr>
                  <p:cNvPr id="3072" name="AutoShape 180"/>
                  <p:cNvCxnSpPr/>
                  <p:nvPr/>
                </p:nvCxnSpPr>
                <p:spPr>
                  <a:xfrm>
                    <a:off x="4563000" y="1120680"/>
                    <a:ext cx="127080" cy="21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73" name="AutoShape 181"/>
                  <p:cNvCxnSpPr/>
                  <p:nvPr/>
                </p:nvCxnSpPr>
                <p:spPr>
                  <a:xfrm>
                    <a:off x="4557240" y="1055160"/>
                    <a:ext cx="127080" cy="21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74" name="AutoShape 182"/>
                  <p:cNvCxnSpPr/>
                  <p:nvPr/>
                </p:nvCxnSpPr>
                <p:spPr>
                  <a:xfrm flipH="1">
                    <a:off x="4683240" y="967680"/>
                    <a:ext cx="114480" cy="109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75" name="AutoShape 183"/>
                  <p:cNvCxnSpPr/>
                  <p:nvPr/>
                </p:nvCxnSpPr>
                <p:spPr>
                  <a:xfrm flipH="1">
                    <a:off x="4684680" y="1028880"/>
                    <a:ext cx="138600" cy="1008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76" name="AutoShape 184"/>
                  <p:cNvCxnSpPr/>
                  <p:nvPr/>
                </p:nvCxnSpPr>
                <p:spPr>
                  <a:xfrm flipH="1">
                    <a:off x="4741560" y="1092960"/>
                    <a:ext cx="104760" cy="1389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77" name="AutoShape 185"/>
                  <p:cNvCxnSpPr/>
                  <p:nvPr/>
                </p:nvCxnSpPr>
                <p:spPr>
                  <a:xfrm>
                    <a:off x="4587120" y="1187280"/>
                    <a:ext cx="169560" cy="39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3078" name="Group 186"/>
              <p:cNvGrpSpPr/>
              <p:nvPr/>
            </p:nvGrpSpPr>
            <p:grpSpPr>
              <a:xfrm>
                <a:off x="5249160" y="951480"/>
                <a:ext cx="853200" cy="531360"/>
                <a:chOff x="5249160" y="951480"/>
                <a:chExt cx="853200" cy="531360"/>
              </a:xfrm>
            </p:grpSpPr>
            <p:sp>
              <p:nvSpPr>
                <p:cNvPr id="3079" name="Arc 187"/>
                <p:cNvSpPr/>
                <p:nvPr/>
              </p:nvSpPr>
              <p:spPr>
                <a:xfrm flipV="1" rot="188400">
                  <a:off x="5261760" y="970560"/>
                  <a:ext cx="722880" cy="492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0" name="Group 188"/>
                <p:cNvGrpSpPr/>
                <p:nvPr/>
              </p:nvGrpSpPr>
              <p:grpSpPr>
                <a:xfrm>
                  <a:off x="5797440" y="1020960"/>
                  <a:ext cx="304920" cy="236520"/>
                  <a:chOff x="5797440" y="1020960"/>
                  <a:chExt cx="304920" cy="236520"/>
                </a:xfrm>
              </p:grpSpPr>
              <p:cxnSp>
                <p:nvCxnSpPr>
                  <p:cNvPr id="3081" name="AutoShape 189"/>
                  <p:cNvCxnSpPr/>
                  <p:nvPr/>
                </p:nvCxnSpPr>
                <p:spPr>
                  <a:xfrm flipH="1">
                    <a:off x="5968080" y="1172880"/>
                    <a:ext cx="133560" cy="9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82" name="AutoShape 190"/>
                  <p:cNvCxnSpPr/>
                  <p:nvPr/>
                </p:nvCxnSpPr>
                <p:spPr>
                  <a:xfrm flipH="1">
                    <a:off x="5968800" y="1116360"/>
                    <a:ext cx="133920" cy="9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83" name="AutoShape 191"/>
                  <p:cNvCxnSpPr/>
                  <p:nvPr/>
                </p:nvCxnSpPr>
                <p:spPr>
                  <a:xfrm>
                    <a:off x="5840280" y="1020960"/>
                    <a:ext cx="129960" cy="105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84" name="AutoShape 192"/>
                  <p:cNvCxnSpPr/>
                  <p:nvPr/>
                </p:nvCxnSpPr>
                <p:spPr>
                  <a:xfrm>
                    <a:off x="5817960" y="1073160"/>
                    <a:ext cx="155160" cy="99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85" name="AutoShape 193"/>
                  <p:cNvCxnSpPr/>
                  <p:nvPr/>
                </p:nvCxnSpPr>
                <p:spPr>
                  <a:xfrm>
                    <a:off x="5797440" y="1127160"/>
                    <a:ext cx="122040" cy="130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86" name="AutoShape 194"/>
                  <p:cNvCxnSpPr/>
                  <p:nvPr/>
                </p:nvCxnSpPr>
                <p:spPr>
                  <a:xfrm flipH="1">
                    <a:off x="5903280" y="1230120"/>
                    <a:ext cx="177480" cy="22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3087" name="Group 195"/>
              <p:cNvGrpSpPr/>
              <p:nvPr/>
            </p:nvGrpSpPr>
            <p:grpSpPr>
              <a:xfrm>
                <a:off x="4911840" y="648720"/>
                <a:ext cx="383760" cy="787680"/>
                <a:chOff x="4911840" y="648720"/>
                <a:chExt cx="383760" cy="787680"/>
              </a:xfrm>
            </p:grpSpPr>
            <p:sp>
              <p:nvSpPr>
                <p:cNvPr id="3088" name="Arc 196"/>
                <p:cNvSpPr/>
                <p:nvPr/>
              </p:nvSpPr>
              <p:spPr>
                <a:xfrm flipH="1" flipV="1">
                  <a:off x="5004000" y="722160"/>
                  <a:ext cx="291240" cy="713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9" name="Group 197"/>
                <p:cNvGrpSpPr/>
                <p:nvPr/>
              </p:nvGrpSpPr>
              <p:grpSpPr>
                <a:xfrm>
                  <a:off x="4911840" y="648720"/>
                  <a:ext cx="151560" cy="485640"/>
                  <a:chOff x="4911840" y="648720"/>
                  <a:chExt cx="151560" cy="485640"/>
                </a:xfrm>
              </p:grpSpPr>
              <p:cxnSp>
                <p:nvCxnSpPr>
                  <p:cNvPr id="3090" name="AutoShape 198"/>
                  <p:cNvCxnSpPr/>
                  <p:nvPr/>
                </p:nvCxnSpPr>
                <p:spPr>
                  <a:xfrm>
                    <a:off x="4940280" y="648720"/>
                    <a:ext cx="85680" cy="1465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91" name="AutoShape 199"/>
                  <p:cNvCxnSpPr/>
                  <p:nvPr/>
                </p:nvCxnSpPr>
                <p:spPr>
                  <a:xfrm>
                    <a:off x="4914720" y="973080"/>
                    <a:ext cx="149040" cy="161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92" name="AutoShape 200"/>
                  <p:cNvCxnSpPr/>
                  <p:nvPr/>
                </p:nvCxnSpPr>
                <p:spPr>
                  <a:xfrm>
                    <a:off x="4911840" y="767160"/>
                    <a:ext cx="92880" cy="1162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93" name="AutoShape 201"/>
                  <p:cNvCxnSpPr/>
                  <p:nvPr/>
                </p:nvCxnSpPr>
                <p:spPr>
                  <a:xfrm>
                    <a:off x="4933440" y="897120"/>
                    <a:ext cx="95760" cy="103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094" name="Group 202"/>
                <p:cNvGrpSpPr/>
                <p:nvPr/>
              </p:nvGrpSpPr>
              <p:grpSpPr>
                <a:xfrm>
                  <a:off x="4991400" y="696600"/>
                  <a:ext cx="160200" cy="446040"/>
                  <a:chOff x="4991400" y="696600"/>
                  <a:chExt cx="160200" cy="446040"/>
                </a:xfrm>
              </p:grpSpPr>
              <p:cxnSp>
                <p:nvCxnSpPr>
                  <p:cNvPr id="3095" name="AutoShape 203"/>
                  <p:cNvCxnSpPr/>
                  <p:nvPr/>
                </p:nvCxnSpPr>
                <p:spPr>
                  <a:xfrm flipH="1">
                    <a:off x="4991400" y="696600"/>
                    <a:ext cx="60120" cy="177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96" name="AutoShape 204"/>
                  <p:cNvCxnSpPr/>
                  <p:nvPr/>
                </p:nvCxnSpPr>
                <p:spPr>
                  <a:xfrm flipH="1">
                    <a:off x="5025600" y="897840"/>
                    <a:ext cx="126360" cy="245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97" name="AutoShape 205"/>
                  <p:cNvCxnSpPr/>
                  <p:nvPr/>
                </p:nvCxnSpPr>
                <p:spPr>
                  <a:xfrm flipH="1">
                    <a:off x="5034240" y="752760"/>
                    <a:ext cx="74880" cy="163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098" name="AutoShape 206"/>
                  <p:cNvCxnSpPr/>
                  <p:nvPr/>
                </p:nvCxnSpPr>
                <p:spPr>
                  <a:xfrm flipH="1">
                    <a:off x="5033880" y="862560"/>
                    <a:ext cx="81360" cy="157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3099" name="Group 207"/>
              <p:cNvGrpSpPr/>
              <p:nvPr/>
            </p:nvGrpSpPr>
            <p:grpSpPr>
              <a:xfrm>
                <a:off x="5142600" y="583200"/>
                <a:ext cx="471600" cy="833040"/>
                <a:chOff x="5142600" y="583200"/>
                <a:chExt cx="471600" cy="833040"/>
              </a:xfrm>
            </p:grpSpPr>
            <p:sp>
              <p:nvSpPr>
                <p:cNvPr id="3100" name="Arc 208"/>
                <p:cNvSpPr/>
                <p:nvPr/>
              </p:nvSpPr>
              <p:spPr>
                <a:xfrm flipV="1">
                  <a:off x="5142600" y="660240"/>
                  <a:ext cx="341640" cy="756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01" name="Group 209"/>
                <p:cNvGrpSpPr/>
                <p:nvPr/>
              </p:nvGrpSpPr>
              <p:grpSpPr>
                <a:xfrm>
                  <a:off x="5421600" y="583200"/>
                  <a:ext cx="192600" cy="489240"/>
                  <a:chOff x="5421600" y="583200"/>
                  <a:chExt cx="192600" cy="489240"/>
                </a:xfrm>
              </p:grpSpPr>
              <p:cxnSp>
                <p:nvCxnSpPr>
                  <p:cNvPr id="3102" name="AutoShape 210"/>
                  <p:cNvCxnSpPr/>
                  <p:nvPr/>
                </p:nvCxnSpPr>
                <p:spPr>
                  <a:xfrm flipH="1">
                    <a:off x="5480640" y="583200"/>
                    <a:ext cx="105840" cy="149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03" name="AutoShape 211"/>
                  <p:cNvCxnSpPr/>
                  <p:nvPr/>
                </p:nvCxnSpPr>
                <p:spPr>
                  <a:xfrm flipH="1">
                    <a:off x="5421600" y="905400"/>
                    <a:ext cx="180720" cy="1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04" name="AutoShape 212"/>
                  <p:cNvCxnSpPr/>
                  <p:nvPr/>
                </p:nvCxnSpPr>
                <p:spPr>
                  <a:xfrm flipH="1">
                    <a:off x="5501520" y="699840"/>
                    <a:ext cx="113040" cy="119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05" name="AutoShape 213"/>
                  <p:cNvCxnSpPr/>
                  <p:nvPr/>
                </p:nvCxnSpPr>
                <p:spPr>
                  <a:xfrm flipH="1">
                    <a:off x="5468040" y="830880"/>
                    <a:ext cx="115920" cy="1072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106" name="Group 214"/>
                <p:cNvGrpSpPr/>
                <p:nvPr/>
              </p:nvGrpSpPr>
              <p:grpSpPr>
                <a:xfrm>
                  <a:off x="5323320" y="615960"/>
                  <a:ext cx="176400" cy="477360"/>
                  <a:chOff x="5323320" y="615960"/>
                  <a:chExt cx="176400" cy="477360"/>
                </a:xfrm>
              </p:grpSpPr>
              <p:cxnSp>
                <p:nvCxnSpPr>
                  <p:cNvPr id="3107" name="AutoShape 215"/>
                  <p:cNvCxnSpPr/>
                  <p:nvPr/>
                </p:nvCxnSpPr>
                <p:spPr>
                  <a:xfrm>
                    <a:off x="5451480" y="615960"/>
                    <a:ext cx="48600" cy="185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08" name="AutoShape 216"/>
                  <p:cNvCxnSpPr/>
                  <p:nvPr/>
                </p:nvCxnSpPr>
                <p:spPr>
                  <a:xfrm>
                    <a:off x="5323320" y="841680"/>
                    <a:ext cx="113760" cy="252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09" name="AutoShape 217"/>
                  <p:cNvCxnSpPr/>
                  <p:nvPr/>
                </p:nvCxnSpPr>
                <p:spPr>
                  <a:xfrm>
                    <a:off x="5383800" y="681840"/>
                    <a:ext cx="65520" cy="1688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10" name="AutoShape 218"/>
                  <p:cNvCxnSpPr/>
                  <p:nvPr/>
                </p:nvCxnSpPr>
                <p:spPr>
                  <a:xfrm>
                    <a:off x="5366880" y="799200"/>
                    <a:ext cx="73080" cy="162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  <p:sp>
          <p:nvSpPr>
            <p:cNvPr id="3111" name="TextBox 860"/>
            <p:cNvSpPr/>
            <p:nvPr/>
          </p:nvSpPr>
          <p:spPr>
            <a:xfrm>
              <a:off x="5169240" y="2095560"/>
              <a:ext cx="398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2" name="TextBox 861"/>
          <p:cNvSpPr/>
          <p:nvPr/>
        </p:nvSpPr>
        <p:spPr>
          <a:xfrm>
            <a:off x="3657600" y="4495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3" name="Группа 873"/>
          <p:cNvGrpSpPr/>
          <p:nvPr/>
        </p:nvGrpSpPr>
        <p:grpSpPr>
          <a:xfrm>
            <a:off x="3182040" y="5219280"/>
            <a:ext cx="1356120" cy="1523520"/>
            <a:chOff x="3182040" y="5219280"/>
            <a:chExt cx="1356120" cy="1523520"/>
          </a:xfrm>
        </p:grpSpPr>
        <p:grpSp>
          <p:nvGrpSpPr>
            <p:cNvPr id="3114" name="Group 769"/>
            <p:cNvGrpSpPr/>
            <p:nvPr/>
          </p:nvGrpSpPr>
          <p:grpSpPr>
            <a:xfrm>
              <a:off x="3182040" y="5219280"/>
              <a:ext cx="1356120" cy="1207080"/>
              <a:chOff x="3182040" y="5219280"/>
              <a:chExt cx="1356120" cy="1207080"/>
            </a:xfrm>
          </p:grpSpPr>
          <p:sp>
            <p:nvSpPr>
              <p:cNvPr id="3115" name="Rectangle 770"/>
              <p:cNvSpPr/>
              <p:nvPr/>
            </p:nvSpPr>
            <p:spPr>
              <a:xfrm>
                <a:off x="3851280" y="5843160"/>
                <a:ext cx="196920" cy="12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6" name="Group 771"/>
              <p:cNvGrpSpPr/>
              <p:nvPr/>
            </p:nvGrpSpPr>
            <p:grpSpPr>
              <a:xfrm>
                <a:off x="3898440" y="5715360"/>
                <a:ext cx="108000" cy="126000"/>
                <a:chOff x="3898440" y="5715360"/>
                <a:chExt cx="108000" cy="126000"/>
              </a:xfrm>
            </p:grpSpPr>
            <p:grpSp>
              <p:nvGrpSpPr>
                <p:cNvPr id="3117" name="Group 772"/>
                <p:cNvGrpSpPr/>
                <p:nvPr/>
              </p:nvGrpSpPr>
              <p:grpSpPr>
                <a:xfrm>
                  <a:off x="3898440" y="5715360"/>
                  <a:ext cx="108000" cy="126000"/>
                  <a:chOff x="3898440" y="5715360"/>
                  <a:chExt cx="108000" cy="126000"/>
                </a:xfrm>
              </p:grpSpPr>
              <p:sp>
                <p:nvSpPr>
                  <p:cNvPr id="3118" name="Arc 773"/>
                  <p:cNvSpPr/>
                  <p:nvPr/>
                </p:nvSpPr>
                <p:spPr>
                  <a:xfrm>
                    <a:off x="3953520" y="5715360"/>
                    <a:ext cx="52920" cy="126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9" name="Arc 774"/>
                  <p:cNvSpPr/>
                  <p:nvPr/>
                </p:nvSpPr>
                <p:spPr>
                  <a:xfrm flipH="1">
                    <a:off x="3898080" y="5715360"/>
                    <a:ext cx="52920" cy="126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0" name="Group 775"/>
                <p:cNvGrpSpPr/>
                <p:nvPr/>
              </p:nvGrpSpPr>
              <p:grpSpPr>
                <a:xfrm>
                  <a:off x="3921840" y="5771520"/>
                  <a:ext cx="58320" cy="66600"/>
                  <a:chOff x="3921840" y="5771520"/>
                  <a:chExt cx="58320" cy="66600"/>
                </a:xfrm>
              </p:grpSpPr>
              <p:sp>
                <p:nvSpPr>
                  <p:cNvPr id="3121" name="Arc 776"/>
                  <p:cNvSpPr/>
                  <p:nvPr/>
                </p:nvSpPr>
                <p:spPr>
                  <a:xfrm>
                    <a:off x="3951720" y="5771520"/>
                    <a:ext cx="28440" cy="66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Arc 777"/>
                  <p:cNvSpPr/>
                  <p:nvPr/>
                </p:nvSpPr>
                <p:spPr>
                  <a:xfrm flipH="1">
                    <a:off x="3921480" y="5771520"/>
                    <a:ext cx="28440" cy="66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123" name="AutoShape 778"/>
                <p:cNvCxnSpPr/>
                <p:nvPr/>
              </p:nvCxnSpPr>
              <p:spPr>
                <a:xfrm>
                  <a:off x="3898440" y="5838840"/>
                  <a:ext cx="1083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3124" name="Group 779"/>
              <p:cNvGrpSpPr/>
              <p:nvPr/>
            </p:nvGrpSpPr>
            <p:grpSpPr>
              <a:xfrm>
                <a:off x="3470760" y="5292000"/>
                <a:ext cx="387000" cy="545040"/>
                <a:chOff x="3470760" y="5292000"/>
                <a:chExt cx="387000" cy="545040"/>
              </a:xfrm>
            </p:grpSpPr>
            <p:sp>
              <p:nvSpPr>
                <p:cNvPr id="3125" name="Arc 780"/>
                <p:cNvSpPr/>
                <p:nvPr/>
              </p:nvSpPr>
              <p:spPr>
                <a:xfrm flipH="1" flipV="1">
                  <a:off x="3569760" y="5349600"/>
                  <a:ext cx="288000" cy="487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26" name="Group 781"/>
                <p:cNvGrpSpPr/>
                <p:nvPr/>
              </p:nvGrpSpPr>
              <p:grpSpPr>
                <a:xfrm>
                  <a:off x="3470760" y="5292000"/>
                  <a:ext cx="173160" cy="347400"/>
                  <a:chOff x="3470760" y="5292000"/>
                  <a:chExt cx="173160" cy="347400"/>
                </a:xfrm>
              </p:grpSpPr>
              <p:cxnSp>
                <p:nvCxnSpPr>
                  <p:cNvPr id="3127" name="AutoShape 782"/>
                  <p:cNvCxnSpPr/>
                  <p:nvPr/>
                </p:nvCxnSpPr>
                <p:spPr>
                  <a:xfrm>
                    <a:off x="3490200" y="5292000"/>
                    <a:ext cx="93240" cy="108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28" name="AutoShape 783"/>
                  <p:cNvCxnSpPr/>
                  <p:nvPr/>
                </p:nvCxnSpPr>
                <p:spPr>
                  <a:xfrm>
                    <a:off x="3488040" y="5516640"/>
                    <a:ext cx="156240" cy="123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29" name="AutoShape 784"/>
                  <p:cNvCxnSpPr/>
                  <p:nvPr/>
                </p:nvCxnSpPr>
                <p:spPr>
                  <a:xfrm>
                    <a:off x="3470760" y="5372280"/>
                    <a:ext cx="98280" cy="88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30" name="AutoShape 785"/>
                  <p:cNvCxnSpPr/>
                  <p:nvPr/>
                </p:nvCxnSpPr>
                <p:spPr>
                  <a:xfrm>
                    <a:off x="3500640" y="5464800"/>
                    <a:ext cx="100800" cy="79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131" name="Group 786"/>
                <p:cNvGrpSpPr/>
                <p:nvPr/>
              </p:nvGrpSpPr>
              <p:grpSpPr>
                <a:xfrm>
                  <a:off x="3556080" y="5301360"/>
                  <a:ext cx="138960" cy="366840"/>
                  <a:chOff x="3556080" y="5301360"/>
                  <a:chExt cx="138960" cy="366840"/>
                </a:xfrm>
              </p:grpSpPr>
              <p:cxnSp>
                <p:nvCxnSpPr>
                  <p:cNvPr id="3132" name="AutoShape 787"/>
                  <p:cNvCxnSpPr/>
                  <p:nvPr/>
                </p:nvCxnSpPr>
                <p:spPr>
                  <a:xfrm flipH="1">
                    <a:off x="3556080" y="5301360"/>
                    <a:ext cx="23400" cy="1386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33" name="AutoShape 788"/>
                  <p:cNvCxnSpPr/>
                  <p:nvPr/>
                </p:nvCxnSpPr>
                <p:spPr>
                  <a:xfrm flipH="1">
                    <a:off x="3626640" y="5483880"/>
                    <a:ext cx="68760" cy="184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34" name="AutoShape 789"/>
                  <p:cNvCxnSpPr/>
                  <p:nvPr/>
                </p:nvCxnSpPr>
                <p:spPr>
                  <a:xfrm flipH="1">
                    <a:off x="3598560" y="5356800"/>
                    <a:ext cx="38160" cy="1245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35" name="AutoShape 790"/>
                  <p:cNvCxnSpPr/>
                  <p:nvPr/>
                </p:nvCxnSpPr>
                <p:spPr>
                  <a:xfrm flipH="1">
                    <a:off x="3614040" y="5448600"/>
                    <a:ext cx="43920" cy="1188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3136" name="Group 791"/>
              <p:cNvGrpSpPr/>
              <p:nvPr/>
            </p:nvGrpSpPr>
            <p:grpSpPr>
              <a:xfrm>
                <a:off x="3980520" y="5292720"/>
                <a:ext cx="557640" cy="553320"/>
                <a:chOff x="3980520" y="5292720"/>
                <a:chExt cx="557640" cy="553320"/>
              </a:xfrm>
            </p:grpSpPr>
            <p:sp>
              <p:nvSpPr>
                <p:cNvPr id="3137" name="Arc 792"/>
                <p:cNvSpPr/>
                <p:nvPr/>
              </p:nvSpPr>
              <p:spPr>
                <a:xfrm flipV="1" rot="21094200">
                  <a:off x="4014360" y="5321880"/>
                  <a:ext cx="440280" cy="494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8" name="Group 793"/>
                <p:cNvGrpSpPr/>
                <p:nvPr/>
              </p:nvGrpSpPr>
              <p:grpSpPr>
                <a:xfrm>
                  <a:off x="4334760" y="5322600"/>
                  <a:ext cx="203400" cy="307440"/>
                  <a:chOff x="4334760" y="5322600"/>
                  <a:chExt cx="203400" cy="307440"/>
                </a:xfrm>
              </p:grpSpPr>
              <p:cxnSp>
                <p:nvCxnSpPr>
                  <p:cNvPr id="3139" name="AutoShape 794"/>
                  <p:cNvCxnSpPr/>
                  <p:nvPr/>
                </p:nvCxnSpPr>
                <p:spPr>
                  <a:xfrm flipH="1">
                    <a:off x="4436280" y="5322600"/>
                    <a:ext cx="102240" cy="849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40" name="AutoShape 795"/>
                  <p:cNvCxnSpPr/>
                  <p:nvPr/>
                </p:nvCxnSpPr>
                <p:spPr>
                  <a:xfrm flipH="1">
                    <a:off x="4334760" y="5545440"/>
                    <a:ext cx="159120" cy="849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41" name="AutoShape 796"/>
                  <p:cNvCxnSpPr/>
                  <p:nvPr/>
                </p:nvCxnSpPr>
                <p:spPr>
                  <a:xfrm flipH="1">
                    <a:off x="4436280" y="5406480"/>
                    <a:ext cx="102240" cy="63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42" name="AutoShape 797"/>
                  <p:cNvCxnSpPr/>
                  <p:nvPr/>
                </p:nvCxnSpPr>
                <p:spPr>
                  <a:xfrm flipH="1">
                    <a:off x="4391280" y="5491080"/>
                    <a:ext cx="102240" cy="54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143" name="Group 798"/>
                <p:cNvGrpSpPr/>
                <p:nvPr/>
              </p:nvGrpSpPr>
              <p:grpSpPr>
                <a:xfrm>
                  <a:off x="4284720" y="5316840"/>
                  <a:ext cx="132840" cy="353520"/>
                  <a:chOff x="4284720" y="5316840"/>
                  <a:chExt cx="132840" cy="353520"/>
                </a:xfrm>
              </p:grpSpPr>
              <p:cxnSp>
                <p:nvCxnSpPr>
                  <p:cNvPr id="3144" name="AutoShape 799"/>
                  <p:cNvCxnSpPr/>
                  <p:nvPr/>
                </p:nvCxnSpPr>
                <p:spPr>
                  <a:xfrm>
                    <a:off x="4389840" y="5316840"/>
                    <a:ext cx="28080" cy="135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45" name="AutoShape 800"/>
                  <p:cNvCxnSpPr/>
                  <p:nvPr/>
                </p:nvCxnSpPr>
                <p:spPr>
                  <a:xfrm>
                    <a:off x="4284720" y="5488920"/>
                    <a:ext cx="73800" cy="1818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46" name="AutoShape 801"/>
                  <p:cNvCxnSpPr/>
                  <p:nvPr/>
                </p:nvCxnSpPr>
                <p:spPr>
                  <a:xfrm>
                    <a:off x="4336920" y="5368320"/>
                    <a:ext cx="41400" cy="122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47" name="AutoShape 802"/>
                  <p:cNvCxnSpPr/>
                  <p:nvPr/>
                </p:nvCxnSpPr>
                <p:spPr>
                  <a:xfrm>
                    <a:off x="4319280" y="5455800"/>
                    <a:ext cx="47160" cy="117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sp>
            <p:nvSpPr>
              <p:cNvPr id="3148" name="Arc 803"/>
              <p:cNvSpPr/>
              <p:nvPr/>
            </p:nvSpPr>
            <p:spPr>
              <a:xfrm flipH="1" flipV="1" rot="21411600">
                <a:off x="3308040" y="5237640"/>
                <a:ext cx="709200" cy="643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9" name="Group 804"/>
              <p:cNvGrpSpPr/>
              <p:nvPr/>
            </p:nvGrpSpPr>
            <p:grpSpPr>
              <a:xfrm>
                <a:off x="3182040" y="5320800"/>
                <a:ext cx="311400" cy="291960"/>
                <a:chOff x="3182040" y="5320800"/>
                <a:chExt cx="311400" cy="291960"/>
              </a:xfrm>
            </p:grpSpPr>
            <p:cxnSp>
              <p:nvCxnSpPr>
                <p:cNvPr id="3150" name="AutoShape 805"/>
                <p:cNvCxnSpPr/>
                <p:nvPr/>
              </p:nvCxnSpPr>
              <p:spPr>
                <a:xfrm>
                  <a:off x="3189600" y="5486400"/>
                  <a:ext cx="137160" cy="25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51" name="AutoShape 806"/>
                <p:cNvCxnSpPr/>
                <p:nvPr/>
              </p:nvCxnSpPr>
              <p:spPr>
                <a:xfrm>
                  <a:off x="3182040" y="5414400"/>
                  <a:ext cx="137160" cy="25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52" name="AutoShape 807"/>
                <p:cNvCxnSpPr/>
                <p:nvPr/>
              </p:nvCxnSpPr>
              <p:spPr>
                <a:xfrm flipH="1">
                  <a:off x="3318840" y="5320800"/>
                  <a:ext cx="120960" cy="119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53" name="AutoShape 808"/>
                <p:cNvCxnSpPr/>
                <p:nvPr/>
              </p:nvCxnSpPr>
              <p:spPr>
                <a:xfrm flipH="1">
                  <a:off x="3321000" y="5389200"/>
                  <a:ext cx="146880" cy="109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54" name="AutoShape 809"/>
                <p:cNvCxnSpPr/>
                <p:nvPr/>
              </p:nvCxnSpPr>
              <p:spPr>
                <a:xfrm flipH="1">
                  <a:off x="3383640" y="5460120"/>
                  <a:ext cx="110160" cy="153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55" name="AutoShape 810"/>
                <p:cNvCxnSpPr/>
                <p:nvPr/>
              </p:nvCxnSpPr>
              <p:spPr>
                <a:xfrm>
                  <a:off x="3216600" y="5560920"/>
                  <a:ext cx="182880" cy="46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3156" name="Rectangle 811"/>
              <p:cNvSpPr/>
              <p:nvPr/>
            </p:nvSpPr>
            <p:spPr>
              <a:xfrm>
                <a:off x="3857760" y="5883480"/>
                <a:ext cx="185760" cy="860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812"/>
              <p:cNvSpPr/>
              <p:nvPr/>
            </p:nvSpPr>
            <p:spPr>
              <a:xfrm>
                <a:off x="4048920" y="5969520"/>
                <a:ext cx="237960" cy="356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813"/>
              <p:cNvSpPr/>
              <p:nvPr/>
            </p:nvSpPr>
            <p:spPr>
              <a:xfrm>
                <a:off x="4032360" y="5877720"/>
                <a:ext cx="492480" cy="38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814"/>
              <p:cNvSpPr/>
              <p:nvPr/>
            </p:nvSpPr>
            <p:spPr>
              <a:xfrm rot="772200">
                <a:off x="3404160" y="5828040"/>
                <a:ext cx="447120" cy="497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815"/>
              <p:cNvSpPr/>
              <p:nvPr/>
            </p:nvSpPr>
            <p:spPr>
              <a:xfrm>
                <a:off x="4025880" y="5857920"/>
                <a:ext cx="444600" cy="407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816"/>
              <p:cNvSpPr/>
              <p:nvPr/>
            </p:nvSpPr>
            <p:spPr>
              <a:xfrm rot="1519200">
                <a:off x="3909240" y="5945400"/>
                <a:ext cx="433440" cy="407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2" name="Group 817"/>
              <p:cNvGrpSpPr/>
              <p:nvPr/>
            </p:nvGrpSpPr>
            <p:grpSpPr>
              <a:xfrm>
                <a:off x="3305160" y="5877720"/>
                <a:ext cx="698040" cy="518400"/>
                <a:chOff x="3305160" y="5877720"/>
                <a:chExt cx="698040" cy="518400"/>
              </a:xfrm>
            </p:grpSpPr>
            <p:sp>
              <p:nvSpPr>
                <p:cNvPr id="3163" name="Freeform 818"/>
                <p:cNvSpPr/>
                <p:nvPr/>
              </p:nvSpPr>
              <p:spPr>
                <a:xfrm>
                  <a:off x="3338640" y="5891400"/>
                  <a:ext cx="531720" cy="252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4" name="Freeform 819"/>
                <p:cNvSpPr/>
                <p:nvPr/>
              </p:nvSpPr>
              <p:spPr>
                <a:xfrm>
                  <a:off x="3620520" y="5895360"/>
                  <a:ext cx="250200" cy="500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Freeform 820"/>
                <p:cNvSpPr/>
                <p:nvPr/>
              </p:nvSpPr>
              <p:spPr>
                <a:xfrm>
                  <a:off x="3305160" y="5877720"/>
                  <a:ext cx="565560" cy="168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Freeform 821"/>
                <p:cNvSpPr/>
                <p:nvPr/>
              </p:nvSpPr>
              <p:spPr>
                <a:xfrm flipH="1" rot="21135600">
                  <a:off x="3402720" y="5917680"/>
                  <a:ext cx="466560" cy="40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Freeform 822"/>
                <p:cNvSpPr/>
                <p:nvPr/>
              </p:nvSpPr>
              <p:spPr>
                <a:xfrm rot="18567600">
                  <a:off x="3558600" y="6030360"/>
                  <a:ext cx="441720" cy="215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8" name="TextBox 862"/>
            <p:cNvSpPr/>
            <p:nvPr/>
          </p:nvSpPr>
          <p:spPr>
            <a:xfrm>
              <a:off x="3648600" y="6283080"/>
              <a:ext cx="672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9" name="Группа 872"/>
          <p:cNvGrpSpPr/>
          <p:nvPr/>
        </p:nvGrpSpPr>
        <p:grpSpPr>
          <a:xfrm>
            <a:off x="991080" y="4109760"/>
            <a:ext cx="1747800" cy="2671920"/>
            <a:chOff x="991080" y="4109760"/>
            <a:chExt cx="1747800" cy="2671920"/>
          </a:xfrm>
        </p:grpSpPr>
        <p:grpSp>
          <p:nvGrpSpPr>
            <p:cNvPr id="3170" name="Group 381"/>
            <p:cNvGrpSpPr/>
            <p:nvPr/>
          </p:nvGrpSpPr>
          <p:grpSpPr>
            <a:xfrm>
              <a:off x="991080" y="4109760"/>
              <a:ext cx="1747800" cy="2348280"/>
              <a:chOff x="991080" y="4109760"/>
              <a:chExt cx="1747800" cy="2348280"/>
            </a:xfrm>
          </p:grpSpPr>
          <p:sp>
            <p:nvSpPr>
              <p:cNvPr id="3171" name="Line 382"/>
              <p:cNvSpPr/>
              <p:nvPr/>
            </p:nvSpPr>
            <p:spPr>
              <a:xfrm>
                <a:off x="1870560" y="4412160"/>
                <a:ext cx="10800" cy="14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AutoShape 383"/>
              <p:cNvSpPr/>
              <p:nvPr/>
            </p:nvSpPr>
            <p:spPr>
              <a:xfrm rot="10800000">
                <a:off x="1694520" y="4109760"/>
                <a:ext cx="348480" cy="312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Arc 384"/>
              <p:cNvSpPr/>
              <p:nvPr/>
            </p:nvSpPr>
            <p:spPr>
              <a:xfrm flipV="1">
                <a:off x="1870560" y="4658040"/>
                <a:ext cx="175680" cy="27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rc 385"/>
              <p:cNvSpPr/>
              <p:nvPr/>
            </p:nvSpPr>
            <p:spPr>
              <a:xfrm flipH="1" flipV="1" rot="1816200">
                <a:off x="1966680" y="4482000"/>
                <a:ext cx="112680" cy="184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Line 386"/>
              <p:cNvSpPr/>
              <p:nvPr/>
            </p:nvSpPr>
            <p:spPr>
              <a:xfrm flipV="1">
                <a:off x="1894680" y="4506840"/>
                <a:ext cx="26424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Line 387"/>
              <p:cNvSpPr/>
              <p:nvPr/>
            </p:nvSpPr>
            <p:spPr>
              <a:xfrm flipV="1">
                <a:off x="2036880" y="4490640"/>
                <a:ext cx="324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AutoShape 388"/>
              <p:cNvSpPr/>
              <p:nvPr/>
            </p:nvSpPr>
            <p:spPr>
              <a:xfrm rot="14044200">
                <a:off x="2113560" y="4347720"/>
                <a:ext cx="277560" cy="24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AutoShape 389"/>
              <p:cNvSpPr/>
              <p:nvPr/>
            </p:nvSpPr>
            <p:spPr>
              <a:xfrm rot="10800000">
                <a:off x="1934640" y="4344120"/>
                <a:ext cx="193320" cy="187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Arc 390"/>
              <p:cNvSpPr/>
              <p:nvPr/>
            </p:nvSpPr>
            <p:spPr>
              <a:xfrm flipH="1" flipV="1">
                <a:off x="1736640" y="5253840"/>
                <a:ext cx="157320" cy="232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Arc 391"/>
              <p:cNvSpPr/>
              <p:nvPr/>
            </p:nvSpPr>
            <p:spPr>
              <a:xfrm flipV="1" rot="19780800">
                <a:off x="1694520" y="5031000"/>
                <a:ext cx="95040" cy="12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Line 392"/>
              <p:cNvSpPr/>
              <p:nvPr/>
            </p:nvSpPr>
            <p:spPr>
              <a:xfrm>
                <a:off x="1613880" y="4983480"/>
                <a:ext cx="306360" cy="52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AutoShape 393"/>
              <p:cNvSpPr/>
              <p:nvPr/>
            </p:nvSpPr>
            <p:spPr>
              <a:xfrm flipH="1" rot="8721600">
                <a:off x="1356480" y="4810320"/>
                <a:ext cx="313560" cy="19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3" name="Group 394"/>
              <p:cNvGrpSpPr/>
              <p:nvPr/>
            </p:nvGrpSpPr>
            <p:grpSpPr>
              <a:xfrm>
                <a:off x="1729800" y="5244840"/>
                <a:ext cx="1009080" cy="700200"/>
                <a:chOff x="1729800" y="5244840"/>
                <a:chExt cx="1009080" cy="700200"/>
              </a:xfrm>
            </p:grpSpPr>
            <p:grpSp>
              <p:nvGrpSpPr>
                <p:cNvPr id="3184" name="Group 395"/>
                <p:cNvGrpSpPr/>
                <p:nvPr/>
              </p:nvGrpSpPr>
              <p:grpSpPr>
                <a:xfrm>
                  <a:off x="1977840" y="5244840"/>
                  <a:ext cx="761040" cy="502200"/>
                  <a:chOff x="1977840" y="5244840"/>
                  <a:chExt cx="761040" cy="502200"/>
                </a:xfrm>
              </p:grpSpPr>
              <p:grpSp>
                <p:nvGrpSpPr>
                  <p:cNvPr id="3185" name="Group 396"/>
                  <p:cNvGrpSpPr/>
                  <p:nvPr/>
                </p:nvGrpSpPr>
                <p:grpSpPr>
                  <a:xfrm>
                    <a:off x="2448720" y="5378760"/>
                    <a:ext cx="290160" cy="333360"/>
                    <a:chOff x="2448720" y="5378760"/>
                    <a:chExt cx="290160" cy="333360"/>
                  </a:xfrm>
                </p:grpSpPr>
                <p:cxnSp>
                  <p:nvCxnSpPr>
                    <p:cNvPr id="3186" name="AutoShape 397"/>
                    <p:cNvCxnSpPr/>
                    <p:nvPr/>
                  </p:nvCxnSpPr>
                  <p:spPr>
                    <a:xfrm flipH="1">
                      <a:off x="2593800" y="5378760"/>
                      <a:ext cx="14544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187" name="AutoShape 398"/>
                    <p:cNvCxnSpPr/>
                    <p:nvPr/>
                  </p:nvCxnSpPr>
                  <p:spPr>
                    <a:xfrm flipH="1">
                      <a:off x="2448720" y="5620320"/>
                      <a:ext cx="22644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188" name="AutoShape 399"/>
                    <p:cNvCxnSpPr/>
                    <p:nvPr/>
                  </p:nvCxnSpPr>
                  <p:spPr>
                    <a:xfrm flipH="1">
                      <a:off x="2593800" y="5470200"/>
                      <a:ext cx="145440" cy="69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189" name="AutoShape 400"/>
                    <p:cNvCxnSpPr/>
                    <p:nvPr/>
                  </p:nvCxnSpPr>
                  <p:spPr>
                    <a:xfrm flipH="1">
                      <a:off x="2529720" y="5562000"/>
                      <a:ext cx="14544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190" name="Group 401"/>
                  <p:cNvGrpSpPr/>
                  <p:nvPr/>
                </p:nvGrpSpPr>
                <p:grpSpPr>
                  <a:xfrm>
                    <a:off x="2222640" y="5315040"/>
                    <a:ext cx="290160" cy="333360"/>
                    <a:chOff x="2222640" y="5315040"/>
                    <a:chExt cx="290160" cy="333360"/>
                  </a:xfrm>
                </p:grpSpPr>
                <p:cxnSp>
                  <p:nvCxnSpPr>
                    <p:cNvPr id="3191" name="AutoShape 402"/>
                    <p:cNvCxnSpPr/>
                    <p:nvPr/>
                  </p:nvCxnSpPr>
                  <p:spPr>
                    <a:xfrm flipH="1">
                      <a:off x="2367720" y="5315040"/>
                      <a:ext cx="14544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192" name="AutoShape 403"/>
                    <p:cNvCxnSpPr/>
                    <p:nvPr/>
                  </p:nvCxnSpPr>
                  <p:spPr>
                    <a:xfrm flipH="1">
                      <a:off x="2222640" y="5556600"/>
                      <a:ext cx="22644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193" name="AutoShape 404"/>
                    <p:cNvCxnSpPr/>
                    <p:nvPr/>
                  </p:nvCxnSpPr>
                  <p:spPr>
                    <a:xfrm flipH="1">
                      <a:off x="2367720" y="5406480"/>
                      <a:ext cx="145440" cy="69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194" name="AutoShape 405"/>
                    <p:cNvCxnSpPr/>
                    <p:nvPr/>
                  </p:nvCxnSpPr>
                  <p:spPr>
                    <a:xfrm flipH="1">
                      <a:off x="2303640" y="5498280"/>
                      <a:ext cx="14544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195" name="Group 406"/>
                  <p:cNvGrpSpPr/>
                  <p:nvPr/>
                </p:nvGrpSpPr>
                <p:grpSpPr>
                  <a:xfrm>
                    <a:off x="2029680" y="5245920"/>
                    <a:ext cx="225000" cy="391680"/>
                    <a:chOff x="2029680" y="5245920"/>
                    <a:chExt cx="225000" cy="391680"/>
                  </a:xfrm>
                </p:grpSpPr>
                <p:cxnSp>
                  <p:nvCxnSpPr>
                    <p:cNvPr id="3196" name="AutoShape 407"/>
                    <p:cNvCxnSpPr/>
                    <p:nvPr/>
                  </p:nvCxnSpPr>
                  <p:spPr>
                    <a:xfrm flipH="1">
                      <a:off x="2113560" y="5245920"/>
                      <a:ext cx="119880" cy="123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197" name="AutoShape 408"/>
                    <p:cNvCxnSpPr/>
                    <p:nvPr/>
                  </p:nvCxnSpPr>
                  <p:spPr>
                    <a:xfrm flipH="1">
                      <a:off x="2029680" y="5495400"/>
                      <a:ext cx="198720" cy="142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198" name="AutoShape 409"/>
                    <p:cNvCxnSpPr/>
                    <p:nvPr/>
                  </p:nvCxnSpPr>
                  <p:spPr>
                    <a:xfrm flipH="1">
                      <a:off x="2129760" y="5334840"/>
                      <a:ext cx="125280" cy="101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199" name="AutoShape 410"/>
                    <p:cNvCxnSpPr/>
                    <p:nvPr/>
                  </p:nvCxnSpPr>
                  <p:spPr>
                    <a:xfrm flipH="1">
                      <a:off x="2086560" y="5438880"/>
                      <a:ext cx="12816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200" name="Group 411"/>
                  <p:cNvGrpSpPr/>
                  <p:nvPr/>
                </p:nvGrpSpPr>
                <p:grpSpPr>
                  <a:xfrm>
                    <a:off x="2435760" y="5298840"/>
                    <a:ext cx="173160" cy="448200"/>
                    <a:chOff x="2435760" y="5298840"/>
                    <a:chExt cx="173160" cy="448200"/>
                  </a:xfrm>
                </p:grpSpPr>
                <p:cxnSp>
                  <p:nvCxnSpPr>
                    <p:cNvPr id="3201" name="AutoShape 412"/>
                    <p:cNvCxnSpPr/>
                    <p:nvPr/>
                  </p:nvCxnSpPr>
                  <p:spPr>
                    <a:xfrm>
                      <a:off x="2596320" y="5298840"/>
                      <a:ext cx="12960" cy="164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02" name="AutoShape 413"/>
                    <p:cNvCxnSpPr/>
                    <p:nvPr/>
                  </p:nvCxnSpPr>
                  <p:spPr>
                    <a:xfrm>
                      <a:off x="2435760" y="5532480"/>
                      <a:ext cx="62280" cy="214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03" name="AutoShape 414"/>
                    <p:cNvCxnSpPr/>
                    <p:nvPr/>
                  </p:nvCxnSpPr>
                  <p:spPr>
                    <a:xfrm>
                      <a:off x="2521080" y="5371920"/>
                      <a:ext cx="32040" cy="146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04" name="AutoShape 415"/>
                    <p:cNvCxnSpPr/>
                    <p:nvPr/>
                  </p:nvCxnSpPr>
                  <p:spPr>
                    <a:xfrm>
                      <a:off x="2484360" y="5485680"/>
                      <a:ext cx="40320" cy="137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205" name="Group 416"/>
                  <p:cNvGrpSpPr/>
                  <p:nvPr/>
                </p:nvGrpSpPr>
                <p:grpSpPr>
                  <a:xfrm>
                    <a:off x="1977840" y="5244840"/>
                    <a:ext cx="167400" cy="435960"/>
                    <a:chOff x="1977840" y="5244840"/>
                    <a:chExt cx="167400" cy="435960"/>
                  </a:xfrm>
                </p:grpSpPr>
                <p:cxnSp>
                  <p:nvCxnSpPr>
                    <p:cNvPr id="3206" name="AutoShape 417"/>
                    <p:cNvCxnSpPr/>
                    <p:nvPr/>
                  </p:nvCxnSpPr>
                  <p:spPr>
                    <a:xfrm>
                      <a:off x="2129040" y="5244840"/>
                      <a:ext cx="16560" cy="161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07" name="AutoShape 418"/>
                    <p:cNvCxnSpPr/>
                    <p:nvPr/>
                  </p:nvCxnSpPr>
                  <p:spPr>
                    <a:xfrm>
                      <a:off x="1977840" y="5469120"/>
                      <a:ext cx="66600" cy="212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08" name="AutoShape 419"/>
                    <p:cNvCxnSpPr/>
                    <p:nvPr/>
                  </p:nvCxnSpPr>
                  <p:spPr>
                    <a:xfrm>
                      <a:off x="2057400" y="5315040"/>
                      <a:ext cx="34560" cy="143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09" name="AutoShape 420"/>
                    <p:cNvCxnSpPr/>
                    <p:nvPr/>
                  </p:nvCxnSpPr>
                  <p:spPr>
                    <a:xfrm>
                      <a:off x="2024640" y="5424840"/>
                      <a:ext cx="42480" cy="135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210" name="Group 421"/>
                  <p:cNvGrpSpPr/>
                  <p:nvPr/>
                </p:nvGrpSpPr>
                <p:grpSpPr>
                  <a:xfrm>
                    <a:off x="2166840" y="5276520"/>
                    <a:ext cx="173160" cy="448200"/>
                    <a:chOff x="2166840" y="5276520"/>
                    <a:chExt cx="173160" cy="448200"/>
                  </a:xfrm>
                </p:grpSpPr>
                <p:cxnSp>
                  <p:nvCxnSpPr>
                    <p:cNvPr id="3211" name="AutoShape 422"/>
                    <p:cNvCxnSpPr/>
                    <p:nvPr/>
                  </p:nvCxnSpPr>
                  <p:spPr>
                    <a:xfrm>
                      <a:off x="2327400" y="5276520"/>
                      <a:ext cx="12960" cy="164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12" name="AutoShape 423"/>
                    <p:cNvCxnSpPr/>
                    <p:nvPr/>
                  </p:nvCxnSpPr>
                  <p:spPr>
                    <a:xfrm>
                      <a:off x="2166840" y="5510160"/>
                      <a:ext cx="62280" cy="214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13" name="AutoShape 424"/>
                    <p:cNvCxnSpPr/>
                    <p:nvPr/>
                  </p:nvCxnSpPr>
                  <p:spPr>
                    <a:xfrm>
                      <a:off x="2252160" y="5349600"/>
                      <a:ext cx="32040" cy="146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14" name="AutoShape 425"/>
                    <p:cNvCxnSpPr/>
                    <p:nvPr/>
                  </p:nvCxnSpPr>
                  <p:spPr>
                    <a:xfrm>
                      <a:off x="2215440" y="5463360"/>
                      <a:ext cx="40320" cy="137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3215" name="Group 426"/>
                <p:cNvGrpSpPr/>
                <p:nvPr/>
              </p:nvGrpSpPr>
              <p:grpSpPr>
                <a:xfrm>
                  <a:off x="1729800" y="5271840"/>
                  <a:ext cx="885240" cy="673200"/>
                  <a:chOff x="1729800" y="5271840"/>
                  <a:chExt cx="885240" cy="673200"/>
                </a:xfrm>
              </p:grpSpPr>
              <p:sp>
                <p:nvSpPr>
                  <p:cNvPr id="3216" name="Arc 427"/>
                  <p:cNvSpPr/>
                  <p:nvPr/>
                </p:nvSpPr>
                <p:spPr>
                  <a:xfrm flipV="1" rot="21094200">
                    <a:off x="1765800" y="5314680"/>
                    <a:ext cx="628560" cy="536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7" name="Arc 428"/>
                  <p:cNvSpPr/>
                  <p:nvPr/>
                </p:nvSpPr>
                <p:spPr>
                  <a:xfrm flipV="1" rot="245400">
                    <a:off x="1963440" y="5314320"/>
                    <a:ext cx="630360" cy="608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8" name="Arc 429"/>
                  <p:cNvSpPr/>
                  <p:nvPr/>
                </p:nvSpPr>
                <p:spPr>
                  <a:xfrm flipV="1">
                    <a:off x="1765800" y="5315040"/>
                    <a:ext cx="362160" cy="536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19" name="Group 430"/>
              <p:cNvGrpSpPr/>
              <p:nvPr/>
            </p:nvGrpSpPr>
            <p:grpSpPr>
              <a:xfrm>
                <a:off x="991080" y="5247000"/>
                <a:ext cx="1008720" cy="700200"/>
                <a:chOff x="991080" y="5247000"/>
                <a:chExt cx="1008720" cy="700200"/>
              </a:xfrm>
            </p:grpSpPr>
            <p:grpSp>
              <p:nvGrpSpPr>
                <p:cNvPr id="3220" name="Group 431"/>
                <p:cNvGrpSpPr/>
                <p:nvPr/>
              </p:nvGrpSpPr>
              <p:grpSpPr>
                <a:xfrm>
                  <a:off x="991080" y="5247000"/>
                  <a:ext cx="761040" cy="502200"/>
                  <a:chOff x="991080" y="5247000"/>
                  <a:chExt cx="761040" cy="502200"/>
                </a:xfrm>
              </p:grpSpPr>
              <p:grpSp>
                <p:nvGrpSpPr>
                  <p:cNvPr id="3221" name="Group 432"/>
                  <p:cNvGrpSpPr/>
                  <p:nvPr/>
                </p:nvGrpSpPr>
                <p:grpSpPr>
                  <a:xfrm>
                    <a:off x="991080" y="5380920"/>
                    <a:ext cx="290160" cy="333360"/>
                    <a:chOff x="991080" y="5380920"/>
                    <a:chExt cx="290160" cy="333360"/>
                  </a:xfrm>
                </p:grpSpPr>
                <p:cxnSp>
                  <p:nvCxnSpPr>
                    <p:cNvPr id="3222" name="AutoShape 433"/>
                    <p:cNvCxnSpPr/>
                    <p:nvPr/>
                  </p:nvCxnSpPr>
                  <p:spPr>
                    <a:xfrm>
                      <a:off x="991080" y="5380920"/>
                      <a:ext cx="14544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23" name="AutoShape 434"/>
                    <p:cNvCxnSpPr/>
                    <p:nvPr/>
                  </p:nvCxnSpPr>
                  <p:spPr>
                    <a:xfrm>
                      <a:off x="1055160" y="5622480"/>
                      <a:ext cx="22644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24" name="AutoShape 435"/>
                    <p:cNvCxnSpPr/>
                    <p:nvPr/>
                  </p:nvCxnSpPr>
                  <p:spPr>
                    <a:xfrm>
                      <a:off x="991080" y="5472360"/>
                      <a:ext cx="145440" cy="69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25" name="AutoShape 436"/>
                    <p:cNvCxnSpPr/>
                    <p:nvPr/>
                  </p:nvCxnSpPr>
                  <p:spPr>
                    <a:xfrm>
                      <a:off x="1055160" y="5564160"/>
                      <a:ext cx="14544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226" name="Group 437"/>
                  <p:cNvGrpSpPr/>
                  <p:nvPr/>
                </p:nvGrpSpPr>
                <p:grpSpPr>
                  <a:xfrm>
                    <a:off x="1217160" y="5317200"/>
                    <a:ext cx="290160" cy="333360"/>
                    <a:chOff x="1217160" y="5317200"/>
                    <a:chExt cx="290160" cy="333360"/>
                  </a:xfrm>
                </p:grpSpPr>
                <p:cxnSp>
                  <p:nvCxnSpPr>
                    <p:cNvPr id="3227" name="AutoShape 438"/>
                    <p:cNvCxnSpPr/>
                    <p:nvPr/>
                  </p:nvCxnSpPr>
                  <p:spPr>
                    <a:xfrm>
                      <a:off x="1217160" y="5317200"/>
                      <a:ext cx="14544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28" name="AutoShape 439"/>
                    <p:cNvCxnSpPr/>
                    <p:nvPr/>
                  </p:nvCxnSpPr>
                  <p:spPr>
                    <a:xfrm>
                      <a:off x="1281240" y="5558760"/>
                      <a:ext cx="226440" cy="9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29" name="AutoShape 440"/>
                    <p:cNvCxnSpPr/>
                    <p:nvPr/>
                  </p:nvCxnSpPr>
                  <p:spPr>
                    <a:xfrm>
                      <a:off x="1217160" y="5408640"/>
                      <a:ext cx="145440" cy="69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30" name="AutoShape 441"/>
                    <p:cNvCxnSpPr/>
                    <p:nvPr/>
                  </p:nvCxnSpPr>
                  <p:spPr>
                    <a:xfrm>
                      <a:off x="1281240" y="5500440"/>
                      <a:ext cx="145440" cy="59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231" name="Group 442"/>
                  <p:cNvGrpSpPr/>
                  <p:nvPr/>
                </p:nvGrpSpPr>
                <p:grpSpPr>
                  <a:xfrm>
                    <a:off x="1475280" y="5248080"/>
                    <a:ext cx="225000" cy="391680"/>
                    <a:chOff x="1475280" y="5248080"/>
                    <a:chExt cx="225000" cy="391680"/>
                  </a:xfrm>
                </p:grpSpPr>
                <p:cxnSp>
                  <p:nvCxnSpPr>
                    <p:cNvPr id="3232" name="AutoShape 443"/>
                    <p:cNvCxnSpPr/>
                    <p:nvPr/>
                  </p:nvCxnSpPr>
                  <p:spPr>
                    <a:xfrm>
                      <a:off x="1496880" y="5248080"/>
                      <a:ext cx="119880" cy="123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33" name="AutoShape 444"/>
                    <p:cNvCxnSpPr/>
                    <p:nvPr/>
                  </p:nvCxnSpPr>
                  <p:spPr>
                    <a:xfrm>
                      <a:off x="1501920" y="5497560"/>
                      <a:ext cx="198720" cy="142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34" name="AutoShape 445"/>
                    <p:cNvCxnSpPr/>
                    <p:nvPr/>
                  </p:nvCxnSpPr>
                  <p:spPr>
                    <a:xfrm>
                      <a:off x="1475280" y="5337000"/>
                      <a:ext cx="125280" cy="101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35" name="AutoShape 446"/>
                    <p:cNvCxnSpPr/>
                    <p:nvPr/>
                  </p:nvCxnSpPr>
                  <p:spPr>
                    <a:xfrm>
                      <a:off x="1515600" y="5441040"/>
                      <a:ext cx="12816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236" name="Group 447"/>
                  <p:cNvGrpSpPr/>
                  <p:nvPr/>
                </p:nvGrpSpPr>
                <p:grpSpPr>
                  <a:xfrm>
                    <a:off x="1121040" y="5301000"/>
                    <a:ext cx="173160" cy="448200"/>
                    <a:chOff x="1121040" y="5301000"/>
                    <a:chExt cx="173160" cy="448200"/>
                  </a:xfrm>
                </p:grpSpPr>
                <p:cxnSp>
                  <p:nvCxnSpPr>
                    <p:cNvPr id="3237" name="AutoShape 448"/>
                    <p:cNvCxnSpPr/>
                    <p:nvPr/>
                  </p:nvCxnSpPr>
                  <p:spPr>
                    <a:xfrm flipH="1">
                      <a:off x="1121040" y="5301000"/>
                      <a:ext cx="12960" cy="164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38" name="AutoShape 449"/>
                    <p:cNvCxnSpPr/>
                    <p:nvPr/>
                  </p:nvCxnSpPr>
                  <p:spPr>
                    <a:xfrm flipH="1">
                      <a:off x="1232280" y="5534640"/>
                      <a:ext cx="62280" cy="214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39" name="AutoShape 450"/>
                    <p:cNvCxnSpPr/>
                    <p:nvPr/>
                  </p:nvCxnSpPr>
                  <p:spPr>
                    <a:xfrm flipH="1">
                      <a:off x="1177200" y="5374080"/>
                      <a:ext cx="32040" cy="146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40" name="AutoShape 451"/>
                    <p:cNvCxnSpPr/>
                    <p:nvPr/>
                  </p:nvCxnSpPr>
                  <p:spPr>
                    <a:xfrm flipH="1">
                      <a:off x="1205640" y="5487840"/>
                      <a:ext cx="40320" cy="137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241" name="Group 452"/>
                  <p:cNvGrpSpPr/>
                  <p:nvPr/>
                </p:nvGrpSpPr>
                <p:grpSpPr>
                  <a:xfrm>
                    <a:off x="1584720" y="5247000"/>
                    <a:ext cx="167400" cy="435960"/>
                    <a:chOff x="1584720" y="5247000"/>
                    <a:chExt cx="167400" cy="435960"/>
                  </a:xfrm>
                </p:grpSpPr>
                <p:cxnSp>
                  <p:nvCxnSpPr>
                    <p:cNvPr id="3242" name="AutoShape 453"/>
                    <p:cNvCxnSpPr/>
                    <p:nvPr/>
                  </p:nvCxnSpPr>
                  <p:spPr>
                    <a:xfrm flipH="1">
                      <a:off x="1584720" y="5247000"/>
                      <a:ext cx="16560" cy="161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43" name="AutoShape 454"/>
                    <p:cNvCxnSpPr/>
                    <p:nvPr/>
                  </p:nvCxnSpPr>
                  <p:spPr>
                    <a:xfrm flipH="1">
                      <a:off x="1685880" y="5471280"/>
                      <a:ext cx="66600" cy="212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44" name="AutoShape 455"/>
                    <p:cNvCxnSpPr/>
                    <p:nvPr/>
                  </p:nvCxnSpPr>
                  <p:spPr>
                    <a:xfrm flipH="1">
                      <a:off x="1638360" y="5317200"/>
                      <a:ext cx="34560" cy="1432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45" name="AutoShape 456"/>
                    <p:cNvCxnSpPr/>
                    <p:nvPr/>
                  </p:nvCxnSpPr>
                  <p:spPr>
                    <a:xfrm flipH="1">
                      <a:off x="1663200" y="5427000"/>
                      <a:ext cx="42480" cy="135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3246" name="Group 457"/>
                  <p:cNvGrpSpPr/>
                  <p:nvPr/>
                </p:nvGrpSpPr>
                <p:grpSpPr>
                  <a:xfrm>
                    <a:off x="1389960" y="5278680"/>
                    <a:ext cx="173160" cy="448200"/>
                    <a:chOff x="1389960" y="5278680"/>
                    <a:chExt cx="173160" cy="448200"/>
                  </a:xfrm>
                </p:grpSpPr>
                <p:cxnSp>
                  <p:nvCxnSpPr>
                    <p:cNvPr id="3247" name="AutoShape 458"/>
                    <p:cNvCxnSpPr/>
                    <p:nvPr/>
                  </p:nvCxnSpPr>
                  <p:spPr>
                    <a:xfrm flipH="1">
                      <a:off x="1389960" y="5278680"/>
                      <a:ext cx="12960" cy="164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48" name="AutoShape 459"/>
                    <p:cNvCxnSpPr/>
                    <p:nvPr/>
                  </p:nvCxnSpPr>
                  <p:spPr>
                    <a:xfrm flipH="1">
                      <a:off x="1501200" y="5512320"/>
                      <a:ext cx="62280" cy="214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49" name="AutoShape 460"/>
                    <p:cNvCxnSpPr/>
                    <p:nvPr/>
                  </p:nvCxnSpPr>
                  <p:spPr>
                    <a:xfrm flipH="1">
                      <a:off x="1446120" y="5351760"/>
                      <a:ext cx="32040" cy="146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3250" name="AutoShape 461"/>
                    <p:cNvCxnSpPr/>
                    <p:nvPr/>
                  </p:nvCxnSpPr>
                  <p:spPr>
                    <a:xfrm flipH="1">
                      <a:off x="1474560" y="5465520"/>
                      <a:ext cx="40320" cy="1378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3251" name="Group 462"/>
                <p:cNvGrpSpPr/>
                <p:nvPr/>
              </p:nvGrpSpPr>
              <p:grpSpPr>
                <a:xfrm>
                  <a:off x="1115280" y="5274000"/>
                  <a:ext cx="884520" cy="673200"/>
                  <a:chOff x="1115280" y="5274000"/>
                  <a:chExt cx="884520" cy="673200"/>
                </a:xfrm>
              </p:grpSpPr>
              <p:sp>
                <p:nvSpPr>
                  <p:cNvPr id="3252" name="Arc 463"/>
                  <p:cNvSpPr/>
                  <p:nvPr/>
                </p:nvSpPr>
                <p:spPr>
                  <a:xfrm flipH="1" flipV="1" rot="505800">
                    <a:off x="1334880" y="5316840"/>
                    <a:ext cx="628560" cy="536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Arc 464"/>
                  <p:cNvSpPr/>
                  <p:nvPr/>
                </p:nvSpPr>
                <p:spPr>
                  <a:xfrm flipH="1" flipV="1" rot="21354600">
                    <a:off x="1135800" y="5316480"/>
                    <a:ext cx="630360" cy="608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4" name="Arc 465"/>
                  <p:cNvSpPr/>
                  <p:nvPr/>
                </p:nvSpPr>
                <p:spPr>
                  <a:xfrm flipH="1" flipV="1">
                    <a:off x="1602000" y="5317200"/>
                    <a:ext cx="362160" cy="536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55" name="Group 466"/>
              <p:cNvGrpSpPr/>
              <p:nvPr/>
            </p:nvGrpSpPr>
            <p:grpSpPr>
              <a:xfrm>
                <a:off x="1235520" y="5793840"/>
                <a:ext cx="1284120" cy="664200"/>
                <a:chOff x="1235520" y="5793840"/>
                <a:chExt cx="1284120" cy="664200"/>
              </a:xfrm>
            </p:grpSpPr>
            <p:sp>
              <p:nvSpPr>
                <p:cNvPr id="3256" name="Freeform 467"/>
                <p:cNvSpPr/>
                <p:nvPr/>
              </p:nvSpPr>
              <p:spPr>
                <a:xfrm>
                  <a:off x="1835640" y="5922000"/>
                  <a:ext cx="347760" cy="439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Freeform 468"/>
                <p:cNvSpPr/>
                <p:nvPr/>
              </p:nvSpPr>
              <p:spPr>
                <a:xfrm>
                  <a:off x="1883880" y="5899320"/>
                  <a:ext cx="447480" cy="295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Freeform 469"/>
                <p:cNvSpPr/>
                <p:nvPr/>
              </p:nvSpPr>
              <p:spPr>
                <a:xfrm rot="772200">
                  <a:off x="1330920" y="5835960"/>
                  <a:ext cx="433080" cy="477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Freeform 470"/>
                <p:cNvSpPr/>
                <p:nvPr/>
              </p:nvSpPr>
              <p:spPr>
                <a:xfrm>
                  <a:off x="1834200" y="5896080"/>
                  <a:ext cx="452520" cy="391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Rectangle 471"/>
                <p:cNvSpPr/>
                <p:nvPr/>
              </p:nvSpPr>
              <p:spPr>
                <a:xfrm>
                  <a:off x="1764360" y="5849640"/>
                  <a:ext cx="191160" cy="12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472"/>
                <p:cNvSpPr/>
                <p:nvPr/>
              </p:nvSpPr>
              <p:spPr>
                <a:xfrm rot="1519200">
                  <a:off x="1835280" y="5988960"/>
                  <a:ext cx="451800" cy="391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62" name="Group 473"/>
                <p:cNvGrpSpPr/>
                <p:nvPr/>
              </p:nvGrpSpPr>
              <p:grpSpPr>
                <a:xfrm>
                  <a:off x="1235520" y="5882760"/>
                  <a:ext cx="675000" cy="497520"/>
                  <a:chOff x="1235520" y="5882760"/>
                  <a:chExt cx="675000" cy="497520"/>
                </a:xfrm>
              </p:grpSpPr>
              <p:sp>
                <p:nvSpPr>
                  <p:cNvPr id="3263" name="Freeform 474"/>
                  <p:cNvSpPr/>
                  <p:nvPr/>
                </p:nvSpPr>
                <p:spPr>
                  <a:xfrm>
                    <a:off x="1267920" y="5895720"/>
                    <a:ext cx="515520" cy="241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Freeform 475"/>
                  <p:cNvSpPr/>
                  <p:nvPr/>
                </p:nvSpPr>
                <p:spPr>
                  <a:xfrm>
                    <a:off x="1541160" y="5899680"/>
                    <a:ext cx="242640" cy="480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Freeform 476"/>
                  <p:cNvSpPr/>
                  <p:nvPr/>
                </p:nvSpPr>
                <p:spPr>
                  <a:xfrm>
                    <a:off x="1235520" y="5882760"/>
                    <a:ext cx="548280" cy="16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Freeform 477"/>
                  <p:cNvSpPr/>
                  <p:nvPr/>
                </p:nvSpPr>
                <p:spPr>
                  <a:xfrm flipH="1" rot="21135600">
                    <a:off x="1330560" y="5920560"/>
                    <a:ext cx="452520" cy="3920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Freeform 478"/>
                  <p:cNvSpPr/>
                  <p:nvPr/>
                </p:nvSpPr>
                <p:spPr>
                  <a:xfrm rot="18567600">
                    <a:off x="1483200" y="6027840"/>
                    <a:ext cx="423720" cy="208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8" name="Group 479"/>
                <p:cNvGrpSpPr/>
                <p:nvPr/>
              </p:nvGrpSpPr>
              <p:grpSpPr>
                <a:xfrm>
                  <a:off x="1845000" y="5849640"/>
                  <a:ext cx="674640" cy="497520"/>
                  <a:chOff x="1845000" y="5849640"/>
                  <a:chExt cx="674640" cy="497520"/>
                </a:xfrm>
              </p:grpSpPr>
              <p:sp>
                <p:nvSpPr>
                  <p:cNvPr id="3269" name="Freeform 480"/>
                  <p:cNvSpPr/>
                  <p:nvPr/>
                </p:nvSpPr>
                <p:spPr>
                  <a:xfrm flipH="1">
                    <a:off x="1971720" y="5862600"/>
                    <a:ext cx="515160" cy="241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0" name="Freeform 481"/>
                  <p:cNvSpPr/>
                  <p:nvPr/>
                </p:nvSpPr>
                <p:spPr>
                  <a:xfrm flipH="1">
                    <a:off x="1971360" y="5866560"/>
                    <a:ext cx="242280" cy="480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1" name="Freeform 482"/>
                  <p:cNvSpPr/>
                  <p:nvPr/>
                </p:nvSpPr>
                <p:spPr>
                  <a:xfrm flipH="1">
                    <a:off x="1971720" y="5849640"/>
                    <a:ext cx="547920" cy="16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2" name="Freeform 483"/>
                  <p:cNvSpPr/>
                  <p:nvPr/>
                </p:nvSpPr>
                <p:spPr>
                  <a:xfrm rot="464400">
                    <a:off x="1972080" y="5887440"/>
                    <a:ext cx="452160" cy="3920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3" name="Freeform 484"/>
                  <p:cNvSpPr/>
                  <p:nvPr/>
                </p:nvSpPr>
                <p:spPr>
                  <a:xfrm flipH="1" rot="3032400">
                    <a:off x="1848240" y="5994720"/>
                    <a:ext cx="423720" cy="208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74" name="TextBox 863"/>
            <p:cNvSpPr/>
            <p:nvPr/>
          </p:nvSpPr>
          <p:spPr>
            <a:xfrm>
              <a:off x="1600200" y="6321960"/>
              <a:ext cx="834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5" name="Группа 874"/>
          <p:cNvGrpSpPr/>
          <p:nvPr/>
        </p:nvGrpSpPr>
        <p:grpSpPr>
          <a:xfrm>
            <a:off x="4800600" y="5325480"/>
            <a:ext cx="990360" cy="1417320"/>
            <a:chOff x="4800600" y="5325480"/>
            <a:chExt cx="990360" cy="1417320"/>
          </a:xfrm>
        </p:grpSpPr>
        <p:grpSp>
          <p:nvGrpSpPr>
            <p:cNvPr id="3276" name="Group 823"/>
            <p:cNvGrpSpPr/>
            <p:nvPr/>
          </p:nvGrpSpPr>
          <p:grpSpPr>
            <a:xfrm>
              <a:off x="4800600" y="5325480"/>
              <a:ext cx="990360" cy="1091160"/>
              <a:chOff x="4800600" y="5325480"/>
              <a:chExt cx="990360" cy="1091160"/>
            </a:xfrm>
          </p:grpSpPr>
          <p:sp>
            <p:nvSpPr>
              <p:cNvPr id="3277" name="Rectangle 824"/>
              <p:cNvSpPr/>
              <p:nvPr/>
            </p:nvSpPr>
            <p:spPr>
              <a:xfrm>
                <a:off x="5244120" y="5843160"/>
                <a:ext cx="15984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8" name="Group 825"/>
              <p:cNvGrpSpPr/>
              <p:nvPr/>
            </p:nvGrpSpPr>
            <p:grpSpPr>
              <a:xfrm>
                <a:off x="4905360" y="5325480"/>
                <a:ext cx="402120" cy="541080"/>
                <a:chOff x="4905360" y="5325480"/>
                <a:chExt cx="402120" cy="541080"/>
              </a:xfrm>
            </p:grpSpPr>
            <p:sp>
              <p:nvSpPr>
                <p:cNvPr id="3279" name="Arc 826"/>
                <p:cNvSpPr/>
                <p:nvPr/>
              </p:nvSpPr>
              <p:spPr>
                <a:xfrm flipH="1" flipV="1" rot="21411600">
                  <a:off x="4978080" y="5333040"/>
                  <a:ext cx="315360" cy="524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80" name="Group 827"/>
                <p:cNvGrpSpPr/>
                <p:nvPr/>
              </p:nvGrpSpPr>
              <p:grpSpPr>
                <a:xfrm>
                  <a:off x="4905360" y="5418360"/>
                  <a:ext cx="158040" cy="218520"/>
                  <a:chOff x="4905360" y="5418360"/>
                  <a:chExt cx="158040" cy="218520"/>
                </a:xfrm>
              </p:grpSpPr>
              <p:cxnSp>
                <p:nvCxnSpPr>
                  <p:cNvPr id="3281" name="AutoShape 828"/>
                  <p:cNvCxnSpPr/>
                  <p:nvPr/>
                </p:nvCxnSpPr>
                <p:spPr>
                  <a:xfrm>
                    <a:off x="4917960" y="5516640"/>
                    <a:ext cx="70200" cy="35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82" name="AutoShape 829"/>
                  <p:cNvCxnSpPr/>
                  <p:nvPr/>
                </p:nvCxnSpPr>
                <p:spPr>
                  <a:xfrm>
                    <a:off x="4905360" y="5459760"/>
                    <a:ext cx="70200" cy="367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83" name="AutoShape 830"/>
                  <p:cNvCxnSpPr/>
                  <p:nvPr/>
                </p:nvCxnSpPr>
                <p:spPr>
                  <a:xfrm flipH="1">
                    <a:off x="4974840" y="5418360"/>
                    <a:ext cx="45360" cy="78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84" name="AutoShape 831"/>
                  <p:cNvCxnSpPr/>
                  <p:nvPr/>
                </p:nvCxnSpPr>
                <p:spPr>
                  <a:xfrm flipH="1">
                    <a:off x="4982760" y="5473800"/>
                    <a:ext cx="59400" cy="67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85" name="AutoShape 832"/>
                  <p:cNvCxnSpPr/>
                  <p:nvPr/>
                </p:nvCxnSpPr>
                <p:spPr>
                  <a:xfrm flipH="1">
                    <a:off x="5027400" y="5532120"/>
                    <a:ext cx="36360" cy="10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86" name="AutoShape 833"/>
                  <p:cNvCxnSpPr/>
                  <p:nvPr/>
                </p:nvCxnSpPr>
                <p:spPr>
                  <a:xfrm>
                    <a:off x="4939920" y="5577120"/>
                    <a:ext cx="95040" cy="576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sp>
            <p:nvSpPr>
              <p:cNvPr id="3287" name="Rectangle 834"/>
              <p:cNvSpPr/>
              <p:nvPr/>
            </p:nvSpPr>
            <p:spPr>
              <a:xfrm>
                <a:off x="5249160" y="5862600"/>
                <a:ext cx="150840" cy="1087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835"/>
              <p:cNvSpPr/>
              <p:nvPr/>
            </p:nvSpPr>
            <p:spPr>
              <a:xfrm>
                <a:off x="5404680" y="5971680"/>
                <a:ext cx="193680" cy="36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836"/>
              <p:cNvSpPr/>
              <p:nvPr/>
            </p:nvSpPr>
            <p:spPr>
              <a:xfrm>
                <a:off x="5391000" y="5878080"/>
                <a:ext cx="399960" cy="39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837"/>
              <p:cNvSpPr/>
              <p:nvPr/>
            </p:nvSpPr>
            <p:spPr>
              <a:xfrm rot="772200">
                <a:off x="4880160" y="5828400"/>
                <a:ext cx="363240" cy="505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838"/>
              <p:cNvSpPr/>
              <p:nvPr/>
            </p:nvSpPr>
            <p:spPr>
              <a:xfrm>
                <a:off x="5385600" y="5858640"/>
                <a:ext cx="361440" cy="413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839"/>
              <p:cNvSpPr/>
              <p:nvPr/>
            </p:nvSpPr>
            <p:spPr>
              <a:xfrm rot="1519200">
                <a:off x="5291640" y="5946840"/>
                <a:ext cx="352080" cy="414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3" name="Group 840"/>
              <p:cNvGrpSpPr/>
              <p:nvPr/>
            </p:nvGrpSpPr>
            <p:grpSpPr>
              <a:xfrm>
                <a:off x="4800600" y="5878080"/>
                <a:ext cx="594360" cy="526320"/>
                <a:chOff x="4800600" y="5878080"/>
                <a:chExt cx="594360" cy="526320"/>
              </a:xfrm>
            </p:grpSpPr>
            <p:sp>
              <p:nvSpPr>
                <p:cNvPr id="3294" name="Freeform 841"/>
                <p:cNvSpPr/>
                <p:nvPr/>
              </p:nvSpPr>
              <p:spPr>
                <a:xfrm>
                  <a:off x="4827960" y="5892120"/>
                  <a:ext cx="431640" cy="255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Freeform 842"/>
                <p:cNvSpPr/>
                <p:nvPr/>
              </p:nvSpPr>
              <p:spPr>
                <a:xfrm>
                  <a:off x="5056560" y="5896080"/>
                  <a:ext cx="203040" cy="508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843"/>
                <p:cNvSpPr/>
                <p:nvPr/>
              </p:nvSpPr>
              <p:spPr>
                <a:xfrm>
                  <a:off x="4800600" y="5878080"/>
                  <a:ext cx="459000" cy="170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Freeform 844"/>
                <p:cNvSpPr/>
                <p:nvPr/>
              </p:nvSpPr>
              <p:spPr>
                <a:xfrm flipH="1" rot="21135600">
                  <a:off x="4880160" y="5918400"/>
                  <a:ext cx="379080" cy="414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845"/>
                <p:cNvSpPr/>
                <p:nvPr/>
              </p:nvSpPr>
              <p:spPr>
                <a:xfrm rot="18567600">
                  <a:off x="4960800" y="6055560"/>
                  <a:ext cx="448560" cy="174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9" name="Group 846"/>
              <p:cNvGrpSpPr/>
              <p:nvPr/>
            </p:nvGrpSpPr>
            <p:grpSpPr>
              <a:xfrm>
                <a:off x="5340600" y="5363640"/>
                <a:ext cx="407880" cy="507240"/>
                <a:chOff x="5340600" y="5363640"/>
                <a:chExt cx="407880" cy="507240"/>
              </a:xfrm>
            </p:grpSpPr>
            <p:sp>
              <p:nvSpPr>
                <p:cNvPr id="3300" name="Arc 847"/>
                <p:cNvSpPr/>
                <p:nvPr/>
              </p:nvSpPr>
              <p:spPr>
                <a:xfrm flipV="1" rot="188400">
                  <a:off x="5353560" y="5371560"/>
                  <a:ext cx="323640" cy="490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1" name="Group 848"/>
                <p:cNvGrpSpPr/>
                <p:nvPr/>
              </p:nvGrpSpPr>
              <p:grpSpPr>
                <a:xfrm>
                  <a:off x="5590440" y="5448600"/>
                  <a:ext cx="158040" cy="207000"/>
                  <a:chOff x="5590440" y="5448600"/>
                  <a:chExt cx="158040" cy="207000"/>
                </a:xfrm>
              </p:grpSpPr>
              <p:cxnSp>
                <p:nvCxnSpPr>
                  <p:cNvPr id="3302" name="AutoShape 849"/>
                  <p:cNvCxnSpPr/>
                  <p:nvPr/>
                </p:nvCxnSpPr>
                <p:spPr>
                  <a:xfrm flipH="1">
                    <a:off x="5667840" y="5545080"/>
                    <a:ext cx="70200" cy="32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03" name="AutoShape 850"/>
                  <p:cNvCxnSpPr/>
                  <p:nvPr/>
                </p:nvCxnSpPr>
                <p:spPr>
                  <a:xfrm flipH="1">
                    <a:off x="5678640" y="5491440"/>
                    <a:ext cx="70200" cy="32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04" name="AutoShape 851"/>
                  <p:cNvCxnSpPr/>
                  <p:nvPr/>
                </p:nvCxnSpPr>
                <p:spPr>
                  <a:xfrm>
                    <a:off x="5631480" y="5448600"/>
                    <a:ext cx="47880" cy="75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05" name="AutoShape 852"/>
                  <p:cNvCxnSpPr/>
                  <p:nvPr/>
                </p:nvCxnSpPr>
                <p:spPr>
                  <a:xfrm>
                    <a:off x="5610600" y="5500800"/>
                    <a:ext cx="61920" cy="65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06" name="AutoShape 853"/>
                  <p:cNvCxnSpPr/>
                  <p:nvPr/>
                </p:nvCxnSpPr>
                <p:spPr>
                  <a:xfrm>
                    <a:off x="5590440" y="5555520"/>
                    <a:ext cx="39960" cy="100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07" name="AutoShape 854"/>
                  <p:cNvCxnSpPr/>
                  <p:nvPr/>
                </p:nvCxnSpPr>
                <p:spPr>
                  <a:xfrm flipH="1">
                    <a:off x="5622480" y="5601600"/>
                    <a:ext cx="95040" cy="51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  <p:sp>
          <p:nvSpPr>
            <p:cNvPr id="3308" name="TextBox 867"/>
            <p:cNvSpPr/>
            <p:nvPr/>
          </p:nvSpPr>
          <p:spPr>
            <a:xfrm>
              <a:off x="5024520" y="6283080"/>
              <a:ext cx="4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9" name="Прямоугольник 872"/>
          <p:cNvSpPr/>
          <p:nvPr/>
        </p:nvSpPr>
        <p:spPr>
          <a:xfrm>
            <a:off x="6248520" y="5334120"/>
            <a:ext cx="257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щающий многол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гокарп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TextBox 873"/>
          <p:cNvSpPr/>
          <p:nvPr/>
        </p:nvSpPr>
        <p:spPr>
          <a:xfrm>
            <a:off x="4419720" y="4495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TextBox 874"/>
          <p:cNvSpPr/>
          <p:nvPr/>
        </p:nvSpPr>
        <p:spPr>
          <a:xfrm>
            <a:off x="5486400" y="4495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TextBox 875"/>
          <p:cNvSpPr/>
          <p:nvPr/>
        </p:nvSpPr>
        <p:spPr>
          <a:xfrm>
            <a:off x="6324480" y="44956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2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3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3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3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3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3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3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3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3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3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3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3" name="Group 46"/>
          <p:cNvGrpSpPr/>
          <p:nvPr/>
        </p:nvGrpSpPr>
        <p:grpSpPr>
          <a:xfrm>
            <a:off x="95400" y="2000160"/>
            <a:ext cx="9448560" cy="4572000"/>
            <a:chOff x="95400" y="2000160"/>
            <a:chExt cx="9448560" cy="4572000"/>
          </a:xfrm>
        </p:grpSpPr>
        <p:sp>
          <p:nvSpPr>
            <p:cNvPr id="3314" name="Text Box 47"/>
            <p:cNvSpPr/>
            <p:nvPr/>
          </p:nvSpPr>
          <p:spPr>
            <a:xfrm>
              <a:off x="95400" y="3632040"/>
              <a:ext cx="944856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      М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Times New Roman"/>
                </a:rPr>
                <a:t>'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      М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Times New Roman"/>
                </a:rPr>
                <a:t>''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   М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Times New Roman"/>
                </a:rPr>
                <a:t>'''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М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5" name="Group 48"/>
            <p:cNvGrpSpPr/>
            <p:nvPr/>
          </p:nvGrpSpPr>
          <p:grpSpPr>
            <a:xfrm>
              <a:off x="242280" y="2000160"/>
              <a:ext cx="8901000" cy="4572000"/>
              <a:chOff x="242280" y="2000160"/>
              <a:chExt cx="8901000" cy="4572000"/>
            </a:xfrm>
          </p:grpSpPr>
          <p:sp>
            <p:nvSpPr>
              <p:cNvPr id="3316" name="Oval 49"/>
              <p:cNvSpPr/>
              <p:nvPr/>
            </p:nvSpPr>
            <p:spPr>
              <a:xfrm>
                <a:off x="242280" y="4793760"/>
                <a:ext cx="146880" cy="16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Oval 50"/>
              <p:cNvSpPr/>
              <p:nvPr/>
            </p:nvSpPr>
            <p:spPr>
              <a:xfrm>
                <a:off x="242280" y="5097240"/>
                <a:ext cx="146880" cy="1663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Oval 51"/>
              <p:cNvSpPr/>
              <p:nvPr/>
            </p:nvSpPr>
            <p:spPr>
              <a:xfrm>
                <a:off x="242280" y="5429880"/>
                <a:ext cx="146880" cy="166320"/>
              </a:xfrm>
              <a:prstGeom prst="ellipse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Oval 52"/>
              <p:cNvSpPr/>
              <p:nvPr/>
            </p:nvSpPr>
            <p:spPr>
              <a:xfrm>
                <a:off x="242280" y="5715720"/>
                <a:ext cx="146880" cy="166320"/>
              </a:xfrm>
              <a:prstGeom prst="ellipse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20" name="AutoShape 53"/>
              <p:cNvCxnSpPr/>
              <p:nvPr/>
            </p:nvCxnSpPr>
            <p:spPr>
              <a:xfrm flipV="1">
                <a:off x="325440" y="6040800"/>
                <a:ext cx="1080" cy="479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3321" name="Text Box 54"/>
              <p:cNvSpPr/>
              <p:nvPr/>
            </p:nvSpPr>
            <p:spPr>
              <a:xfrm>
                <a:off x="471240" y="4647960"/>
                <a:ext cx="3185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nunculus scelerat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Text Box 55"/>
              <p:cNvSpPr/>
              <p:nvPr/>
            </p:nvSpPr>
            <p:spPr>
              <a:xfrm>
                <a:off x="471240" y="4952520"/>
                <a:ext cx="333792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enanthe aquatic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Text Box 56"/>
              <p:cNvSpPr/>
              <p:nvPr/>
            </p:nvSpPr>
            <p:spPr>
              <a:xfrm>
                <a:off x="471240" y="5333760"/>
                <a:ext cx="257616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ltha palustr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Text Box 57"/>
              <p:cNvSpPr/>
              <p:nvPr/>
            </p:nvSpPr>
            <p:spPr>
              <a:xfrm>
                <a:off x="471240" y="5645880"/>
                <a:ext cx="2804760" cy="52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cuta vir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Text Box 58"/>
              <p:cNvSpPr/>
              <p:nvPr/>
            </p:nvSpPr>
            <p:spPr>
              <a:xfrm>
                <a:off x="483840" y="6095880"/>
                <a:ext cx="294480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nunculus rep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26" name="AutoShape 59"/>
              <p:cNvCxnSpPr/>
              <p:nvPr/>
            </p:nvCxnSpPr>
            <p:spPr>
              <a:xfrm>
                <a:off x="3844440" y="3892680"/>
                <a:ext cx="998640" cy="777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</p:cxnSp>
          <p:cxnSp>
            <p:nvCxnSpPr>
              <p:cNvPr id="3327" name="AutoShape 60"/>
              <p:cNvCxnSpPr/>
              <p:nvPr/>
            </p:nvCxnSpPr>
            <p:spPr>
              <a:xfrm flipV="1">
                <a:off x="4912920" y="3814560"/>
                <a:ext cx="3405240" cy="855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</p:cxnSp>
          <p:sp>
            <p:nvSpPr>
              <p:cNvPr id="3328" name="Oval 61"/>
              <p:cNvSpPr/>
              <p:nvPr/>
            </p:nvSpPr>
            <p:spPr>
              <a:xfrm>
                <a:off x="3477240" y="3616560"/>
                <a:ext cx="367200" cy="415440"/>
              </a:xfrm>
              <a:prstGeom prst="ellipse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Oval 62"/>
              <p:cNvSpPr/>
              <p:nvPr/>
            </p:nvSpPr>
            <p:spPr>
              <a:xfrm>
                <a:off x="3534840" y="3673800"/>
                <a:ext cx="257040" cy="29088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Text Box 63"/>
              <p:cNvSpPr/>
              <p:nvPr/>
            </p:nvSpPr>
            <p:spPr>
              <a:xfrm>
                <a:off x="6468840" y="2000160"/>
                <a:ext cx="83628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Text Box 64"/>
              <p:cNvSpPr/>
              <p:nvPr/>
            </p:nvSpPr>
            <p:spPr>
              <a:xfrm>
                <a:off x="4758480" y="2000160"/>
                <a:ext cx="83628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Text Box 65"/>
              <p:cNvSpPr/>
              <p:nvPr/>
            </p:nvSpPr>
            <p:spPr>
              <a:xfrm>
                <a:off x="4667760" y="4628880"/>
                <a:ext cx="835920" cy="80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Я</a:t>
                </a:r>
                <a:r>
                  <a:rPr b="1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Text Box 66"/>
              <p:cNvSpPr/>
              <p:nvPr/>
            </p:nvSpPr>
            <p:spPr>
              <a:xfrm>
                <a:off x="6080040" y="5780880"/>
                <a:ext cx="836280" cy="58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Text Box 67"/>
              <p:cNvSpPr/>
              <p:nvPr/>
            </p:nvSpPr>
            <p:spPr>
              <a:xfrm>
                <a:off x="4667760" y="5715720"/>
                <a:ext cx="83592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Я</a:t>
                </a:r>
                <a:r>
                  <a:rPr b="1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Text Box 68"/>
              <p:cNvSpPr/>
              <p:nvPr/>
            </p:nvSpPr>
            <p:spPr>
              <a:xfrm>
                <a:off x="7532280" y="5790960"/>
                <a:ext cx="161100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К из К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Oval 69"/>
              <p:cNvSpPr/>
              <p:nvPr/>
            </p:nvSpPr>
            <p:spPr>
              <a:xfrm>
                <a:off x="242280" y="4032000"/>
                <a:ext cx="146880" cy="16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Oval 70"/>
              <p:cNvSpPr/>
              <p:nvPr/>
            </p:nvSpPr>
            <p:spPr>
              <a:xfrm>
                <a:off x="1274040" y="4032000"/>
                <a:ext cx="146880" cy="16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Oval 71"/>
              <p:cNvSpPr/>
              <p:nvPr/>
            </p:nvSpPr>
            <p:spPr>
              <a:xfrm>
                <a:off x="2226240" y="4032000"/>
                <a:ext cx="146880" cy="1663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Oval 72"/>
              <p:cNvSpPr/>
              <p:nvPr/>
            </p:nvSpPr>
            <p:spPr>
              <a:xfrm>
                <a:off x="3594600" y="3726000"/>
                <a:ext cx="147600" cy="167040"/>
              </a:xfrm>
              <a:prstGeom prst="ellipse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40" name="AutoShape 73"/>
              <p:cNvCxnSpPr/>
              <p:nvPr/>
            </p:nvCxnSpPr>
            <p:spPr>
              <a:xfrm flipV="1">
                <a:off x="3792240" y="2524680"/>
                <a:ext cx="1121760" cy="1148760"/>
              </a:xfrm>
              <a:prstGeom prst="straightConnector1">
                <a:avLst/>
              </a:prstGeom>
              <a:ln w="50760">
                <a:solidFill>
                  <a:srgbClr val="00b0f0"/>
                </a:solidFill>
                <a:miter/>
                <a:tailEnd len="med" type="triangle" w="med"/>
              </a:ln>
            </p:spPr>
          </p:cxnSp>
          <p:cxnSp>
            <p:nvCxnSpPr>
              <p:cNvPr id="3341" name="AutoShape 74"/>
              <p:cNvCxnSpPr/>
              <p:nvPr/>
            </p:nvCxnSpPr>
            <p:spPr>
              <a:xfrm>
                <a:off x="5187240" y="2382840"/>
                <a:ext cx="1265040" cy="1080"/>
              </a:xfrm>
              <a:prstGeom prst="straightConnector1">
                <a:avLst/>
              </a:prstGeom>
              <a:ln w="57240">
                <a:solidFill>
                  <a:srgbClr val="00b0f0"/>
                </a:solidFill>
                <a:miter/>
                <a:tailEnd len="med" type="triangle" w="med"/>
              </a:ln>
            </p:spPr>
          </p:cxnSp>
          <p:cxnSp>
            <p:nvCxnSpPr>
              <p:cNvPr id="3342" name="AutoShape 75"/>
              <p:cNvCxnSpPr/>
              <p:nvPr/>
            </p:nvCxnSpPr>
            <p:spPr>
              <a:xfrm>
                <a:off x="7090200" y="2264040"/>
                <a:ext cx="1615320" cy="1290960"/>
              </a:xfrm>
              <a:prstGeom prst="straightConnector1">
                <a:avLst/>
              </a:prstGeom>
              <a:ln w="50760">
                <a:solidFill>
                  <a:srgbClr val="ffc000"/>
                </a:solidFill>
                <a:miter/>
                <a:tailEnd len="med" type="triangle" w="med"/>
              </a:ln>
            </p:spPr>
          </p:cxnSp>
          <p:cxnSp>
            <p:nvCxnSpPr>
              <p:cNvPr id="3343" name="AutoShape 76"/>
              <p:cNvCxnSpPr/>
              <p:nvPr/>
            </p:nvCxnSpPr>
            <p:spPr>
              <a:xfrm>
                <a:off x="3844080" y="3725640"/>
                <a:ext cx="4536360" cy="1080"/>
              </a:xfrm>
              <a:prstGeom prst="straightConnector1">
                <a:avLst/>
              </a:prstGeom>
              <a:ln w="57240">
                <a:solidFill>
                  <a:srgbClr val="00b0f0"/>
                </a:solidFill>
                <a:miter/>
                <a:tailEnd len="med" type="triangle" w="med"/>
              </a:ln>
            </p:spPr>
          </p:cxnSp>
          <p:cxnSp>
            <p:nvCxnSpPr>
              <p:cNvPr id="3344" name="AutoShape 77"/>
              <p:cNvCxnSpPr/>
              <p:nvPr/>
            </p:nvCxnSpPr>
            <p:spPr>
              <a:xfrm>
                <a:off x="3792240" y="3964680"/>
                <a:ext cx="954720" cy="829440"/>
              </a:xfrm>
              <a:prstGeom prst="straightConnector1">
                <a:avLst/>
              </a:prstGeom>
              <a:ln w="57240">
                <a:solidFill>
                  <a:srgbClr val="92d050"/>
                </a:solidFill>
                <a:miter/>
                <a:tailEnd len="med" type="triangle" w="med"/>
              </a:ln>
            </p:spPr>
          </p:cxnSp>
          <p:cxnSp>
            <p:nvCxnSpPr>
              <p:cNvPr id="3345" name="AutoShape 78"/>
              <p:cNvCxnSpPr/>
              <p:nvPr/>
            </p:nvCxnSpPr>
            <p:spPr>
              <a:xfrm flipV="1">
                <a:off x="4996800" y="3892320"/>
                <a:ext cx="3384000" cy="901080"/>
              </a:xfrm>
              <a:prstGeom prst="straightConnector1">
                <a:avLst/>
              </a:prstGeom>
              <a:ln w="57240">
                <a:solidFill>
                  <a:srgbClr val="92d050"/>
                </a:solidFill>
                <a:miter/>
                <a:tailEnd len="med" type="triangle" w="med"/>
              </a:ln>
            </p:spPr>
          </p:cxnSp>
          <p:cxnSp>
            <p:nvCxnSpPr>
              <p:cNvPr id="3346" name="AutoShape 79"/>
              <p:cNvCxnSpPr/>
              <p:nvPr/>
            </p:nvCxnSpPr>
            <p:spPr>
              <a:xfrm>
                <a:off x="3741840" y="4031640"/>
                <a:ext cx="1004760" cy="1793880"/>
              </a:xfrm>
              <a:prstGeom prst="straightConnector1">
                <a:avLst/>
              </a:prstGeom>
              <a:ln w="57240">
                <a:solidFill>
                  <a:srgbClr val="92d050"/>
                </a:solidFill>
                <a:miter/>
                <a:tailEnd len="med" type="triangle" w="med"/>
              </a:ln>
            </p:spPr>
          </p:cxnSp>
          <p:cxnSp>
            <p:nvCxnSpPr>
              <p:cNvPr id="3347" name="AutoShape 80"/>
              <p:cNvCxnSpPr/>
              <p:nvPr/>
            </p:nvCxnSpPr>
            <p:spPr>
              <a:xfrm>
                <a:off x="4996800" y="5911920"/>
                <a:ext cx="1212120" cy="15840"/>
              </a:xfrm>
              <a:prstGeom prst="straightConnector1">
                <a:avLst/>
              </a:prstGeom>
              <a:ln w="57240">
                <a:solidFill>
                  <a:srgbClr val="92d050"/>
                </a:solidFill>
                <a:miter/>
                <a:tailEnd len="med" type="triangle" w="med"/>
              </a:ln>
            </p:spPr>
          </p:cxnSp>
          <p:cxnSp>
            <p:nvCxnSpPr>
              <p:cNvPr id="3348" name="AutoShape 81"/>
              <p:cNvCxnSpPr/>
              <p:nvPr/>
            </p:nvCxnSpPr>
            <p:spPr>
              <a:xfrm flipV="1">
                <a:off x="6624000" y="4109760"/>
                <a:ext cx="1921680" cy="1880280"/>
              </a:xfrm>
              <a:prstGeom prst="straightConnector1">
                <a:avLst/>
              </a:prstGeom>
              <a:ln w="57240">
                <a:solidFill>
                  <a:srgbClr val="ffc000"/>
                </a:solidFill>
                <a:miter/>
                <a:tailEnd len="med" type="triangle" w="med"/>
              </a:ln>
            </p:spPr>
          </p:cxnSp>
          <p:cxnSp>
            <p:nvCxnSpPr>
              <p:cNvPr id="3349" name="AutoShape 82"/>
              <p:cNvCxnSpPr/>
              <p:nvPr/>
            </p:nvCxnSpPr>
            <p:spPr>
              <a:xfrm>
                <a:off x="3844080" y="3814920"/>
                <a:ext cx="4536360" cy="1080"/>
              </a:xfrm>
              <a:prstGeom prst="straightConnector1">
                <a:avLst/>
              </a:prstGeom>
              <a:ln w="57240">
                <a:solidFill>
                  <a:srgbClr val="ffc000"/>
                </a:solidFill>
                <a:miter/>
                <a:tailEnd len="med" type="triangle" w="med"/>
              </a:ln>
            </p:spPr>
          </p:cxnSp>
          <p:cxnSp>
            <p:nvCxnSpPr>
              <p:cNvPr id="3350" name="AutoShape 83"/>
              <p:cNvCxnSpPr/>
              <p:nvPr/>
            </p:nvCxnSpPr>
            <p:spPr>
              <a:xfrm flipV="1">
                <a:off x="3664080" y="2386440"/>
                <a:ext cx="1171800" cy="1194840"/>
              </a:xfrm>
              <a:prstGeom prst="straightConnector1">
                <a:avLst/>
              </a:prstGeom>
              <a:ln w="50760">
                <a:solidFill>
                  <a:srgbClr val="ffc000"/>
                </a:solidFill>
                <a:miter/>
                <a:tailEnd len="med" type="triangle" w="med"/>
              </a:ln>
            </p:spPr>
          </p:cxnSp>
          <p:cxnSp>
            <p:nvCxnSpPr>
              <p:cNvPr id="3351" name="AutoShape 84"/>
              <p:cNvCxnSpPr/>
              <p:nvPr/>
            </p:nvCxnSpPr>
            <p:spPr>
              <a:xfrm>
                <a:off x="5284440" y="2231280"/>
                <a:ext cx="1191600" cy="1080"/>
              </a:xfrm>
              <a:prstGeom prst="straightConnector1">
                <a:avLst/>
              </a:prstGeom>
              <a:ln w="50760">
                <a:solidFill>
                  <a:srgbClr val="ffc000"/>
                </a:solidFill>
                <a:miter/>
                <a:tailEnd len="med" type="triangle" w="med"/>
              </a:ln>
            </p:spPr>
          </p:cxnSp>
          <p:cxnSp>
            <p:nvCxnSpPr>
              <p:cNvPr id="3352" name="AutoShape 85"/>
              <p:cNvCxnSpPr/>
              <p:nvPr/>
            </p:nvCxnSpPr>
            <p:spPr>
              <a:xfrm>
                <a:off x="7090200" y="2439360"/>
                <a:ext cx="1531800" cy="1221480"/>
              </a:xfrm>
              <a:prstGeom prst="straightConnector1">
                <a:avLst/>
              </a:prstGeom>
              <a:ln w="50760">
                <a:solidFill>
                  <a:srgbClr val="00b0f0"/>
                </a:solidFill>
                <a:miter/>
                <a:tailEnd len="med" type="triangle" w="med"/>
              </a:ln>
            </p:spPr>
          </p:cxnSp>
          <p:cxnSp>
            <p:nvCxnSpPr>
              <p:cNvPr id="3353" name="AutoShape 86"/>
              <p:cNvCxnSpPr/>
              <p:nvPr/>
            </p:nvCxnSpPr>
            <p:spPr>
              <a:xfrm>
                <a:off x="3592440" y="4022640"/>
                <a:ext cx="1077840" cy="1895760"/>
              </a:xfrm>
              <a:prstGeom prst="straightConnector1">
                <a:avLst/>
              </a:prstGeom>
              <a:ln w="57240">
                <a:solidFill>
                  <a:srgbClr val="ffc000"/>
                </a:solidFill>
                <a:miter/>
                <a:tailEnd len="med" type="triangle" w="med"/>
              </a:ln>
            </p:spPr>
          </p:cxnSp>
          <p:cxnSp>
            <p:nvCxnSpPr>
              <p:cNvPr id="3354" name="AutoShape 87"/>
              <p:cNvCxnSpPr/>
              <p:nvPr/>
            </p:nvCxnSpPr>
            <p:spPr>
              <a:xfrm flipV="1">
                <a:off x="6701760" y="6043680"/>
                <a:ext cx="865440" cy="29880"/>
              </a:xfrm>
              <a:prstGeom prst="straightConnector1">
                <a:avLst/>
              </a:prstGeom>
              <a:ln w="57240">
                <a:solidFill>
                  <a:srgbClr val="ffc000"/>
                </a:solidFill>
                <a:miter/>
                <a:tailEnd len="med" type="triangle" w="med"/>
              </a:ln>
            </p:spPr>
          </p:cxnSp>
          <p:cxnSp>
            <p:nvCxnSpPr>
              <p:cNvPr id="3355" name="AutoShape 88"/>
              <p:cNvCxnSpPr/>
              <p:nvPr/>
            </p:nvCxnSpPr>
            <p:spPr>
              <a:xfrm flipV="1">
                <a:off x="8334360" y="4021920"/>
                <a:ext cx="347760" cy="1793880"/>
              </a:xfrm>
              <a:prstGeom prst="straightConnector1">
                <a:avLst/>
              </a:prstGeom>
              <a:ln w="57240">
                <a:solidFill>
                  <a:srgbClr val="ffc000"/>
                </a:solidFill>
                <a:miter/>
                <a:tailEnd len="med" type="triangle" w="med"/>
              </a:ln>
            </p:spPr>
          </p:cxnSp>
          <p:cxnSp>
            <p:nvCxnSpPr>
              <p:cNvPr id="3356" name="AutoShape 89"/>
              <p:cNvCxnSpPr/>
              <p:nvPr/>
            </p:nvCxnSpPr>
            <p:spPr>
              <a:xfrm flipH="1">
                <a:off x="4996440" y="3964680"/>
                <a:ext cx="3467520" cy="1861200"/>
              </a:xfrm>
              <a:prstGeom prst="straightConnector1">
                <a:avLst/>
              </a:prstGeom>
              <a:ln w="57240">
                <a:solidFill>
                  <a:srgbClr val="ffc000"/>
                </a:solidFill>
                <a:miter/>
                <a:tailEnd len="med" type="triangle" w="med"/>
              </a:ln>
            </p:spPr>
          </p:cxnSp>
          <p:cxnSp>
            <p:nvCxnSpPr>
              <p:cNvPr id="3357" name="AutoShape 90"/>
              <p:cNvCxnSpPr/>
              <p:nvPr/>
            </p:nvCxnSpPr>
            <p:spPr>
              <a:xfrm flipV="1">
                <a:off x="6546600" y="4109760"/>
                <a:ext cx="1838160" cy="1793880"/>
              </a:xfrm>
              <a:prstGeom prst="straightConnector1">
                <a:avLst/>
              </a:prstGeom>
              <a:ln w="57240">
                <a:solidFill>
                  <a:srgbClr val="92d050"/>
                </a:solidFill>
                <a:miter/>
                <a:tailEnd len="med" type="triangle" w="med"/>
              </a:ln>
            </p:spPr>
          </p:cxnSp>
          <p:cxnSp>
            <p:nvCxnSpPr>
              <p:cNvPr id="3358" name="AutoShape 91"/>
              <p:cNvCxnSpPr/>
              <p:nvPr/>
            </p:nvCxnSpPr>
            <p:spPr>
              <a:xfrm>
                <a:off x="5106960" y="6050160"/>
                <a:ext cx="1102320" cy="1080"/>
              </a:xfrm>
              <a:prstGeom prst="straightConnector1">
                <a:avLst/>
              </a:prstGeom>
              <a:ln w="57240">
                <a:solidFill>
                  <a:srgbClr val="ffc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озможные биоморфы, фазы онтоморфогенеза модельных видов и их перех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0" name="Picture 5" descr="P1000239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952560" y="95400"/>
            <a:ext cx="7391520" cy="65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1523880" y="3733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722160" y="182844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УРОВНЕ УНИВЕРСАЛЬНОГО МОДУЛЯ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ЗАЛЬНАЯ АББРЕВИАЦИЯ И ПРОЛОНГАЦИЯ, ДЕВИАЦИЯ, ТЕРМИНАЛЬНАЯ ПРОЛОНГАЦИЯ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УРОВНЕ ОРГАНИЗМА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СЕЛЕРАЦИЯ, ПРОЛОНГАЦИЯ И ДЕВИАЦИ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762120" y="609120"/>
            <a:ext cx="777240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одусы морфологической эволю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ъекты исследования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tha palustr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unculus sceleratus L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62120" y="1676160"/>
            <a:ext cx="3886200" cy="5181840"/>
            <a:chOff x="762120" y="1676160"/>
            <a:chExt cx="3886200" cy="5181840"/>
          </a:xfrm>
        </p:grpSpPr>
        <p:pic>
          <p:nvPicPr>
            <p:cNvPr id="52" name="Рисунок 1" descr="D:\ТАНЮШКИНА\САМОЕ ВАЖНОЕ!\Фото растений\Калужница\SL380466.JPG"/>
            <p:cNvPicPr/>
            <p:nvPr/>
          </p:nvPicPr>
          <p:blipFill>
            <a:blip r:embed="rId2"/>
            <a:stretch/>
          </p:blipFill>
          <p:spPr>
            <a:xfrm>
              <a:off x="762120" y="1676520"/>
              <a:ext cx="3886200" cy="518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" name="AutoShape 4"/>
            <p:cNvSpPr/>
            <p:nvPr/>
          </p:nvSpPr>
          <p:spPr>
            <a:xfrm rot="10800000">
              <a:off x="2980080" y="1676160"/>
              <a:ext cx="864720" cy="302760"/>
            </a:xfrm>
            <a:prstGeom prst="triangle">
              <a:avLst>
                <a:gd name="adj" fmla="val 50000"/>
              </a:avLst>
            </a:prstGeom>
            <a:solidFill>
              <a:srgbClr val="b6b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6" descr="SL380474"/>
          <p:cNvPicPr/>
          <p:nvPr/>
        </p:nvPicPr>
        <p:blipFill>
          <a:blip r:embed="rId3"/>
          <a:stretch/>
        </p:blipFill>
        <p:spPr>
          <a:xfrm>
            <a:off x="5638680" y="1457280"/>
            <a:ext cx="2667240" cy="540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ъекты исследования</a:t>
            </a: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icuta virosa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Oenanthe aquatica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7" descr="SL380464.JPG"/>
          <p:cNvPicPr/>
          <p:nvPr/>
        </p:nvPicPr>
        <p:blipFill>
          <a:blip r:embed="rId2"/>
          <a:stretch/>
        </p:blipFill>
        <p:spPr>
          <a:xfrm>
            <a:off x="4751280" y="1828800"/>
            <a:ext cx="4164120" cy="4724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7" name="Picture 6" descr="PIC_0167"/>
          <p:cNvPicPr/>
          <p:nvPr/>
        </p:nvPicPr>
        <p:blipFill>
          <a:blip r:embed="rId3"/>
          <a:stretch/>
        </p:blipFill>
        <p:spPr>
          <a:xfrm>
            <a:off x="228600" y="1905120"/>
            <a:ext cx="434340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8390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игрогелофит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терм.: В.Г. Папченков, 1985)- </a:t>
            </a: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растения, типичными местообитаниями которых являются низкие уровни береговой зоны затопления, зона контакта берега и водного тела и прибрежные отмели с глубиной до 20 (40) см»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Папченков и др., 2003)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условия среды обитания модельных ви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778"/>
          <p:cNvGrpSpPr/>
          <p:nvPr/>
        </p:nvGrpSpPr>
        <p:grpSpPr>
          <a:xfrm>
            <a:off x="-228600" y="4738320"/>
            <a:ext cx="9372600" cy="1329480"/>
            <a:chOff x="-228600" y="4738320"/>
            <a:chExt cx="9372600" cy="1329480"/>
          </a:xfrm>
        </p:grpSpPr>
        <p:cxnSp>
          <p:nvCxnSpPr>
            <p:cNvPr id="61" name="AutoShape 779"/>
            <p:cNvCxnSpPr/>
            <p:nvPr/>
          </p:nvCxnSpPr>
          <p:spPr>
            <a:xfrm>
              <a:off x="1766160" y="4738680"/>
              <a:ext cx="737820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cxnSp>
          <p:nvCxnSpPr>
            <p:cNvPr id="62" name="AutoShape 780"/>
            <p:cNvCxnSpPr/>
            <p:nvPr/>
          </p:nvCxnSpPr>
          <p:spPr>
            <a:xfrm>
              <a:off x="-228600" y="4738320"/>
              <a:ext cx="2007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cxnSp>
          <p:nvCxnSpPr>
            <p:cNvPr id="63" name="AutoShape 781"/>
            <p:cNvCxnSpPr/>
            <p:nvPr/>
          </p:nvCxnSpPr>
          <p:spPr>
            <a:xfrm>
              <a:off x="4391280" y="498132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" name="AutoShape 782"/>
            <p:cNvCxnSpPr/>
            <p:nvPr/>
          </p:nvCxnSpPr>
          <p:spPr>
            <a:xfrm>
              <a:off x="4796280" y="536256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" name="AutoShape 783"/>
            <p:cNvCxnSpPr/>
            <p:nvPr/>
          </p:nvCxnSpPr>
          <p:spPr>
            <a:xfrm>
              <a:off x="5293800" y="486036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784"/>
            <p:cNvCxnSpPr/>
            <p:nvPr/>
          </p:nvCxnSpPr>
          <p:spPr>
            <a:xfrm>
              <a:off x="4055760" y="536256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785"/>
            <p:cNvCxnSpPr/>
            <p:nvPr/>
          </p:nvCxnSpPr>
          <p:spPr>
            <a:xfrm>
              <a:off x="1123200" y="498132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786"/>
            <p:cNvCxnSpPr/>
            <p:nvPr/>
          </p:nvCxnSpPr>
          <p:spPr>
            <a:xfrm>
              <a:off x="228600" y="498132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787"/>
            <p:cNvCxnSpPr/>
            <p:nvPr/>
          </p:nvCxnSpPr>
          <p:spPr>
            <a:xfrm>
              <a:off x="-228600" y="525024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" name="AutoShape 788"/>
            <p:cNvCxnSpPr/>
            <p:nvPr/>
          </p:nvCxnSpPr>
          <p:spPr>
            <a:xfrm>
              <a:off x="1415160" y="533304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AutoShape 789"/>
            <p:cNvCxnSpPr/>
            <p:nvPr/>
          </p:nvCxnSpPr>
          <p:spPr>
            <a:xfrm>
              <a:off x="692640" y="579348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AutoShape 790"/>
            <p:cNvCxnSpPr/>
            <p:nvPr/>
          </p:nvCxnSpPr>
          <p:spPr>
            <a:xfrm>
              <a:off x="-107640" y="579348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AutoShape 791"/>
            <p:cNvCxnSpPr/>
            <p:nvPr/>
          </p:nvCxnSpPr>
          <p:spPr>
            <a:xfrm>
              <a:off x="1616760" y="5375520"/>
              <a:ext cx="14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" name="AutoShape 792"/>
            <p:cNvCxnSpPr/>
            <p:nvPr/>
          </p:nvCxnSpPr>
          <p:spPr>
            <a:xfrm>
              <a:off x="2113560" y="503100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AutoShape 793"/>
            <p:cNvCxnSpPr/>
            <p:nvPr/>
          </p:nvCxnSpPr>
          <p:spPr>
            <a:xfrm>
              <a:off x="2244960" y="568152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" name="AutoShape 794"/>
            <p:cNvCxnSpPr/>
            <p:nvPr/>
          </p:nvCxnSpPr>
          <p:spPr>
            <a:xfrm>
              <a:off x="1987560" y="548568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AutoShape 795"/>
            <p:cNvCxnSpPr/>
            <p:nvPr/>
          </p:nvCxnSpPr>
          <p:spPr>
            <a:xfrm>
              <a:off x="3557160" y="5153040"/>
              <a:ext cx="144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AutoShape 796"/>
            <p:cNvCxnSpPr/>
            <p:nvPr/>
          </p:nvCxnSpPr>
          <p:spPr>
            <a:xfrm>
              <a:off x="3160800" y="585108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" name="AutoShape 797"/>
            <p:cNvCxnSpPr/>
            <p:nvPr/>
          </p:nvCxnSpPr>
          <p:spPr>
            <a:xfrm>
              <a:off x="4064040" y="606708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" name="AutoShape 798"/>
            <p:cNvCxnSpPr/>
            <p:nvPr/>
          </p:nvCxnSpPr>
          <p:spPr>
            <a:xfrm>
              <a:off x="5754960" y="537516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" name="AutoShape 799"/>
            <p:cNvCxnSpPr/>
            <p:nvPr/>
          </p:nvCxnSpPr>
          <p:spPr>
            <a:xfrm>
              <a:off x="1781280" y="606708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AutoShape 800"/>
            <p:cNvCxnSpPr/>
            <p:nvPr/>
          </p:nvCxnSpPr>
          <p:spPr>
            <a:xfrm>
              <a:off x="5293800" y="5872680"/>
              <a:ext cx="29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83" name="Группа 810"/>
          <p:cNvGrpSpPr/>
          <p:nvPr/>
        </p:nvGrpSpPr>
        <p:grpSpPr>
          <a:xfrm>
            <a:off x="0" y="1676520"/>
            <a:ext cx="9524880" cy="4190760"/>
            <a:chOff x="0" y="1676520"/>
            <a:chExt cx="9524880" cy="4190760"/>
          </a:xfrm>
        </p:grpSpPr>
        <p:sp>
          <p:nvSpPr>
            <p:cNvPr id="84" name="Text Box 408"/>
            <p:cNvSpPr/>
            <p:nvPr/>
          </p:nvSpPr>
          <p:spPr>
            <a:xfrm>
              <a:off x="4647960" y="2209680"/>
              <a:ext cx="990360" cy="7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altha palustr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" name="AutoShape 404"/>
            <p:cNvCxnSpPr/>
            <p:nvPr/>
          </p:nvCxnSpPr>
          <p:spPr>
            <a:xfrm>
              <a:off x="5640480" y="378864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" name="AutoShape 405"/>
            <p:cNvCxnSpPr/>
            <p:nvPr/>
          </p:nvCxnSpPr>
          <p:spPr>
            <a:xfrm>
              <a:off x="1058040" y="4942080"/>
              <a:ext cx="36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" name="Text Box 407"/>
            <p:cNvSpPr/>
            <p:nvPr/>
          </p:nvSpPr>
          <p:spPr>
            <a:xfrm>
              <a:off x="0" y="3429000"/>
              <a:ext cx="1186920" cy="71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Oenant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aqua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409"/>
            <p:cNvSpPr/>
            <p:nvPr/>
          </p:nvSpPr>
          <p:spPr>
            <a:xfrm>
              <a:off x="7086600" y="3505320"/>
              <a:ext cx="1371600" cy="71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Ranunculus scelerat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410"/>
            <p:cNvGrpSpPr/>
            <p:nvPr/>
          </p:nvGrpSpPr>
          <p:grpSpPr>
            <a:xfrm>
              <a:off x="5514480" y="1828800"/>
              <a:ext cx="1280520" cy="1944360"/>
              <a:chOff x="5514480" y="1828800"/>
              <a:chExt cx="1280520" cy="1944360"/>
            </a:xfrm>
          </p:grpSpPr>
          <p:grpSp>
            <p:nvGrpSpPr>
              <p:cNvPr id="90" name="Group 411"/>
              <p:cNvGrpSpPr/>
              <p:nvPr/>
            </p:nvGrpSpPr>
            <p:grpSpPr>
              <a:xfrm>
                <a:off x="5514480" y="1828800"/>
                <a:ext cx="1180800" cy="1944360"/>
                <a:chOff x="5514480" y="1828800"/>
                <a:chExt cx="1180800" cy="1944360"/>
              </a:xfrm>
            </p:grpSpPr>
            <p:cxnSp>
              <p:nvCxnSpPr>
                <p:cNvPr id="91" name="AutoShape 412"/>
                <p:cNvCxnSpPr/>
                <p:nvPr/>
              </p:nvCxnSpPr>
              <p:spPr>
                <a:xfrm flipH="1" flipV="1">
                  <a:off x="6146280" y="2147400"/>
                  <a:ext cx="1080" cy="1614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92" name="Group 413"/>
                <p:cNvGrpSpPr/>
                <p:nvPr/>
              </p:nvGrpSpPr>
              <p:grpSpPr>
                <a:xfrm>
                  <a:off x="5655960" y="3206520"/>
                  <a:ext cx="948600" cy="566640"/>
                  <a:chOff x="5655960" y="3206520"/>
                  <a:chExt cx="948600" cy="566640"/>
                </a:xfrm>
              </p:grpSpPr>
              <p:grpSp>
                <p:nvGrpSpPr>
                  <p:cNvPr id="93" name="Group 414"/>
                  <p:cNvGrpSpPr/>
                  <p:nvPr/>
                </p:nvGrpSpPr>
                <p:grpSpPr>
                  <a:xfrm>
                    <a:off x="5655960" y="3207240"/>
                    <a:ext cx="565200" cy="565920"/>
                    <a:chOff x="5655960" y="3207240"/>
                    <a:chExt cx="565200" cy="565920"/>
                  </a:xfrm>
                </p:grpSpPr>
                <p:sp>
                  <p:nvSpPr>
                    <p:cNvPr id="94" name="Arc 415"/>
                    <p:cNvSpPr/>
                    <p:nvPr/>
                  </p:nvSpPr>
                  <p:spPr>
                    <a:xfrm flipH="1" flipV="1" rot="505800">
                      <a:off x="5749200" y="3236760"/>
                      <a:ext cx="441360" cy="443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Arc 416"/>
                    <p:cNvSpPr/>
                    <p:nvPr/>
                  </p:nvSpPr>
                  <p:spPr>
                    <a:xfrm flipH="1" flipV="1" rot="21354600">
                      <a:off x="5673600" y="3232080"/>
                      <a:ext cx="394200" cy="527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Arc 417"/>
                    <p:cNvSpPr/>
                    <p:nvPr/>
                  </p:nvSpPr>
                  <p:spPr>
                    <a:xfrm flipH="1" flipV="1">
                      <a:off x="5965200" y="3232800"/>
                      <a:ext cx="226440" cy="465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Group 418"/>
                  <p:cNvGrpSpPr/>
                  <p:nvPr/>
                </p:nvGrpSpPr>
                <p:grpSpPr>
                  <a:xfrm>
                    <a:off x="6036840" y="3206520"/>
                    <a:ext cx="567720" cy="566640"/>
                    <a:chOff x="6036840" y="3206520"/>
                    <a:chExt cx="567720" cy="566640"/>
                  </a:xfrm>
                </p:grpSpPr>
                <p:sp>
                  <p:nvSpPr>
                    <p:cNvPr id="98" name="Arc 419"/>
                    <p:cNvSpPr/>
                    <p:nvPr/>
                  </p:nvSpPr>
                  <p:spPr>
                    <a:xfrm flipV="1" rot="21094200">
                      <a:off x="6068880" y="3232440"/>
                      <a:ext cx="392760" cy="465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Arc 420"/>
                    <p:cNvSpPr/>
                    <p:nvPr/>
                  </p:nvSpPr>
                  <p:spPr>
                    <a:xfrm flipV="1" rot="245400">
                      <a:off x="6192000" y="3232080"/>
                      <a:ext cx="394200" cy="527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Arc 421"/>
                    <p:cNvSpPr/>
                    <p:nvPr/>
                  </p:nvSpPr>
                  <p:spPr>
                    <a:xfrm flipV="1">
                      <a:off x="6068880" y="3232800"/>
                      <a:ext cx="226440" cy="465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" name="Group 422"/>
                <p:cNvGrpSpPr/>
                <p:nvPr/>
              </p:nvGrpSpPr>
              <p:grpSpPr>
                <a:xfrm>
                  <a:off x="5569560" y="1897920"/>
                  <a:ext cx="646920" cy="688680"/>
                  <a:chOff x="5569560" y="1897920"/>
                  <a:chExt cx="646920" cy="688680"/>
                </a:xfrm>
              </p:grpSpPr>
              <p:grpSp>
                <p:nvGrpSpPr>
                  <p:cNvPr id="102" name="Group 423"/>
                  <p:cNvGrpSpPr/>
                  <p:nvPr/>
                </p:nvGrpSpPr>
                <p:grpSpPr>
                  <a:xfrm>
                    <a:off x="5706000" y="1897920"/>
                    <a:ext cx="510480" cy="688680"/>
                    <a:chOff x="5706000" y="1897920"/>
                    <a:chExt cx="510480" cy="688680"/>
                  </a:xfrm>
                </p:grpSpPr>
                <p:sp>
                  <p:nvSpPr>
                    <p:cNvPr id="103" name="Arc 424"/>
                    <p:cNvSpPr/>
                    <p:nvPr/>
                  </p:nvSpPr>
                  <p:spPr>
                    <a:xfrm flipH="1" flipV="1" rot="19500000">
                      <a:off x="5862600" y="2187720"/>
                      <a:ext cx="91800" cy="123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4" name="Group 425"/>
                    <p:cNvGrpSpPr/>
                    <p:nvPr/>
                  </p:nvGrpSpPr>
                  <p:grpSpPr>
                    <a:xfrm>
                      <a:off x="5706000" y="1897920"/>
                      <a:ext cx="510480" cy="688680"/>
                      <a:chOff x="5706000" y="1897920"/>
                      <a:chExt cx="510480" cy="688680"/>
                    </a:xfrm>
                  </p:grpSpPr>
                  <p:sp>
                    <p:nvSpPr>
                      <p:cNvPr id="105" name="Line 426"/>
                      <p:cNvSpPr/>
                      <p:nvPr/>
                    </p:nvSpPr>
                    <p:spPr>
                      <a:xfrm>
                        <a:off x="5859360" y="2077920"/>
                        <a:ext cx="357120" cy="50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Oval 427"/>
                      <p:cNvSpPr/>
                      <p:nvPr/>
                    </p:nvSpPr>
                    <p:spPr>
                      <a:xfrm flipH="1" rot="19500000">
                        <a:off x="5743080" y="1925640"/>
                        <a:ext cx="154080" cy="180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7" name="Line 428"/>
                  <p:cNvSpPr/>
                  <p:nvPr/>
                </p:nvSpPr>
                <p:spPr>
                  <a:xfrm flipH="1" flipV="1">
                    <a:off x="5756760" y="2194560"/>
                    <a:ext cx="218520" cy="6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Oval 429"/>
                  <p:cNvSpPr/>
                  <p:nvPr/>
                </p:nvSpPr>
                <p:spPr>
                  <a:xfrm flipH="1" rot="19500000">
                    <a:off x="5607360" y="2066040"/>
                    <a:ext cx="154440" cy="181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430"/>
                <p:cNvGrpSpPr/>
                <p:nvPr/>
              </p:nvGrpSpPr>
              <p:grpSpPr>
                <a:xfrm>
                  <a:off x="5514480" y="2502000"/>
                  <a:ext cx="707760" cy="615600"/>
                  <a:chOff x="5514480" y="2502000"/>
                  <a:chExt cx="707760" cy="615600"/>
                </a:xfrm>
              </p:grpSpPr>
              <p:grpSp>
                <p:nvGrpSpPr>
                  <p:cNvPr id="110" name="Group 431"/>
                  <p:cNvGrpSpPr/>
                  <p:nvPr/>
                </p:nvGrpSpPr>
                <p:grpSpPr>
                  <a:xfrm>
                    <a:off x="5628240" y="2502000"/>
                    <a:ext cx="594000" cy="615600"/>
                    <a:chOff x="5628240" y="2502000"/>
                    <a:chExt cx="594000" cy="615600"/>
                  </a:xfrm>
                </p:grpSpPr>
                <p:sp>
                  <p:nvSpPr>
                    <p:cNvPr id="111" name="Arc 432"/>
                    <p:cNvSpPr/>
                    <p:nvPr/>
                  </p:nvSpPr>
                  <p:spPr>
                    <a:xfrm flipH="1" flipV="1" rot="18958800">
                      <a:off x="5820480" y="2774520"/>
                      <a:ext cx="92160" cy="122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2" name="Group 433"/>
                    <p:cNvGrpSpPr/>
                    <p:nvPr/>
                  </p:nvGrpSpPr>
                  <p:grpSpPr>
                    <a:xfrm>
                      <a:off x="5628240" y="2502000"/>
                      <a:ext cx="594000" cy="615600"/>
                      <a:chOff x="5628240" y="2502000"/>
                      <a:chExt cx="594000" cy="615600"/>
                    </a:xfrm>
                  </p:grpSpPr>
                  <p:sp>
                    <p:nvSpPr>
                      <p:cNvPr id="113" name="Line 434"/>
                      <p:cNvSpPr/>
                      <p:nvPr/>
                    </p:nvSpPr>
                    <p:spPr>
                      <a:xfrm>
                        <a:off x="5793480" y="2674800"/>
                        <a:ext cx="428760" cy="442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Oval 435"/>
                      <p:cNvSpPr/>
                      <p:nvPr/>
                    </p:nvSpPr>
                    <p:spPr>
                      <a:xfrm flipH="1" rot="18958200">
                        <a:off x="5668200" y="2530440"/>
                        <a:ext cx="154440" cy="178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5" name="Line 436"/>
                  <p:cNvSpPr/>
                  <p:nvPr/>
                </p:nvSpPr>
                <p:spPr>
                  <a:xfrm flipH="1" flipV="1">
                    <a:off x="5709240" y="2805480"/>
                    <a:ext cx="225720" cy="3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Oval 437"/>
                  <p:cNvSpPr/>
                  <p:nvPr/>
                </p:nvSpPr>
                <p:spPr>
                  <a:xfrm flipH="1" rot="18958200">
                    <a:off x="5554440" y="2691000"/>
                    <a:ext cx="154800" cy="179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Group 438"/>
                <p:cNvGrpSpPr/>
                <p:nvPr/>
              </p:nvGrpSpPr>
              <p:grpSpPr>
                <a:xfrm>
                  <a:off x="6164280" y="2224800"/>
                  <a:ext cx="531000" cy="572040"/>
                  <a:chOff x="6164280" y="2224800"/>
                  <a:chExt cx="531000" cy="572040"/>
                </a:xfrm>
              </p:grpSpPr>
              <p:grpSp>
                <p:nvGrpSpPr>
                  <p:cNvPr id="118" name="Group 439"/>
                  <p:cNvGrpSpPr/>
                  <p:nvPr/>
                </p:nvGrpSpPr>
                <p:grpSpPr>
                  <a:xfrm>
                    <a:off x="6164280" y="2224800"/>
                    <a:ext cx="394200" cy="572040"/>
                    <a:chOff x="6164280" y="2224800"/>
                    <a:chExt cx="394200" cy="572040"/>
                  </a:xfrm>
                </p:grpSpPr>
                <p:sp>
                  <p:nvSpPr>
                    <p:cNvPr id="119" name="Arc 440"/>
                    <p:cNvSpPr/>
                    <p:nvPr/>
                  </p:nvSpPr>
                  <p:spPr>
                    <a:xfrm flipV="1" rot="2100000">
                      <a:off x="6315120" y="2507400"/>
                      <a:ext cx="91800" cy="12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0" name="Group 441"/>
                    <p:cNvGrpSpPr/>
                    <p:nvPr/>
                  </p:nvGrpSpPr>
                  <p:grpSpPr>
                    <a:xfrm>
                      <a:off x="6164280" y="2224800"/>
                      <a:ext cx="394200" cy="572040"/>
                      <a:chOff x="6164280" y="2224800"/>
                      <a:chExt cx="394200" cy="572040"/>
                    </a:xfrm>
                  </p:grpSpPr>
                  <p:sp>
                    <p:nvSpPr>
                      <p:cNvPr id="121" name="Line 442"/>
                      <p:cNvSpPr/>
                      <p:nvPr/>
                    </p:nvSpPr>
                    <p:spPr>
                      <a:xfrm flipH="1">
                        <a:off x="6164280" y="2423520"/>
                        <a:ext cx="262080" cy="373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" name="Oval 443"/>
                      <p:cNvSpPr/>
                      <p:nvPr/>
                    </p:nvSpPr>
                    <p:spPr>
                      <a:xfrm rot="2100000">
                        <a:off x="6368040" y="2252880"/>
                        <a:ext cx="154080" cy="174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3" name="Line 444"/>
                  <p:cNvSpPr/>
                  <p:nvPr/>
                </p:nvSpPr>
                <p:spPr>
                  <a:xfrm flipV="1">
                    <a:off x="6295680" y="2516040"/>
                    <a:ext cx="216000" cy="65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445"/>
                  <p:cNvSpPr/>
                  <p:nvPr/>
                </p:nvSpPr>
                <p:spPr>
                  <a:xfrm rot="2100000">
                    <a:off x="6504480" y="2392920"/>
                    <a:ext cx="154440" cy="175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Oval 446"/>
                <p:cNvSpPr/>
                <p:nvPr/>
              </p:nvSpPr>
              <p:spPr>
                <a:xfrm flipH="1">
                  <a:off x="6027840" y="1828800"/>
                  <a:ext cx="249480" cy="32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rc 447"/>
                <p:cNvSpPr/>
                <p:nvPr/>
              </p:nvSpPr>
              <p:spPr>
                <a:xfrm flipH="1" flipV="1">
                  <a:off x="5973120" y="2426760"/>
                  <a:ext cx="165600" cy="124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rc 448"/>
                <p:cNvSpPr/>
                <p:nvPr/>
              </p:nvSpPr>
              <p:spPr>
                <a:xfrm flipH="1" flipV="1">
                  <a:off x="5981040" y="2950920"/>
                  <a:ext cx="165600" cy="124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449"/>
                <p:cNvSpPr/>
                <p:nvPr/>
              </p:nvSpPr>
              <p:spPr>
                <a:xfrm flipV="1">
                  <a:off x="6165720" y="2738160"/>
                  <a:ext cx="165600" cy="124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Freeform 450"/>
              <p:cNvSpPr/>
              <p:nvPr/>
            </p:nvSpPr>
            <p:spPr>
              <a:xfrm flipH="1" rot="20549400">
                <a:off x="5598000" y="3075840"/>
                <a:ext cx="273600" cy="290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451"/>
              <p:cNvSpPr/>
              <p:nvPr/>
            </p:nvSpPr>
            <p:spPr>
              <a:xfrm flipH="1" rot="283200">
                <a:off x="5833440" y="3015000"/>
                <a:ext cx="239760" cy="2779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452"/>
              <p:cNvSpPr/>
              <p:nvPr/>
            </p:nvSpPr>
            <p:spPr>
              <a:xfrm flipH="1" rot="20549400">
                <a:off x="5562000" y="3203640"/>
                <a:ext cx="190080" cy="2239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53"/>
              <p:cNvSpPr/>
              <p:nvPr/>
            </p:nvSpPr>
            <p:spPr>
              <a:xfrm flipH="1" rot="283200">
                <a:off x="6319440" y="3076200"/>
                <a:ext cx="239760" cy="2779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54"/>
              <p:cNvSpPr/>
              <p:nvPr/>
            </p:nvSpPr>
            <p:spPr>
              <a:xfrm flipH="1" rot="2454000">
                <a:off x="6493680" y="3149640"/>
                <a:ext cx="239760" cy="2775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55"/>
              <p:cNvSpPr/>
              <p:nvPr/>
            </p:nvSpPr>
            <p:spPr>
              <a:xfrm flipH="1" rot="20549400">
                <a:off x="6173640" y="3068640"/>
                <a:ext cx="190080" cy="2239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456"/>
            <p:cNvGrpSpPr/>
            <p:nvPr/>
          </p:nvGrpSpPr>
          <p:grpSpPr>
            <a:xfrm>
              <a:off x="6969960" y="1676520"/>
              <a:ext cx="1205280" cy="1831320"/>
              <a:chOff x="6969960" y="1676520"/>
              <a:chExt cx="1205280" cy="1831320"/>
            </a:xfrm>
          </p:grpSpPr>
          <p:cxnSp>
            <p:nvCxnSpPr>
              <p:cNvPr id="136" name="AutoShape 457"/>
              <p:cNvCxnSpPr/>
              <p:nvPr/>
            </p:nvCxnSpPr>
            <p:spPr>
              <a:xfrm flipV="1">
                <a:off x="7545960" y="1974960"/>
                <a:ext cx="1080" cy="151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137" name="Group 458"/>
              <p:cNvGrpSpPr/>
              <p:nvPr/>
            </p:nvGrpSpPr>
            <p:grpSpPr>
              <a:xfrm>
                <a:off x="7512840" y="1739520"/>
                <a:ext cx="611640" cy="646200"/>
                <a:chOff x="7512840" y="1739520"/>
                <a:chExt cx="611640" cy="646200"/>
              </a:xfrm>
            </p:grpSpPr>
            <p:grpSp>
              <p:nvGrpSpPr>
                <p:cNvPr id="138" name="Group 459"/>
                <p:cNvGrpSpPr/>
                <p:nvPr/>
              </p:nvGrpSpPr>
              <p:grpSpPr>
                <a:xfrm>
                  <a:off x="7512840" y="1739520"/>
                  <a:ext cx="480240" cy="646200"/>
                  <a:chOff x="7512840" y="1739520"/>
                  <a:chExt cx="480240" cy="646200"/>
                </a:xfrm>
              </p:grpSpPr>
              <p:sp>
                <p:nvSpPr>
                  <p:cNvPr id="139" name="Arc 460"/>
                  <p:cNvSpPr/>
                  <p:nvPr/>
                </p:nvSpPr>
                <p:spPr>
                  <a:xfrm flipV="1" rot="2100000">
                    <a:off x="7758720" y="2012040"/>
                    <a:ext cx="87840" cy="11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" name="Group 461"/>
                  <p:cNvGrpSpPr/>
                  <p:nvPr/>
                </p:nvGrpSpPr>
                <p:grpSpPr>
                  <a:xfrm>
                    <a:off x="7512840" y="1739520"/>
                    <a:ext cx="480240" cy="646200"/>
                    <a:chOff x="7512840" y="1739520"/>
                    <a:chExt cx="480240" cy="646200"/>
                  </a:xfrm>
                </p:grpSpPr>
                <p:sp>
                  <p:nvSpPr>
                    <p:cNvPr id="141" name="Line 462"/>
                    <p:cNvSpPr/>
                    <p:nvPr/>
                  </p:nvSpPr>
                  <p:spPr>
                    <a:xfrm flipH="1">
                      <a:off x="7512840" y="1909080"/>
                      <a:ext cx="334440" cy="476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Oval 463"/>
                    <p:cNvSpPr/>
                    <p:nvPr/>
                  </p:nvSpPr>
                  <p:spPr>
                    <a:xfrm rot="2100000">
                      <a:off x="7810200" y="1766520"/>
                      <a:ext cx="147600" cy="168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Line 464"/>
                <p:cNvSpPr/>
                <p:nvPr/>
              </p:nvSpPr>
              <p:spPr>
                <a:xfrm flipV="1">
                  <a:off x="7739640" y="2019960"/>
                  <a:ext cx="207360" cy="6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465"/>
                <p:cNvSpPr/>
                <p:nvPr/>
              </p:nvSpPr>
              <p:spPr>
                <a:xfrm rot="2100000">
                  <a:off x="7940880" y="1900800"/>
                  <a:ext cx="147960" cy="169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466"/>
              <p:cNvGrpSpPr/>
              <p:nvPr/>
            </p:nvGrpSpPr>
            <p:grpSpPr>
              <a:xfrm>
                <a:off x="7508880" y="2278440"/>
                <a:ext cx="666360" cy="577440"/>
                <a:chOff x="7508880" y="2278440"/>
                <a:chExt cx="666360" cy="577440"/>
              </a:xfrm>
            </p:grpSpPr>
            <p:grpSp>
              <p:nvGrpSpPr>
                <p:cNvPr id="146" name="Group 467"/>
                <p:cNvGrpSpPr/>
                <p:nvPr/>
              </p:nvGrpSpPr>
              <p:grpSpPr>
                <a:xfrm>
                  <a:off x="7508880" y="2278440"/>
                  <a:ext cx="557280" cy="577440"/>
                  <a:chOff x="7508880" y="2278440"/>
                  <a:chExt cx="557280" cy="577440"/>
                </a:xfrm>
              </p:grpSpPr>
              <p:sp>
                <p:nvSpPr>
                  <p:cNvPr id="147" name="Arc 468"/>
                  <p:cNvSpPr/>
                  <p:nvPr/>
                </p:nvSpPr>
                <p:spPr>
                  <a:xfrm flipV="1" rot="2641200">
                    <a:off x="7797600" y="2535840"/>
                    <a:ext cx="88200" cy="115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469"/>
                  <p:cNvGrpSpPr/>
                  <p:nvPr/>
                </p:nvGrpSpPr>
                <p:grpSpPr>
                  <a:xfrm>
                    <a:off x="7508880" y="2278440"/>
                    <a:ext cx="557280" cy="577440"/>
                    <a:chOff x="7508880" y="2278440"/>
                    <a:chExt cx="557280" cy="577440"/>
                  </a:xfrm>
                </p:grpSpPr>
                <p:sp>
                  <p:nvSpPr>
                    <p:cNvPr id="149" name="Line 470"/>
                    <p:cNvSpPr/>
                    <p:nvPr/>
                  </p:nvSpPr>
                  <p:spPr>
                    <a:xfrm flipH="1">
                      <a:off x="7508880" y="2441160"/>
                      <a:ext cx="401040" cy="414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Oval 471"/>
                    <p:cNvSpPr/>
                    <p:nvPr/>
                  </p:nvSpPr>
                  <p:spPr>
                    <a:xfrm rot="2641800">
                      <a:off x="7880760" y="2306160"/>
                      <a:ext cx="147960" cy="167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1" name="Line 472"/>
                <p:cNvSpPr/>
                <p:nvPr/>
              </p:nvSpPr>
              <p:spPr>
                <a:xfrm flipV="1">
                  <a:off x="7777080" y="2567160"/>
                  <a:ext cx="21420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Oval 473"/>
                <p:cNvSpPr/>
                <p:nvPr/>
              </p:nvSpPr>
              <p:spPr>
                <a:xfrm rot="2641800">
                  <a:off x="7989120" y="2459520"/>
                  <a:ext cx="148320" cy="168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74"/>
              <p:cNvGrpSpPr/>
              <p:nvPr/>
            </p:nvGrpSpPr>
            <p:grpSpPr>
              <a:xfrm>
                <a:off x="6969960" y="2028960"/>
                <a:ext cx="599400" cy="627840"/>
                <a:chOff x="6969960" y="2028960"/>
                <a:chExt cx="599400" cy="627840"/>
              </a:xfrm>
            </p:grpSpPr>
            <p:grpSp>
              <p:nvGrpSpPr>
                <p:cNvPr id="154" name="Group 475"/>
                <p:cNvGrpSpPr/>
                <p:nvPr/>
              </p:nvGrpSpPr>
              <p:grpSpPr>
                <a:xfrm>
                  <a:off x="7102080" y="2028960"/>
                  <a:ext cx="467280" cy="627840"/>
                  <a:chOff x="7102080" y="2028960"/>
                  <a:chExt cx="467280" cy="627840"/>
                </a:xfrm>
              </p:grpSpPr>
              <p:sp>
                <p:nvSpPr>
                  <p:cNvPr id="155" name="Arc 476"/>
                  <p:cNvSpPr/>
                  <p:nvPr/>
                </p:nvSpPr>
                <p:spPr>
                  <a:xfrm flipH="1" flipV="1" rot="19500000">
                    <a:off x="7242120" y="2295360"/>
                    <a:ext cx="87840" cy="1126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6" name="Group 477"/>
                  <p:cNvGrpSpPr/>
                  <p:nvPr/>
                </p:nvGrpSpPr>
                <p:grpSpPr>
                  <a:xfrm>
                    <a:off x="7102080" y="2028960"/>
                    <a:ext cx="467280" cy="627840"/>
                    <a:chOff x="7102080" y="2028960"/>
                    <a:chExt cx="467280" cy="627840"/>
                  </a:xfrm>
                </p:grpSpPr>
                <p:sp>
                  <p:nvSpPr>
                    <p:cNvPr id="157" name="Line 478"/>
                    <p:cNvSpPr/>
                    <p:nvPr/>
                  </p:nvSpPr>
                  <p:spPr>
                    <a:xfrm>
                      <a:off x="7245000" y="2194560"/>
                      <a:ext cx="324360" cy="462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Oval 479"/>
                    <p:cNvSpPr/>
                    <p:nvPr/>
                  </p:nvSpPr>
                  <p:spPr>
                    <a:xfrm flipH="1" rot="19500000">
                      <a:off x="7135200" y="2056320"/>
                      <a:ext cx="147600" cy="163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9" name="Line 480"/>
                <p:cNvSpPr/>
                <p:nvPr/>
              </p:nvSpPr>
              <p:spPr>
                <a:xfrm flipH="1" flipV="1">
                  <a:off x="7144200" y="2305080"/>
                  <a:ext cx="205560" cy="5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81"/>
                <p:cNvSpPr/>
                <p:nvPr/>
              </p:nvSpPr>
              <p:spPr>
                <a:xfrm flipH="1" rot="19500000">
                  <a:off x="7003080" y="2189880"/>
                  <a:ext cx="147960" cy="16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Oval 482"/>
              <p:cNvSpPr/>
              <p:nvPr/>
            </p:nvSpPr>
            <p:spPr>
              <a:xfrm>
                <a:off x="7421040" y="1676520"/>
                <a:ext cx="239040" cy="302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483"/>
              <p:cNvSpPr/>
              <p:nvPr/>
            </p:nvSpPr>
            <p:spPr>
              <a:xfrm flipV="1">
                <a:off x="7553880" y="2236680"/>
                <a:ext cx="158760" cy="116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rc 484"/>
              <p:cNvSpPr/>
              <p:nvPr/>
            </p:nvSpPr>
            <p:spPr>
              <a:xfrm flipV="1">
                <a:off x="7546320" y="2728800"/>
                <a:ext cx="158400" cy="116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485"/>
              <p:cNvSpPr/>
              <p:nvPr/>
            </p:nvSpPr>
            <p:spPr>
              <a:xfrm flipH="1" flipV="1">
                <a:off x="7368480" y="2529000"/>
                <a:ext cx="158760" cy="116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486"/>
              <p:cNvGrpSpPr/>
              <p:nvPr/>
            </p:nvGrpSpPr>
            <p:grpSpPr>
              <a:xfrm>
                <a:off x="7472880" y="2696400"/>
                <a:ext cx="606960" cy="803160"/>
                <a:chOff x="7472880" y="2696400"/>
                <a:chExt cx="606960" cy="803160"/>
              </a:xfrm>
            </p:grpSpPr>
            <p:grpSp>
              <p:nvGrpSpPr>
                <p:cNvPr id="166" name="Group 487"/>
                <p:cNvGrpSpPr/>
                <p:nvPr/>
              </p:nvGrpSpPr>
              <p:grpSpPr>
                <a:xfrm>
                  <a:off x="7585920" y="2696400"/>
                  <a:ext cx="493920" cy="756000"/>
                  <a:chOff x="7585920" y="2696400"/>
                  <a:chExt cx="493920" cy="756000"/>
                </a:xfrm>
              </p:grpSpPr>
              <p:sp>
                <p:nvSpPr>
                  <p:cNvPr id="167" name="Line 488"/>
                  <p:cNvSpPr/>
                  <p:nvPr/>
                </p:nvSpPr>
                <p:spPr>
                  <a:xfrm flipV="1">
                    <a:off x="7804800" y="2950920"/>
                    <a:ext cx="200520" cy="82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Oval 489"/>
                  <p:cNvSpPr/>
                  <p:nvPr/>
                </p:nvSpPr>
                <p:spPr>
                  <a:xfrm rot="1755600">
                    <a:off x="7804080" y="2720160"/>
                    <a:ext cx="137160" cy="150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rc 490"/>
                  <p:cNvSpPr/>
                  <p:nvPr/>
                </p:nvSpPr>
                <p:spPr>
                  <a:xfrm flipV="1" rot="1755600">
                    <a:off x="7825680" y="2955240"/>
                    <a:ext cx="87840" cy="114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491"/>
                  <p:cNvSpPr/>
                  <p:nvPr/>
                </p:nvSpPr>
                <p:spPr>
                  <a:xfrm rot="435000">
                    <a:off x="7623000" y="2837520"/>
                    <a:ext cx="192600" cy="60516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Oval 492"/>
                  <p:cNvSpPr/>
                  <p:nvPr/>
                </p:nvSpPr>
                <p:spPr>
                  <a:xfrm rot="1755600">
                    <a:off x="7970040" y="2889720"/>
                    <a:ext cx="89640" cy="106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93"/>
                  <p:cNvSpPr/>
                  <p:nvPr/>
                </p:nvSpPr>
                <p:spPr>
                  <a:xfrm flipV="1" rot="1755600">
                    <a:off x="7746480" y="3189240"/>
                    <a:ext cx="87840" cy="114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94"/>
                  <p:cNvSpPr/>
                  <p:nvPr/>
                </p:nvSpPr>
                <p:spPr>
                  <a:xfrm flipH="1" flipV="1" rot="20714400">
                    <a:off x="7718400" y="3050640"/>
                    <a:ext cx="106560" cy="99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95"/>
                <p:cNvGrpSpPr/>
                <p:nvPr/>
              </p:nvGrpSpPr>
              <p:grpSpPr>
                <a:xfrm>
                  <a:off x="7472880" y="2968920"/>
                  <a:ext cx="542160" cy="530640"/>
                  <a:chOff x="7472880" y="2968920"/>
                  <a:chExt cx="542160" cy="530640"/>
                </a:xfrm>
              </p:grpSpPr>
              <p:sp>
                <p:nvSpPr>
                  <p:cNvPr id="175" name="Arc 496"/>
                  <p:cNvSpPr/>
                  <p:nvPr/>
                </p:nvSpPr>
                <p:spPr>
                  <a:xfrm flipV="1" rot="21094200">
                    <a:off x="7502040" y="2999160"/>
                    <a:ext cx="447480" cy="435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rc 497"/>
                  <p:cNvSpPr/>
                  <p:nvPr/>
                </p:nvSpPr>
                <p:spPr>
                  <a:xfrm flipV="1" rot="245400">
                    <a:off x="7620480" y="2991600"/>
                    <a:ext cx="377280" cy="494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rc 498"/>
                  <p:cNvSpPr/>
                  <p:nvPr/>
                </p:nvSpPr>
                <p:spPr>
                  <a:xfrm flipV="1">
                    <a:off x="7502400" y="2991960"/>
                    <a:ext cx="198720" cy="435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Group 499"/>
              <p:cNvGrpSpPr/>
              <p:nvPr/>
            </p:nvGrpSpPr>
            <p:grpSpPr>
              <a:xfrm>
                <a:off x="7047360" y="2707200"/>
                <a:ext cx="494280" cy="755640"/>
                <a:chOff x="7047360" y="2707200"/>
                <a:chExt cx="494280" cy="755640"/>
              </a:xfrm>
            </p:grpSpPr>
            <p:sp>
              <p:nvSpPr>
                <p:cNvPr id="179" name="Line 500"/>
                <p:cNvSpPr/>
                <p:nvPr/>
              </p:nvSpPr>
              <p:spPr>
                <a:xfrm flipH="1" flipV="1">
                  <a:off x="7121880" y="2961720"/>
                  <a:ext cx="200520" cy="8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501"/>
                <p:cNvSpPr/>
                <p:nvPr/>
              </p:nvSpPr>
              <p:spPr>
                <a:xfrm flipH="1" rot="19844400">
                  <a:off x="7185600" y="2730960"/>
                  <a:ext cx="137160" cy="150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Arc 502"/>
                <p:cNvSpPr/>
                <p:nvPr/>
              </p:nvSpPr>
              <p:spPr>
                <a:xfrm flipH="1" flipV="1" rot="19844400">
                  <a:off x="7212960" y="2966040"/>
                  <a:ext cx="87840" cy="114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03"/>
                <p:cNvSpPr/>
                <p:nvPr/>
              </p:nvSpPr>
              <p:spPr>
                <a:xfrm flipH="1" rot="21165000">
                  <a:off x="7311240" y="2848320"/>
                  <a:ext cx="192600" cy="6048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04"/>
                <p:cNvSpPr/>
                <p:nvPr/>
              </p:nvSpPr>
              <p:spPr>
                <a:xfrm flipH="1" rot="19844400">
                  <a:off x="7067520" y="2900520"/>
                  <a:ext cx="89640" cy="106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rc 505"/>
                <p:cNvSpPr/>
                <p:nvPr/>
              </p:nvSpPr>
              <p:spPr>
                <a:xfrm flipH="1" flipV="1" rot="19844400">
                  <a:off x="7292160" y="3200040"/>
                  <a:ext cx="87840" cy="114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rc 506"/>
                <p:cNvSpPr/>
                <p:nvPr/>
              </p:nvSpPr>
              <p:spPr>
                <a:xfrm flipV="1" rot="885600">
                  <a:off x="7301520" y="3061440"/>
                  <a:ext cx="106560" cy="99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Arc 507"/>
              <p:cNvSpPr/>
              <p:nvPr/>
            </p:nvSpPr>
            <p:spPr>
              <a:xfrm flipH="1" flipV="1" rot="505800">
                <a:off x="7146000" y="3006360"/>
                <a:ext cx="478800" cy="435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rc 508"/>
              <p:cNvSpPr/>
              <p:nvPr/>
            </p:nvSpPr>
            <p:spPr>
              <a:xfrm flipH="1" flipV="1" rot="21354600">
                <a:off x="7085880" y="2995920"/>
                <a:ext cx="488160" cy="494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rc 509"/>
              <p:cNvSpPr/>
              <p:nvPr/>
            </p:nvSpPr>
            <p:spPr>
              <a:xfrm flipH="1" flipV="1">
                <a:off x="7441920" y="3002760"/>
                <a:ext cx="181800" cy="435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10"/>
            <p:cNvGrpSpPr/>
            <p:nvPr/>
          </p:nvGrpSpPr>
          <p:grpSpPr>
            <a:xfrm>
              <a:off x="2666880" y="2743200"/>
              <a:ext cx="1294920" cy="2099520"/>
              <a:chOff x="2666880" y="2743200"/>
              <a:chExt cx="1294920" cy="2099520"/>
            </a:xfrm>
          </p:grpSpPr>
          <p:grpSp>
            <p:nvGrpSpPr>
              <p:cNvPr id="190" name="Group 511"/>
              <p:cNvGrpSpPr/>
              <p:nvPr/>
            </p:nvGrpSpPr>
            <p:grpSpPr>
              <a:xfrm>
                <a:off x="2797200" y="2743200"/>
                <a:ext cx="1146960" cy="2050200"/>
                <a:chOff x="2797200" y="2743200"/>
                <a:chExt cx="1146960" cy="2050200"/>
              </a:xfrm>
            </p:grpSpPr>
            <p:sp>
              <p:nvSpPr>
                <p:cNvPr id="191" name="Line 512"/>
                <p:cNvSpPr/>
                <p:nvPr/>
              </p:nvSpPr>
              <p:spPr>
                <a:xfrm>
                  <a:off x="3327840" y="3101400"/>
                  <a:ext cx="11520" cy="169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513"/>
                <p:cNvSpPr/>
                <p:nvPr/>
              </p:nvSpPr>
              <p:spPr>
                <a:xfrm rot="10800000">
                  <a:off x="3138480" y="2743200"/>
                  <a:ext cx="373320" cy="37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514"/>
                <p:cNvGrpSpPr/>
                <p:nvPr/>
              </p:nvGrpSpPr>
              <p:grpSpPr>
                <a:xfrm>
                  <a:off x="3332160" y="2898360"/>
                  <a:ext cx="612000" cy="821160"/>
                  <a:chOff x="3332160" y="2898360"/>
                  <a:chExt cx="612000" cy="821160"/>
                </a:xfrm>
              </p:grpSpPr>
              <p:sp>
                <p:nvSpPr>
                  <p:cNvPr id="194" name="Arc 515"/>
                  <p:cNvSpPr/>
                  <p:nvPr/>
                </p:nvSpPr>
                <p:spPr>
                  <a:xfrm flipV="1">
                    <a:off x="3332160" y="3391920"/>
                    <a:ext cx="188640" cy="323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rc 516"/>
                  <p:cNvSpPr/>
                  <p:nvPr/>
                </p:nvSpPr>
                <p:spPr>
                  <a:xfrm flipH="1" flipV="1" rot="1816200">
                    <a:off x="3435840" y="3184560"/>
                    <a:ext cx="121320" cy="217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517"/>
                  <p:cNvSpPr/>
                  <p:nvPr/>
                </p:nvSpPr>
                <p:spPr>
                  <a:xfrm flipV="1">
                    <a:off x="3358440" y="3213000"/>
                    <a:ext cx="282600" cy="50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518"/>
                  <p:cNvSpPr/>
                  <p:nvPr/>
                </p:nvSpPr>
                <p:spPr>
                  <a:xfrm flipV="1">
                    <a:off x="3510720" y="3193200"/>
                    <a:ext cx="2880" cy="25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519"/>
                  <p:cNvSpPr/>
                  <p:nvPr/>
                </p:nvSpPr>
                <p:spPr>
                  <a:xfrm rot="14044200">
                    <a:off x="3516480" y="3030480"/>
                    <a:ext cx="432720" cy="20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520"/>
                  <p:cNvSpPr/>
                  <p:nvPr/>
                </p:nvSpPr>
                <p:spPr>
                  <a:xfrm rot="10800000">
                    <a:off x="3400560" y="3018240"/>
                    <a:ext cx="207720" cy="222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521"/>
                <p:cNvGrpSpPr/>
                <p:nvPr/>
              </p:nvGrpSpPr>
              <p:grpSpPr>
                <a:xfrm>
                  <a:off x="2797200" y="3462120"/>
                  <a:ext cx="592200" cy="943560"/>
                  <a:chOff x="2797200" y="3462120"/>
                  <a:chExt cx="592200" cy="943560"/>
                </a:xfrm>
              </p:grpSpPr>
              <p:sp>
                <p:nvSpPr>
                  <p:cNvPr id="201" name="Arc 522"/>
                  <p:cNvSpPr/>
                  <p:nvPr/>
                </p:nvSpPr>
                <p:spPr>
                  <a:xfrm flipH="1" flipV="1">
                    <a:off x="3177000" y="4102200"/>
                    <a:ext cx="168480" cy="2746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rc 523"/>
                  <p:cNvSpPr/>
                  <p:nvPr/>
                </p:nvSpPr>
                <p:spPr>
                  <a:xfrm flipV="1" rot="19780800">
                    <a:off x="3159360" y="3828600"/>
                    <a:ext cx="100800" cy="144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524"/>
                  <p:cNvSpPr/>
                  <p:nvPr/>
                </p:nvSpPr>
                <p:spPr>
                  <a:xfrm>
                    <a:off x="3025440" y="3780360"/>
                    <a:ext cx="363960" cy="62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utoShape 525"/>
                  <p:cNvSpPr/>
                  <p:nvPr/>
                </p:nvSpPr>
                <p:spPr>
                  <a:xfrm flipH="1" rot="7555800">
                    <a:off x="2791800" y="3594240"/>
                    <a:ext cx="432360" cy="20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526"/>
              <p:cNvGrpSpPr/>
              <p:nvPr/>
            </p:nvGrpSpPr>
            <p:grpSpPr>
              <a:xfrm>
                <a:off x="3204360" y="4161960"/>
                <a:ext cx="757440" cy="678960"/>
                <a:chOff x="3204360" y="4161960"/>
                <a:chExt cx="757440" cy="678960"/>
              </a:xfrm>
            </p:grpSpPr>
            <p:grpSp>
              <p:nvGrpSpPr>
                <p:cNvPr id="206" name="Group 527"/>
                <p:cNvGrpSpPr/>
                <p:nvPr/>
              </p:nvGrpSpPr>
              <p:grpSpPr>
                <a:xfrm>
                  <a:off x="3385800" y="4161960"/>
                  <a:ext cx="576000" cy="455400"/>
                  <a:chOff x="3385800" y="4161960"/>
                  <a:chExt cx="576000" cy="455400"/>
                </a:xfrm>
              </p:grpSpPr>
              <p:grpSp>
                <p:nvGrpSpPr>
                  <p:cNvPr id="207" name="Group 528"/>
                  <p:cNvGrpSpPr/>
                  <p:nvPr/>
                </p:nvGrpSpPr>
                <p:grpSpPr>
                  <a:xfrm>
                    <a:off x="3746520" y="4285080"/>
                    <a:ext cx="215280" cy="330480"/>
                    <a:chOff x="3746520" y="4285080"/>
                    <a:chExt cx="215280" cy="330480"/>
                  </a:xfrm>
                </p:grpSpPr>
                <p:cxnSp>
                  <p:nvCxnSpPr>
                    <p:cNvPr id="208" name="AutoShape 529"/>
                    <p:cNvCxnSpPr/>
                    <p:nvPr/>
                  </p:nvCxnSpPr>
                  <p:spPr>
                    <a:xfrm flipH="1">
                      <a:off x="3854160" y="4285080"/>
                      <a:ext cx="10800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09" name="AutoShape 530"/>
                    <p:cNvCxnSpPr/>
                    <p:nvPr/>
                  </p:nvCxnSpPr>
                  <p:spPr>
                    <a:xfrm flipH="1">
                      <a:off x="3746520" y="4524480"/>
                      <a:ext cx="16812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10" name="AutoShape 531"/>
                    <p:cNvCxnSpPr/>
                    <p:nvPr/>
                  </p:nvCxnSpPr>
                  <p:spPr>
                    <a:xfrm flipH="1">
                      <a:off x="3854160" y="4375800"/>
                      <a:ext cx="108000" cy="68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11" name="AutoShape 532"/>
                    <p:cNvCxnSpPr/>
                    <p:nvPr/>
                  </p:nvCxnSpPr>
                  <p:spPr>
                    <a:xfrm flipH="1">
                      <a:off x="3806640" y="4466160"/>
                      <a:ext cx="108000" cy="58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12" name="Group 533"/>
                  <p:cNvGrpSpPr/>
                  <p:nvPr/>
                </p:nvGrpSpPr>
                <p:grpSpPr>
                  <a:xfrm>
                    <a:off x="3579120" y="4222080"/>
                    <a:ext cx="215280" cy="330840"/>
                    <a:chOff x="3579120" y="4222080"/>
                    <a:chExt cx="215280" cy="330840"/>
                  </a:xfrm>
                </p:grpSpPr>
                <p:cxnSp>
                  <p:nvCxnSpPr>
                    <p:cNvPr id="213" name="AutoShape 534"/>
                    <p:cNvCxnSpPr/>
                    <p:nvPr/>
                  </p:nvCxnSpPr>
                  <p:spPr>
                    <a:xfrm flipH="1">
                      <a:off x="3686760" y="4222080"/>
                      <a:ext cx="10800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14" name="AutoShape 535"/>
                    <p:cNvCxnSpPr/>
                    <p:nvPr/>
                  </p:nvCxnSpPr>
                  <p:spPr>
                    <a:xfrm flipH="1">
                      <a:off x="3579120" y="4461840"/>
                      <a:ext cx="16812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15" name="AutoShape 536"/>
                    <p:cNvCxnSpPr/>
                    <p:nvPr/>
                  </p:nvCxnSpPr>
                  <p:spPr>
                    <a:xfrm flipH="1">
                      <a:off x="3686760" y="4312440"/>
                      <a:ext cx="108000" cy="68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16" name="AutoShape 537"/>
                    <p:cNvCxnSpPr/>
                    <p:nvPr/>
                  </p:nvCxnSpPr>
                  <p:spPr>
                    <a:xfrm flipH="1">
                      <a:off x="3639240" y="4403520"/>
                      <a:ext cx="108000" cy="58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17" name="Group 538"/>
                  <p:cNvGrpSpPr/>
                  <p:nvPr/>
                </p:nvGrpSpPr>
                <p:grpSpPr>
                  <a:xfrm>
                    <a:off x="3445560" y="4161960"/>
                    <a:ext cx="153000" cy="371520"/>
                    <a:chOff x="3445560" y="4161960"/>
                    <a:chExt cx="153000" cy="371520"/>
                  </a:xfrm>
                </p:grpSpPr>
                <p:cxnSp>
                  <p:nvCxnSpPr>
                    <p:cNvPr id="218" name="AutoShape 539"/>
                    <p:cNvCxnSpPr/>
                    <p:nvPr/>
                  </p:nvCxnSpPr>
                  <p:spPr>
                    <a:xfrm flipH="1">
                      <a:off x="3494160" y="4161960"/>
                      <a:ext cx="83520" cy="114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19" name="AutoShape 540"/>
                    <p:cNvCxnSpPr/>
                    <p:nvPr/>
                  </p:nvCxnSpPr>
                  <p:spPr>
                    <a:xfrm flipH="1">
                      <a:off x="3445560" y="4405680"/>
                      <a:ext cx="142200" cy="128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20" name="AutoShape 541"/>
                    <p:cNvCxnSpPr/>
                    <p:nvPr/>
                  </p:nvCxnSpPr>
                  <p:spPr>
                    <a:xfrm flipH="1">
                      <a:off x="3510000" y="4250160"/>
                      <a:ext cx="88920" cy="9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21" name="AutoShape 542"/>
                    <p:cNvCxnSpPr/>
                    <p:nvPr/>
                  </p:nvCxnSpPr>
                  <p:spPr>
                    <a:xfrm flipH="1">
                      <a:off x="3482640" y="4349160"/>
                      <a:ext cx="91440" cy="82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22" name="Group 543"/>
                  <p:cNvGrpSpPr/>
                  <p:nvPr/>
                </p:nvGrpSpPr>
                <p:grpSpPr>
                  <a:xfrm>
                    <a:off x="3725280" y="4239720"/>
                    <a:ext cx="140400" cy="377640"/>
                    <a:chOff x="3725280" y="4239720"/>
                    <a:chExt cx="140400" cy="377640"/>
                  </a:xfrm>
                </p:grpSpPr>
                <p:cxnSp>
                  <p:nvCxnSpPr>
                    <p:cNvPr id="223" name="AutoShape 544"/>
                    <p:cNvCxnSpPr/>
                    <p:nvPr/>
                  </p:nvCxnSpPr>
                  <p:spPr>
                    <a:xfrm>
                      <a:off x="3834360" y="4239720"/>
                      <a:ext cx="31680" cy="144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24" name="AutoShape 545"/>
                    <p:cNvCxnSpPr/>
                    <p:nvPr/>
                  </p:nvCxnSpPr>
                  <p:spPr>
                    <a:xfrm>
                      <a:off x="3725280" y="4422960"/>
                      <a:ext cx="80640" cy="194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25" name="AutoShape 546"/>
                    <p:cNvCxnSpPr/>
                    <p:nvPr/>
                  </p:nvCxnSpPr>
                  <p:spPr>
                    <a:xfrm>
                      <a:off x="3778560" y="4294080"/>
                      <a:ext cx="45720" cy="131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26" name="AutoShape 547"/>
                    <p:cNvCxnSpPr/>
                    <p:nvPr/>
                  </p:nvCxnSpPr>
                  <p:spPr>
                    <a:xfrm>
                      <a:off x="3760920" y="4388040"/>
                      <a:ext cx="52200" cy="124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27" name="Group 548"/>
                  <p:cNvGrpSpPr/>
                  <p:nvPr/>
                </p:nvGrpSpPr>
                <p:grpSpPr>
                  <a:xfrm>
                    <a:off x="3385800" y="4184640"/>
                    <a:ext cx="136080" cy="368280"/>
                    <a:chOff x="3385800" y="4184640"/>
                    <a:chExt cx="136080" cy="368280"/>
                  </a:xfrm>
                </p:grpSpPr>
                <p:cxnSp>
                  <p:nvCxnSpPr>
                    <p:cNvPr id="228" name="AutoShape 549"/>
                    <p:cNvCxnSpPr/>
                    <p:nvPr/>
                  </p:nvCxnSpPr>
                  <p:spPr>
                    <a:xfrm>
                      <a:off x="3487320" y="4184640"/>
                      <a:ext cx="34920" cy="142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29" name="AutoShape 550"/>
                    <p:cNvCxnSpPr/>
                    <p:nvPr/>
                  </p:nvCxnSpPr>
                  <p:spPr>
                    <a:xfrm>
                      <a:off x="3385800" y="4361040"/>
                      <a:ext cx="83880" cy="19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0" name="AutoShape 551"/>
                    <p:cNvCxnSpPr/>
                    <p:nvPr/>
                  </p:nvCxnSpPr>
                  <p:spPr>
                    <a:xfrm>
                      <a:off x="3434040" y="4236480"/>
                      <a:ext cx="48240" cy="129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1" name="AutoShape 552"/>
                    <p:cNvCxnSpPr/>
                    <p:nvPr/>
                  </p:nvCxnSpPr>
                  <p:spPr>
                    <a:xfrm>
                      <a:off x="3419640" y="4327920"/>
                      <a:ext cx="54000" cy="123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32" name="Group 553"/>
                  <p:cNvGrpSpPr/>
                  <p:nvPr/>
                </p:nvGrpSpPr>
                <p:grpSpPr>
                  <a:xfrm>
                    <a:off x="3525840" y="4217760"/>
                    <a:ext cx="140400" cy="377640"/>
                    <a:chOff x="3525840" y="4217760"/>
                    <a:chExt cx="140400" cy="377640"/>
                  </a:xfrm>
                </p:grpSpPr>
                <p:cxnSp>
                  <p:nvCxnSpPr>
                    <p:cNvPr id="233" name="AutoShape 554"/>
                    <p:cNvCxnSpPr/>
                    <p:nvPr/>
                  </p:nvCxnSpPr>
                  <p:spPr>
                    <a:xfrm>
                      <a:off x="3634920" y="4217760"/>
                      <a:ext cx="31680" cy="144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4" name="AutoShape 555"/>
                    <p:cNvCxnSpPr/>
                    <p:nvPr/>
                  </p:nvCxnSpPr>
                  <p:spPr>
                    <a:xfrm>
                      <a:off x="3525840" y="4401000"/>
                      <a:ext cx="80640" cy="194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5" name="AutoShape 556"/>
                    <p:cNvCxnSpPr/>
                    <p:nvPr/>
                  </p:nvCxnSpPr>
                  <p:spPr>
                    <a:xfrm>
                      <a:off x="3579120" y="4272120"/>
                      <a:ext cx="45720" cy="1310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36" name="AutoShape 557"/>
                    <p:cNvCxnSpPr/>
                    <p:nvPr/>
                  </p:nvCxnSpPr>
                  <p:spPr>
                    <a:xfrm>
                      <a:off x="3561480" y="4366080"/>
                      <a:ext cx="52200" cy="124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37" name="Group 558"/>
                <p:cNvGrpSpPr/>
                <p:nvPr/>
              </p:nvGrpSpPr>
              <p:grpSpPr>
                <a:xfrm>
                  <a:off x="3204360" y="4190760"/>
                  <a:ext cx="671400" cy="650160"/>
                  <a:chOff x="3204360" y="4190760"/>
                  <a:chExt cx="671400" cy="650160"/>
                </a:xfrm>
              </p:grpSpPr>
              <p:sp>
                <p:nvSpPr>
                  <p:cNvPr id="238" name="Arc 559"/>
                  <p:cNvSpPr/>
                  <p:nvPr/>
                </p:nvSpPr>
                <p:spPr>
                  <a:xfrm flipV="1" rot="21094200">
                    <a:off x="3240720" y="4221720"/>
                    <a:ext cx="465480" cy="532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rc 560"/>
                  <p:cNvSpPr/>
                  <p:nvPr/>
                </p:nvSpPr>
                <p:spPr>
                  <a:xfrm flipV="1" rot="245400">
                    <a:off x="3387600" y="4221000"/>
                    <a:ext cx="466920" cy="603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rc 561"/>
                  <p:cNvSpPr/>
                  <p:nvPr/>
                </p:nvSpPr>
                <p:spPr>
                  <a:xfrm flipV="1">
                    <a:off x="3241080" y="4222080"/>
                    <a:ext cx="268200" cy="532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562"/>
              <p:cNvGrpSpPr/>
              <p:nvPr/>
            </p:nvGrpSpPr>
            <p:grpSpPr>
              <a:xfrm>
                <a:off x="2666880" y="4163760"/>
                <a:ext cx="757440" cy="678960"/>
                <a:chOff x="2666880" y="4163760"/>
                <a:chExt cx="757440" cy="678960"/>
              </a:xfrm>
            </p:grpSpPr>
            <p:grpSp>
              <p:nvGrpSpPr>
                <p:cNvPr id="242" name="Group 563"/>
                <p:cNvGrpSpPr/>
                <p:nvPr/>
              </p:nvGrpSpPr>
              <p:grpSpPr>
                <a:xfrm>
                  <a:off x="2666880" y="4163760"/>
                  <a:ext cx="576000" cy="454680"/>
                  <a:chOff x="2666880" y="4163760"/>
                  <a:chExt cx="576000" cy="454680"/>
                </a:xfrm>
              </p:grpSpPr>
              <p:grpSp>
                <p:nvGrpSpPr>
                  <p:cNvPr id="243" name="Group 564"/>
                  <p:cNvGrpSpPr/>
                  <p:nvPr/>
                </p:nvGrpSpPr>
                <p:grpSpPr>
                  <a:xfrm>
                    <a:off x="2666880" y="4286880"/>
                    <a:ext cx="215280" cy="330480"/>
                    <a:chOff x="2666880" y="4286880"/>
                    <a:chExt cx="215280" cy="330480"/>
                  </a:xfrm>
                </p:grpSpPr>
                <p:cxnSp>
                  <p:nvCxnSpPr>
                    <p:cNvPr id="244" name="AutoShape 565"/>
                    <p:cNvCxnSpPr/>
                    <p:nvPr/>
                  </p:nvCxnSpPr>
                  <p:spPr>
                    <a:xfrm>
                      <a:off x="2666880" y="4286880"/>
                      <a:ext cx="10800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5" name="AutoShape 566"/>
                    <p:cNvCxnSpPr/>
                    <p:nvPr/>
                  </p:nvCxnSpPr>
                  <p:spPr>
                    <a:xfrm>
                      <a:off x="2714400" y="4526280"/>
                      <a:ext cx="16812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6" name="AutoShape 567"/>
                    <p:cNvCxnSpPr/>
                    <p:nvPr/>
                  </p:nvCxnSpPr>
                  <p:spPr>
                    <a:xfrm>
                      <a:off x="2666880" y="4377600"/>
                      <a:ext cx="108000" cy="68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47" name="AutoShape 568"/>
                    <p:cNvCxnSpPr/>
                    <p:nvPr/>
                  </p:nvCxnSpPr>
                  <p:spPr>
                    <a:xfrm>
                      <a:off x="2714400" y="4468320"/>
                      <a:ext cx="108000" cy="583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48" name="Group 569"/>
                  <p:cNvGrpSpPr/>
                  <p:nvPr/>
                </p:nvGrpSpPr>
                <p:grpSpPr>
                  <a:xfrm>
                    <a:off x="2834280" y="4223880"/>
                    <a:ext cx="215280" cy="330480"/>
                    <a:chOff x="2834280" y="4223880"/>
                    <a:chExt cx="215280" cy="330480"/>
                  </a:xfrm>
                </p:grpSpPr>
                <p:cxnSp>
                  <p:nvCxnSpPr>
                    <p:cNvPr id="249" name="AutoShape 570"/>
                    <p:cNvCxnSpPr/>
                    <p:nvPr/>
                  </p:nvCxnSpPr>
                  <p:spPr>
                    <a:xfrm>
                      <a:off x="2834280" y="4223880"/>
                      <a:ext cx="10800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0" name="AutoShape 571"/>
                    <p:cNvCxnSpPr/>
                    <p:nvPr/>
                  </p:nvCxnSpPr>
                  <p:spPr>
                    <a:xfrm>
                      <a:off x="2881800" y="4463280"/>
                      <a:ext cx="168120" cy="91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1" name="AutoShape 572"/>
                    <p:cNvCxnSpPr/>
                    <p:nvPr/>
                  </p:nvCxnSpPr>
                  <p:spPr>
                    <a:xfrm>
                      <a:off x="2834280" y="4314600"/>
                      <a:ext cx="108000" cy="684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2" name="AutoShape 573"/>
                    <p:cNvCxnSpPr/>
                    <p:nvPr/>
                  </p:nvCxnSpPr>
                  <p:spPr>
                    <a:xfrm>
                      <a:off x="2881800" y="4404960"/>
                      <a:ext cx="108000" cy="58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53" name="Group 574"/>
                  <p:cNvGrpSpPr/>
                  <p:nvPr/>
                </p:nvGrpSpPr>
                <p:grpSpPr>
                  <a:xfrm>
                    <a:off x="3030120" y="4163760"/>
                    <a:ext cx="153000" cy="371520"/>
                    <a:chOff x="3030120" y="4163760"/>
                    <a:chExt cx="153000" cy="371520"/>
                  </a:xfrm>
                </p:grpSpPr>
                <p:cxnSp>
                  <p:nvCxnSpPr>
                    <p:cNvPr id="254" name="AutoShape 575"/>
                    <p:cNvCxnSpPr/>
                    <p:nvPr/>
                  </p:nvCxnSpPr>
                  <p:spPr>
                    <a:xfrm>
                      <a:off x="3051360" y="4163760"/>
                      <a:ext cx="83520" cy="114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5" name="AutoShape 576"/>
                    <p:cNvCxnSpPr/>
                    <p:nvPr/>
                  </p:nvCxnSpPr>
                  <p:spPr>
                    <a:xfrm>
                      <a:off x="3041280" y="4407480"/>
                      <a:ext cx="142200" cy="128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6" name="AutoShape 577"/>
                    <p:cNvCxnSpPr/>
                    <p:nvPr/>
                  </p:nvCxnSpPr>
                  <p:spPr>
                    <a:xfrm>
                      <a:off x="3030120" y="4251960"/>
                      <a:ext cx="88920" cy="9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57" name="AutoShape 578"/>
                    <p:cNvCxnSpPr/>
                    <p:nvPr/>
                  </p:nvCxnSpPr>
                  <p:spPr>
                    <a:xfrm>
                      <a:off x="3054960" y="4351320"/>
                      <a:ext cx="91440" cy="81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58" name="Group 579"/>
                  <p:cNvGrpSpPr/>
                  <p:nvPr/>
                </p:nvGrpSpPr>
                <p:grpSpPr>
                  <a:xfrm>
                    <a:off x="2763360" y="4241160"/>
                    <a:ext cx="140400" cy="377280"/>
                    <a:chOff x="2763360" y="4241160"/>
                    <a:chExt cx="140400" cy="377280"/>
                  </a:xfrm>
                </p:grpSpPr>
                <p:cxnSp>
                  <p:nvCxnSpPr>
                    <p:cNvPr id="259" name="AutoShape 580"/>
                    <p:cNvCxnSpPr/>
                    <p:nvPr/>
                  </p:nvCxnSpPr>
                  <p:spPr>
                    <a:xfrm flipH="1">
                      <a:off x="2763360" y="4241160"/>
                      <a:ext cx="31320" cy="144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0" name="AutoShape 581"/>
                    <p:cNvCxnSpPr/>
                    <p:nvPr/>
                  </p:nvCxnSpPr>
                  <p:spPr>
                    <a:xfrm flipH="1">
                      <a:off x="2823480" y="4424040"/>
                      <a:ext cx="80640" cy="194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1" name="AutoShape 582"/>
                    <p:cNvCxnSpPr/>
                    <p:nvPr/>
                  </p:nvCxnSpPr>
                  <p:spPr>
                    <a:xfrm flipH="1">
                      <a:off x="2805120" y="4295520"/>
                      <a:ext cx="45360" cy="130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2" name="AutoShape 583"/>
                    <p:cNvCxnSpPr/>
                    <p:nvPr/>
                  </p:nvCxnSpPr>
                  <p:spPr>
                    <a:xfrm flipH="1">
                      <a:off x="2815920" y="4389480"/>
                      <a:ext cx="52200" cy="124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63" name="Group 584"/>
                  <p:cNvGrpSpPr/>
                  <p:nvPr/>
                </p:nvGrpSpPr>
                <p:grpSpPr>
                  <a:xfrm>
                    <a:off x="3106800" y="4186440"/>
                    <a:ext cx="136080" cy="368280"/>
                    <a:chOff x="3106800" y="4186440"/>
                    <a:chExt cx="136080" cy="368280"/>
                  </a:xfrm>
                </p:grpSpPr>
                <p:cxnSp>
                  <p:nvCxnSpPr>
                    <p:cNvPr id="264" name="AutoShape 585"/>
                    <p:cNvCxnSpPr/>
                    <p:nvPr/>
                  </p:nvCxnSpPr>
                  <p:spPr>
                    <a:xfrm flipH="1">
                      <a:off x="3106800" y="4186440"/>
                      <a:ext cx="34920" cy="142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5" name="AutoShape 586"/>
                    <p:cNvCxnSpPr/>
                    <p:nvPr/>
                  </p:nvCxnSpPr>
                  <p:spPr>
                    <a:xfrm flipH="1">
                      <a:off x="3159360" y="4362840"/>
                      <a:ext cx="83880" cy="19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6" name="AutoShape 587"/>
                    <p:cNvCxnSpPr/>
                    <p:nvPr/>
                  </p:nvCxnSpPr>
                  <p:spPr>
                    <a:xfrm flipH="1">
                      <a:off x="3146760" y="4238280"/>
                      <a:ext cx="48240" cy="129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67" name="AutoShape 588"/>
                    <p:cNvCxnSpPr/>
                    <p:nvPr/>
                  </p:nvCxnSpPr>
                  <p:spPr>
                    <a:xfrm flipH="1">
                      <a:off x="3155400" y="4329720"/>
                      <a:ext cx="54000" cy="1234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268" name="Group 589"/>
                  <p:cNvGrpSpPr/>
                  <p:nvPr/>
                </p:nvGrpSpPr>
                <p:grpSpPr>
                  <a:xfrm>
                    <a:off x="2962800" y="4219200"/>
                    <a:ext cx="140400" cy="377280"/>
                    <a:chOff x="2962800" y="4219200"/>
                    <a:chExt cx="140400" cy="377280"/>
                  </a:xfrm>
                </p:grpSpPr>
                <p:cxnSp>
                  <p:nvCxnSpPr>
                    <p:cNvPr id="269" name="AutoShape 590"/>
                    <p:cNvCxnSpPr/>
                    <p:nvPr/>
                  </p:nvCxnSpPr>
                  <p:spPr>
                    <a:xfrm flipH="1">
                      <a:off x="2962800" y="4219200"/>
                      <a:ext cx="31320" cy="1443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0" name="AutoShape 591"/>
                    <p:cNvCxnSpPr/>
                    <p:nvPr/>
                  </p:nvCxnSpPr>
                  <p:spPr>
                    <a:xfrm flipH="1">
                      <a:off x="3022920" y="4402080"/>
                      <a:ext cx="80640" cy="194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1" name="AutoShape 592"/>
                    <p:cNvCxnSpPr/>
                    <p:nvPr/>
                  </p:nvCxnSpPr>
                  <p:spPr>
                    <a:xfrm flipH="1">
                      <a:off x="3004560" y="4273560"/>
                      <a:ext cx="45360" cy="130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272" name="AutoShape 593"/>
                    <p:cNvCxnSpPr/>
                    <p:nvPr/>
                  </p:nvCxnSpPr>
                  <p:spPr>
                    <a:xfrm flipH="1">
                      <a:off x="3015360" y="4367520"/>
                      <a:ext cx="52200" cy="1249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273" name="Group 594"/>
                <p:cNvGrpSpPr/>
                <p:nvPr/>
              </p:nvGrpSpPr>
              <p:grpSpPr>
                <a:xfrm>
                  <a:off x="2752920" y="4192200"/>
                  <a:ext cx="671400" cy="650520"/>
                  <a:chOff x="2752920" y="4192200"/>
                  <a:chExt cx="671400" cy="650520"/>
                </a:xfrm>
              </p:grpSpPr>
              <p:sp>
                <p:nvSpPr>
                  <p:cNvPr id="274" name="Arc 595"/>
                  <p:cNvSpPr/>
                  <p:nvPr/>
                </p:nvSpPr>
                <p:spPr>
                  <a:xfrm flipH="1" flipV="1" rot="505800">
                    <a:off x="2922120" y="4222800"/>
                    <a:ext cx="465480" cy="531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Arc 596"/>
                  <p:cNvSpPr/>
                  <p:nvPr/>
                </p:nvSpPr>
                <p:spPr>
                  <a:xfrm flipH="1" flipV="1" rot="21354600">
                    <a:off x="2773800" y="4223520"/>
                    <a:ext cx="466920" cy="603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Arc 597"/>
                  <p:cNvSpPr/>
                  <p:nvPr/>
                </p:nvSpPr>
                <p:spPr>
                  <a:xfrm flipH="1" flipV="1">
                    <a:off x="3119040" y="4223160"/>
                    <a:ext cx="268200" cy="5317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7" name="Group 598"/>
            <p:cNvGrpSpPr/>
            <p:nvPr/>
          </p:nvGrpSpPr>
          <p:grpSpPr>
            <a:xfrm>
              <a:off x="1122840" y="1752120"/>
              <a:ext cx="1188000" cy="2098080"/>
              <a:chOff x="1122840" y="1752120"/>
              <a:chExt cx="1188000" cy="2098080"/>
            </a:xfrm>
          </p:grpSpPr>
          <p:grpSp>
            <p:nvGrpSpPr>
              <p:cNvPr id="278" name="Group 599"/>
              <p:cNvGrpSpPr/>
              <p:nvPr/>
            </p:nvGrpSpPr>
            <p:grpSpPr>
              <a:xfrm>
                <a:off x="1165680" y="1752120"/>
                <a:ext cx="1145160" cy="2048400"/>
                <a:chOff x="1165680" y="1752120"/>
                <a:chExt cx="1145160" cy="2048400"/>
              </a:xfrm>
            </p:grpSpPr>
            <p:sp>
              <p:nvSpPr>
                <p:cNvPr id="279" name="Line 600"/>
                <p:cNvSpPr/>
                <p:nvPr/>
              </p:nvSpPr>
              <p:spPr>
                <a:xfrm>
                  <a:off x="1695600" y="2110320"/>
                  <a:ext cx="11520" cy="169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601"/>
                <p:cNvSpPr/>
                <p:nvPr/>
              </p:nvSpPr>
              <p:spPr>
                <a:xfrm rot="10800000">
                  <a:off x="1506600" y="1752120"/>
                  <a:ext cx="372600" cy="371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1" name="Group 602"/>
                <p:cNvGrpSpPr/>
                <p:nvPr/>
              </p:nvGrpSpPr>
              <p:grpSpPr>
                <a:xfrm>
                  <a:off x="1699920" y="1907280"/>
                  <a:ext cx="610920" cy="819720"/>
                  <a:chOff x="1699920" y="1907280"/>
                  <a:chExt cx="610920" cy="819720"/>
                </a:xfrm>
              </p:grpSpPr>
              <p:sp>
                <p:nvSpPr>
                  <p:cNvPr id="282" name="Arc 603"/>
                  <p:cNvSpPr/>
                  <p:nvPr/>
                </p:nvSpPr>
                <p:spPr>
                  <a:xfrm flipV="1">
                    <a:off x="1699920" y="2399400"/>
                    <a:ext cx="188280" cy="322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rc 604"/>
                  <p:cNvSpPr/>
                  <p:nvPr/>
                </p:nvSpPr>
                <p:spPr>
                  <a:xfrm flipH="1" flipV="1" rot="1816200">
                    <a:off x="1802520" y="2192760"/>
                    <a:ext cx="120960" cy="217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605"/>
                  <p:cNvSpPr/>
                  <p:nvPr/>
                </p:nvSpPr>
                <p:spPr>
                  <a:xfrm flipV="1">
                    <a:off x="1726200" y="2221200"/>
                    <a:ext cx="281880" cy="50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606"/>
                  <p:cNvSpPr/>
                  <p:nvPr/>
                </p:nvSpPr>
                <p:spPr>
                  <a:xfrm flipV="1">
                    <a:off x="1878120" y="2201760"/>
                    <a:ext cx="2880" cy="250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AutoShape 607"/>
                  <p:cNvSpPr/>
                  <p:nvPr/>
                </p:nvSpPr>
                <p:spPr>
                  <a:xfrm rot="14044200">
                    <a:off x="1884240" y="2039400"/>
                    <a:ext cx="432000" cy="207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utoShape 608"/>
                  <p:cNvSpPr/>
                  <p:nvPr/>
                </p:nvSpPr>
                <p:spPr>
                  <a:xfrm rot="10800000">
                    <a:off x="1768680" y="2027160"/>
                    <a:ext cx="207360" cy="2224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609"/>
                <p:cNvGrpSpPr/>
                <p:nvPr/>
              </p:nvGrpSpPr>
              <p:grpSpPr>
                <a:xfrm>
                  <a:off x="1165680" y="2470680"/>
                  <a:ext cx="592200" cy="942120"/>
                  <a:chOff x="1165680" y="2470680"/>
                  <a:chExt cx="592200" cy="942120"/>
                </a:xfrm>
              </p:grpSpPr>
              <p:sp>
                <p:nvSpPr>
                  <p:cNvPr id="289" name="Arc 610"/>
                  <p:cNvSpPr/>
                  <p:nvPr/>
                </p:nvSpPr>
                <p:spPr>
                  <a:xfrm flipH="1" flipV="1">
                    <a:off x="1544040" y="3110400"/>
                    <a:ext cx="168120" cy="274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611"/>
                  <p:cNvSpPr/>
                  <p:nvPr/>
                </p:nvSpPr>
                <p:spPr>
                  <a:xfrm flipV="1" rot="19780800">
                    <a:off x="1527120" y="2836800"/>
                    <a:ext cx="100800" cy="144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612"/>
                  <p:cNvSpPr/>
                  <p:nvPr/>
                </p:nvSpPr>
                <p:spPr>
                  <a:xfrm>
                    <a:off x="1394280" y="2788560"/>
                    <a:ext cx="36360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AutoShape 613"/>
                  <p:cNvSpPr/>
                  <p:nvPr/>
                </p:nvSpPr>
                <p:spPr>
                  <a:xfrm flipH="1" rot="7555800">
                    <a:off x="1160280" y="2602440"/>
                    <a:ext cx="431640" cy="207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3" name="Group 614"/>
              <p:cNvGrpSpPr/>
              <p:nvPr/>
            </p:nvGrpSpPr>
            <p:grpSpPr>
              <a:xfrm>
                <a:off x="1572480" y="3197880"/>
                <a:ext cx="669600" cy="650160"/>
                <a:chOff x="1572480" y="3197880"/>
                <a:chExt cx="669600" cy="650160"/>
              </a:xfrm>
            </p:grpSpPr>
            <p:sp>
              <p:nvSpPr>
                <p:cNvPr id="294" name="Arc 615"/>
                <p:cNvSpPr/>
                <p:nvPr/>
              </p:nvSpPr>
              <p:spPr>
                <a:xfrm flipV="1" rot="21094200">
                  <a:off x="1608480" y="3228480"/>
                  <a:ext cx="464760" cy="531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rc 616"/>
                <p:cNvSpPr/>
                <p:nvPr/>
              </p:nvSpPr>
              <p:spPr>
                <a:xfrm flipV="1" rot="245400">
                  <a:off x="1754640" y="3229200"/>
                  <a:ext cx="466200" cy="602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Arc 617"/>
                <p:cNvSpPr/>
                <p:nvPr/>
              </p:nvSpPr>
              <p:spPr>
                <a:xfrm flipV="1">
                  <a:off x="1608840" y="3229560"/>
                  <a:ext cx="267840" cy="531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618"/>
              <p:cNvGrpSpPr/>
              <p:nvPr/>
            </p:nvGrpSpPr>
            <p:grpSpPr>
              <a:xfrm>
                <a:off x="1122840" y="3200040"/>
                <a:ext cx="669240" cy="650160"/>
                <a:chOff x="1122840" y="3200040"/>
                <a:chExt cx="669240" cy="650160"/>
              </a:xfrm>
            </p:grpSpPr>
            <p:sp>
              <p:nvSpPr>
                <p:cNvPr id="298" name="Arc 619"/>
                <p:cNvSpPr/>
                <p:nvPr/>
              </p:nvSpPr>
              <p:spPr>
                <a:xfrm flipH="1" flipV="1" rot="505800">
                  <a:off x="1290240" y="3230640"/>
                  <a:ext cx="464760" cy="531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Arc 620"/>
                <p:cNvSpPr/>
                <p:nvPr/>
              </p:nvSpPr>
              <p:spPr>
                <a:xfrm flipH="1" flipV="1" rot="21354600">
                  <a:off x="1143360" y="3231360"/>
                  <a:ext cx="466200" cy="602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rc 621"/>
                <p:cNvSpPr/>
                <p:nvPr/>
              </p:nvSpPr>
              <p:spPr>
                <a:xfrm flipH="1" flipV="1">
                  <a:off x="1487880" y="3231720"/>
                  <a:ext cx="267840" cy="531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622"/>
            <p:cNvGrpSpPr/>
            <p:nvPr/>
          </p:nvGrpSpPr>
          <p:grpSpPr>
            <a:xfrm>
              <a:off x="0" y="4266720"/>
              <a:ext cx="2724120" cy="725040"/>
              <a:chOff x="0" y="4266720"/>
              <a:chExt cx="2724120" cy="725040"/>
            </a:xfrm>
          </p:grpSpPr>
          <p:grpSp>
            <p:nvGrpSpPr>
              <p:cNvPr id="302" name="Group 623"/>
              <p:cNvGrpSpPr/>
              <p:nvPr/>
            </p:nvGrpSpPr>
            <p:grpSpPr>
              <a:xfrm>
                <a:off x="250920" y="4656960"/>
                <a:ext cx="461880" cy="129240"/>
                <a:chOff x="250920" y="4656960"/>
                <a:chExt cx="461880" cy="129240"/>
              </a:xfrm>
            </p:grpSpPr>
            <p:sp>
              <p:nvSpPr>
                <p:cNvPr id="303" name="Freeform 624"/>
                <p:cNvSpPr/>
                <p:nvPr/>
              </p:nvSpPr>
              <p:spPr>
                <a:xfrm>
                  <a:off x="250920" y="4656960"/>
                  <a:ext cx="147960" cy="89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" name="Group 625"/>
                <p:cNvGrpSpPr/>
                <p:nvPr/>
              </p:nvGrpSpPr>
              <p:grpSpPr>
                <a:xfrm>
                  <a:off x="258840" y="4656960"/>
                  <a:ext cx="453960" cy="129240"/>
                  <a:chOff x="258840" y="4656960"/>
                  <a:chExt cx="453960" cy="129240"/>
                </a:xfrm>
              </p:grpSpPr>
              <p:sp>
                <p:nvSpPr>
                  <p:cNvPr id="305" name="Freeform 626"/>
                  <p:cNvSpPr/>
                  <p:nvPr/>
                </p:nvSpPr>
                <p:spPr>
                  <a:xfrm flipV="1">
                    <a:off x="258840" y="4696200"/>
                    <a:ext cx="147600" cy="89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627"/>
                  <p:cNvSpPr/>
                  <p:nvPr/>
                </p:nvSpPr>
                <p:spPr>
                  <a:xfrm flipH="1" flipV="1">
                    <a:off x="550440" y="4694040"/>
                    <a:ext cx="147600" cy="89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7" name="Group 628"/>
                  <p:cNvGrpSpPr/>
                  <p:nvPr/>
                </p:nvGrpSpPr>
                <p:grpSpPr>
                  <a:xfrm>
                    <a:off x="398520" y="4656960"/>
                    <a:ext cx="314280" cy="114480"/>
                    <a:chOff x="398520" y="4656960"/>
                    <a:chExt cx="314280" cy="114480"/>
                  </a:xfrm>
                </p:grpSpPr>
                <p:sp>
                  <p:nvSpPr>
                    <p:cNvPr id="308" name="Rectangle 629"/>
                    <p:cNvSpPr/>
                    <p:nvPr/>
                  </p:nvSpPr>
                  <p:spPr>
                    <a:xfrm>
                      <a:off x="398520" y="4656960"/>
                      <a:ext cx="147960" cy="89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630"/>
                    <p:cNvSpPr/>
                    <p:nvPr/>
                  </p:nvSpPr>
                  <p:spPr>
                    <a:xfrm flipH="1">
                      <a:off x="558000" y="4725720"/>
                      <a:ext cx="154440" cy="457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0" name="Group 631"/>
              <p:cNvGrpSpPr/>
              <p:nvPr/>
            </p:nvGrpSpPr>
            <p:grpSpPr>
              <a:xfrm>
                <a:off x="0" y="4266720"/>
                <a:ext cx="2724120" cy="725040"/>
                <a:chOff x="0" y="4266720"/>
                <a:chExt cx="2724120" cy="725040"/>
              </a:xfrm>
            </p:grpSpPr>
            <p:grpSp>
              <p:nvGrpSpPr>
                <p:cNvPr id="311" name="Group 632"/>
                <p:cNvGrpSpPr/>
                <p:nvPr/>
              </p:nvGrpSpPr>
              <p:grpSpPr>
                <a:xfrm>
                  <a:off x="1271520" y="4314960"/>
                  <a:ext cx="348840" cy="435600"/>
                  <a:chOff x="1271520" y="4314960"/>
                  <a:chExt cx="348840" cy="435600"/>
                </a:xfrm>
              </p:grpSpPr>
              <p:sp>
                <p:nvSpPr>
                  <p:cNvPr id="312" name="Oval 633"/>
                  <p:cNvSpPr/>
                  <p:nvPr/>
                </p:nvSpPr>
                <p:spPr>
                  <a:xfrm rot="1770600">
                    <a:off x="1359360" y="4331160"/>
                    <a:ext cx="172800" cy="40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634"/>
                  <p:cNvSpPr/>
                  <p:nvPr/>
                </p:nvSpPr>
                <p:spPr>
                  <a:xfrm flipV="1">
                    <a:off x="1361520" y="4443480"/>
                    <a:ext cx="133920" cy="23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635"/>
                <p:cNvGrpSpPr/>
                <p:nvPr/>
              </p:nvGrpSpPr>
              <p:grpSpPr>
                <a:xfrm>
                  <a:off x="2381760" y="4615920"/>
                  <a:ext cx="121320" cy="163440"/>
                  <a:chOff x="2381760" y="4615920"/>
                  <a:chExt cx="121320" cy="163440"/>
                </a:xfrm>
              </p:grpSpPr>
              <p:cxnSp>
                <p:nvCxnSpPr>
                  <p:cNvPr id="315" name="AutoShape 636"/>
                  <p:cNvCxnSpPr/>
                  <p:nvPr/>
                </p:nvCxnSpPr>
                <p:spPr>
                  <a:xfrm>
                    <a:off x="2396880" y="4615920"/>
                    <a:ext cx="106560" cy="1638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6" name="AutoShape 637"/>
                  <p:cNvCxnSpPr/>
                  <p:nvPr/>
                </p:nvCxnSpPr>
                <p:spPr>
                  <a:xfrm flipH="1">
                    <a:off x="2381760" y="4615920"/>
                    <a:ext cx="121680" cy="1638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17" name="Group 638"/>
                <p:cNvGrpSpPr/>
                <p:nvPr/>
              </p:nvGrpSpPr>
              <p:grpSpPr>
                <a:xfrm>
                  <a:off x="899280" y="4307760"/>
                  <a:ext cx="345240" cy="431640"/>
                  <a:chOff x="899280" y="4307760"/>
                  <a:chExt cx="345240" cy="431640"/>
                </a:xfrm>
              </p:grpSpPr>
              <p:sp>
                <p:nvSpPr>
                  <p:cNvPr id="318" name="Oval 639"/>
                  <p:cNvSpPr/>
                  <p:nvPr/>
                </p:nvSpPr>
                <p:spPr>
                  <a:xfrm rot="1800000">
                    <a:off x="988560" y="4322160"/>
                    <a:ext cx="166320" cy="40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640"/>
                  <p:cNvSpPr/>
                  <p:nvPr/>
                </p:nvSpPr>
                <p:spPr>
                  <a:xfrm flipV="1">
                    <a:off x="986760" y="4434840"/>
                    <a:ext cx="13536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641"/>
                <p:cNvGrpSpPr/>
                <p:nvPr/>
              </p:nvGrpSpPr>
              <p:grpSpPr>
                <a:xfrm>
                  <a:off x="1592280" y="4305960"/>
                  <a:ext cx="371520" cy="460080"/>
                  <a:chOff x="1592280" y="4305960"/>
                  <a:chExt cx="371520" cy="460080"/>
                </a:xfrm>
              </p:grpSpPr>
              <p:sp>
                <p:nvSpPr>
                  <p:cNvPr id="321" name="Oval 642"/>
                  <p:cNvSpPr/>
                  <p:nvPr/>
                </p:nvSpPr>
                <p:spPr>
                  <a:xfrm rot="1800000">
                    <a:off x="1686240" y="4323240"/>
                    <a:ext cx="183240" cy="42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643"/>
                  <p:cNvSpPr/>
                  <p:nvPr/>
                </p:nvSpPr>
                <p:spPr>
                  <a:xfrm flipV="1">
                    <a:off x="1687320" y="4442400"/>
                    <a:ext cx="14328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644"/>
                <p:cNvGrpSpPr/>
                <p:nvPr/>
              </p:nvGrpSpPr>
              <p:grpSpPr>
                <a:xfrm>
                  <a:off x="259560" y="4726800"/>
                  <a:ext cx="461160" cy="129240"/>
                  <a:chOff x="259560" y="4726800"/>
                  <a:chExt cx="461160" cy="129240"/>
                </a:xfrm>
              </p:grpSpPr>
              <p:sp>
                <p:nvSpPr>
                  <p:cNvPr id="324" name="Freeform 645"/>
                  <p:cNvSpPr/>
                  <p:nvPr/>
                </p:nvSpPr>
                <p:spPr>
                  <a:xfrm>
                    <a:off x="259560" y="4726800"/>
                    <a:ext cx="147600" cy="89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646"/>
                  <p:cNvGrpSpPr/>
                  <p:nvPr/>
                </p:nvGrpSpPr>
                <p:grpSpPr>
                  <a:xfrm>
                    <a:off x="267480" y="4726800"/>
                    <a:ext cx="453240" cy="129240"/>
                    <a:chOff x="267480" y="4726800"/>
                    <a:chExt cx="453240" cy="129240"/>
                  </a:xfrm>
                </p:grpSpPr>
                <p:sp>
                  <p:nvSpPr>
                    <p:cNvPr id="326" name="Freeform 647"/>
                    <p:cNvSpPr/>
                    <p:nvPr/>
                  </p:nvSpPr>
                  <p:spPr>
                    <a:xfrm flipV="1">
                      <a:off x="267480" y="4766040"/>
                      <a:ext cx="147600" cy="896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648"/>
                    <p:cNvSpPr/>
                    <p:nvPr/>
                  </p:nvSpPr>
                  <p:spPr>
                    <a:xfrm flipH="1" flipV="1">
                      <a:off x="558720" y="4763880"/>
                      <a:ext cx="147600" cy="896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8" name="Group 649"/>
                    <p:cNvGrpSpPr/>
                    <p:nvPr/>
                  </p:nvGrpSpPr>
                  <p:grpSpPr>
                    <a:xfrm>
                      <a:off x="406800" y="4726800"/>
                      <a:ext cx="313920" cy="114480"/>
                      <a:chOff x="406800" y="4726800"/>
                      <a:chExt cx="313920" cy="114480"/>
                    </a:xfrm>
                  </p:grpSpPr>
                  <p:sp>
                    <p:nvSpPr>
                      <p:cNvPr id="329" name="Rectangle 650"/>
                      <p:cNvSpPr/>
                      <p:nvPr/>
                    </p:nvSpPr>
                    <p:spPr>
                      <a:xfrm>
                        <a:off x="406800" y="4726800"/>
                        <a:ext cx="147600" cy="89640"/>
                      </a:xfrm>
                      <a:prstGeom prst="rect">
                        <a:avLst/>
                      </a:prstGeom>
                      <a:solidFill>
                        <a:srgbClr val="a5a5a5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840" bIns="42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" name="Freeform 651"/>
                      <p:cNvSpPr/>
                      <p:nvPr/>
                    </p:nvSpPr>
                    <p:spPr>
                      <a:xfrm flipH="1">
                        <a:off x="566640" y="4795560"/>
                        <a:ext cx="154080" cy="457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31" name="Arc 652"/>
                <p:cNvSpPr/>
                <p:nvPr/>
              </p:nvSpPr>
              <p:spPr>
                <a:xfrm flipV="1">
                  <a:off x="567000" y="4337280"/>
                  <a:ext cx="380520" cy="343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rc 653"/>
                <p:cNvSpPr/>
                <p:nvPr/>
              </p:nvSpPr>
              <p:spPr>
                <a:xfrm flipV="1">
                  <a:off x="35640" y="4266360"/>
                  <a:ext cx="381240" cy="376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Arc 654"/>
                <p:cNvSpPr/>
                <p:nvPr/>
              </p:nvSpPr>
              <p:spPr>
                <a:xfrm flipV="1">
                  <a:off x="0" y="4419360"/>
                  <a:ext cx="423000" cy="292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4" name="Group 655"/>
                <p:cNvGrpSpPr/>
                <p:nvPr/>
              </p:nvGrpSpPr>
              <p:grpSpPr>
                <a:xfrm>
                  <a:off x="1005120" y="4600440"/>
                  <a:ext cx="244080" cy="241560"/>
                  <a:chOff x="1005120" y="4600440"/>
                  <a:chExt cx="244080" cy="241560"/>
                </a:xfrm>
              </p:grpSpPr>
              <p:sp>
                <p:nvSpPr>
                  <p:cNvPr id="335" name="Arc 656"/>
                  <p:cNvSpPr/>
                  <p:nvPr/>
                </p:nvSpPr>
                <p:spPr>
                  <a:xfrm flipV="1" rot="2984400">
                    <a:off x="1046880" y="4628520"/>
                    <a:ext cx="160560" cy="183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657"/>
                  <p:cNvSpPr/>
                  <p:nvPr/>
                </p:nvSpPr>
                <p:spPr>
                  <a:xfrm>
                    <a:off x="1182960" y="4776120"/>
                    <a:ext cx="39600" cy="4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" name="Freeform 658"/>
                <p:cNvSpPr/>
                <p:nvPr/>
              </p:nvSpPr>
              <p:spPr>
                <a:xfrm>
                  <a:off x="481320" y="4568040"/>
                  <a:ext cx="2098080" cy="154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AutoShape 659"/>
                <p:cNvSpPr/>
                <p:nvPr/>
              </p:nvSpPr>
              <p:spPr>
                <a:xfrm rot="5400000">
                  <a:off x="2607120" y="4583160"/>
                  <a:ext cx="88920" cy="144720"/>
                </a:xfrm>
                <a:prstGeom prst="triangle">
                  <a:avLst>
                    <a:gd name="adj" fmla="val 38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Group 660"/>
                <p:cNvGrpSpPr/>
                <p:nvPr/>
              </p:nvGrpSpPr>
              <p:grpSpPr>
                <a:xfrm>
                  <a:off x="1707480" y="4639320"/>
                  <a:ext cx="242640" cy="237600"/>
                  <a:chOff x="1707480" y="4639320"/>
                  <a:chExt cx="242640" cy="237600"/>
                </a:xfrm>
              </p:grpSpPr>
              <p:sp>
                <p:nvSpPr>
                  <p:cNvPr id="340" name="Arc 661"/>
                  <p:cNvSpPr/>
                  <p:nvPr/>
                </p:nvSpPr>
                <p:spPr>
                  <a:xfrm flipV="1" rot="3266400">
                    <a:off x="1748160" y="4666320"/>
                    <a:ext cx="160920" cy="183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662"/>
                  <p:cNvSpPr/>
                  <p:nvPr/>
                </p:nvSpPr>
                <p:spPr>
                  <a:xfrm>
                    <a:off x="1880640" y="4817880"/>
                    <a:ext cx="35640" cy="5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63"/>
                <p:cNvGrpSpPr/>
                <p:nvPr/>
              </p:nvGrpSpPr>
              <p:grpSpPr>
                <a:xfrm>
                  <a:off x="1266840" y="4459680"/>
                  <a:ext cx="244080" cy="241200"/>
                  <a:chOff x="1266840" y="4459680"/>
                  <a:chExt cx="244080" cy="241200"/>
                </a:xfrm>
              </p:grpSpPr>
              <p:sp>
                <p:nvSpPr>
                  <p:cNvPr id="343" name="Arc 664"/>
                  <p:cNvSpPr/>
                  <p:nvPr/>
                </p:nvSpPr>
                <p:spPr>
                  <a:xfrm rot="13800000">
                    <a:off x="1308600" y="4488120"/>
                    <a:ext cx="160560" cy="183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665"/>
                  <p:cNvSpPr/>
                  <p:nvPr/>
                </p:nvSpPr>
                <p:spPr>
                  <a:xfrm flipH="1" flipV="1">
                    <a:off x="1305000" y="4468680"/>
                    <a:ext cx="39240" cy="4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666"/>
                <p:cNvGrpSpPr/>
                <p:nvPr/>
              </p:nvGrpSpPr>
              <p:grpSpPr>
                <a:xfrm>
                  <a:off x="1991880" y="4449960"/>
                  <a:ext cx="244080" cy="241200"/>
                  <a:chOff x="1991880" y="4449960"/>
                  <a:chExt cx="244080" cy="241200"/>
                </a:xfrm>
              </p:grpSpPr>
              <p:sp>
                <p:nvSpPr>
                  <p:cNvPr id="346" name="Arc 667"/>
                  <p:cNvSpPr/>
                  <p:nvPr/>
                </p:nvSpPr>
                <p:spPr>
                  <a:xfrm rot="13800000">
                    <a:off x="2033640" y="4478400"/>
                    <a:ext cx="160560" cy="183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668"/>
                  <p:cNvSpPr/>
                  <p:nvPr/>
                </p:nvSpPr>
                <p:spPr>
                  <a:xfrm flipH="1" flipV="1">
                    <a:off x="2030040" y="4458960"/>
                    <a:ext cx="39240" cy="4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669"/>
                <p:cNvGrpSpPr/>
                <p:nvPr/>
              </p:nvGrpSpPr>
              <p:grpSpPr>
                <a:xfrm>
                  <a:off x="2031840" y="4708440"/>
                  <a:ext cx="128880" cy="266760"/>
                  <a:chOff x="2031840" y="4708440"/>
                  <a:chExt cx="128880" cy="266760"/>
                </a:xfrm>
              </p:grpSpPr>
              <p:sp>
                <p:nvSpPr>
                  <p:cNvPr id="349" name="Freeform 670"/>
                  <p:cNvSpPr/>
                  <p:nvPr/>
                </p:nvSpPr>
                <p:spPr>
                  <a:xfrm>
                    <a:off x="2090880" y="4717080"/>
                    <a:ext cx="35280" cy="201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671"/>
                  <p:cNvSpPr/>
                  <p:nvPr/>
                </p:nvSpPr>
                <p:spPr>
                  <a:xfrm rot="21000000">
                    <a:off x="2107440" y="4709520"/>
                    <a:ext cx="32400" cy="241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672"/>
                  <p:cNvSpPr/>
                  <p:nvPr/>
                </p:nvSpPr>
                <p:spPr>
                  <a:xfrm flipH="1" rot="600000">
                    <a:off x="2052720" y="4732200"/>
                    <a:ext cx="32400" cy="241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673"/>
                <p:cNvGrpSpPr/>
                <p:nvPr/>
              </p:nvGrpSpPr>
              <p:grpSpPr>
                <a:xfrm>
                  <a:off x="1642320" y="4725720"/>
                  <a:ext cx="128880" cy="266040"/>
                  <a:chOff x="1642320" y="4725720"/>
                  <a:chExt cx="128880" cy="266040"/>
                </a:xfrm>
              </p:grpSpPr>
              <p:sp>
                <p:nvSpPr>
                  <p:cNvPr id="353" name="Freeform 674"/>
                  <p:cNvSpPr/>
                  <p:nvPr/>
                </p:nvSpPr>
                <p:spPr>
                  <a:xfrm>
                    <a:off x="1701000" y="4734360"/>
                    <a:ext cx="35280" cy="201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675"/>
                  <p:cNvSpPr/>
                  <p:nvPr/>
                </p:nvSpPr>
                <p:spPr>
                  <a:xfrm rot="21000000">
                    <a:off x="1717920" y="4726800"/>
                    <a:ext cx="32400" cy="241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676"/>
                  <p:cNvSpPr/>
                  <p:nvPr/>
                </p:nvSpPr>
                <p:spPr>
                  <a:xfrm flipH="1" rot="600000">
                    <a:off x="1663200" y="4749480"/>
                    <a:ext cx="32400" cy="241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677"/>
                <p:cNvGrpSpPr/>
                <p:nvPr/>
              </p:nvGrpSpPr>
              <p:grpSpPr>
                <a:xfrm>
                  <a:off x="1303200" y="4709880"/>
                  <a:ext cx="124920" cy="265320"/>
                  <a:chOff x="1303200" y="4709880"/>
                  <a:chExt cx="124920" cy="265320"/>
                </a:xfrm>
              </p:grpSpPr>
              <p:sp>
                <p:nvSpPr>
                  <p:cNvPr id="357" name="Freeform 678"/>
                  <p:cNvSpPr/>
                  <p:nvPr/>
                </p:nvSpPr>
                <p:spPr>
                  <a:xfrm>
                    <a:off x="1358280" y="4718160"/>
                    <a:ext cx="34560" cy="200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679"/>
                  <p:cNvSpPr/>
                  <p:nvPr/>
                </p:nvSpPr>
                <p:spPr>
                  <a:xfrm rot="21000000">
                    <a:off x="1375200" y="4710600"/>
                    <a:ext cx="32040" cy="2408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680"/>
                  <p:cNvSpPr/>
                  <p:nvPr/>
                </p:nvSpPr>
                <p:spPr>
                  <a:xfrm flipH="1" rot="600000">
                    <a:off x="1323000" y="4733640"/>
                    <a:ext cx="32040" cy="240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Group 681"/>
                <p:cNvGrpSpPr/>
                <p:nvPr/>
              </p:nvGrpSpPr>
              <p:grpSpPr>
                <a:xfrm>
                  <a:off x="926280" y="4679640"/>
                  <a:ext cx="128520" cy="265320"/>
                  <a:chOff x="926280" y="4679640"/>
                  <a:chExt cx="128520" cy="265320"/>
                </a:xfrm>
              </p:grpSpPr>
              <p:sp>
                <p:nvSpPr>
                  <p:cNvPr id="361" name="Freeform 682"/>
                  <p:cNvSpPr/>
                  <p:nvPr/>
                </p:nvSpPr>
                <p:spPr>
                  <a:xfrm>
                    <a:off x="984600" y="4688280"/>
                    <a:ext cx="35280" cy="2005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683"/>
                  <p:cNvSpPr/>
                  <p:nvPr/>
                </p:nvSpPr>
                <p:spPr>
                  <a:xfrm rot="21000000">
                    <a:off x="1001520" y="4680720"/>
                    <a:ext cx="32400" cy="240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684"/>
                  <p:cNvSpPr/>
                  <p:nvPr/>
                </p:nvSpPr>
                <p:spPr>
                  <a:xfrm flipH="1" rot="600000">
                    <a:off x="946800" y="4703400"/>
                    <a:ext cx="32400" cy="240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Group 685"/>
                <p:cNvGrpSpPr/>
                <p:nvPr/>
              </p:nvGrpSpPr>
              <p:grpSpPr>
                <a:xfrm>
                  <a:off x="214560" y="4410720"/>
                  <a:ext cx="402120" cy="502560"/>
                  <a:chOff x="214560" y="4410720"/>
                  <a:chExt cx="402120" cy="502560"/>
                </a:xfrm>
              </p:grpSpPr>
              <p:cxnSp>
                <p:nvCxnSpPr>
                  <p:cNvPr id="365" name="AutoShape 686"/>
                  <p:cNvCxnSpPr/>
                  <p:nvPr/>
                </p:nvCxnSpPr>
                <p:spPr>
                  <a:xfrm>
                    <a:off x="264960" y="4410720"/>
                    <a:ext cx="352080" cy="502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66" name="AutoShape 687"/>
                  <p:cNvCxnSpPr/>
                  <p:nvPr/>
                </p:nvCxnSpPr>
                <p:spPr>
                  <a:xfrm flipH="1">
                    <a:off x="214560" y="4410720"/>
                    <a:ext cx="402120" cy="502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367" name="Oval 688"/>
                <p:cNvSpPr/>
                <p:nvPr/>
              </p:nvSpPr>
              <p:spPr>
                <a:xfrm rot="1800000">
                  <a:off x="2085120" y="4587120"/>
                  <a:ext cx="42840" cy="118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" name="Group 689"/>
            <p:cNvGrpSpPr/>
            <p:nvPr/>
          </p:nvGrpSpPr>
          <p:grpSpPr>
            <a:xfrm>
              <a:off x="4495680" y="4038480"/>
              <a:ext cx="3676680" cy="992160"/>
              <a:chOff x="4495680" y="4038480"/>
              <a:chExt cx="3676680" cy="992160"/>
            </a:xfrm>
          </p:grpSpPr>
          <p:sp>
            <p:nvSpPr>
              <p:cNvPr id="369" name="Arc 690"/>
              <p:cNvSpPr/>
              <p:nvPr/>
            </p:nvSpPr>
            <p:spPr>
              <a:xfrm flipV="1">
                <a:off x="5261040" y="4202280"/>
                <a:ext cx="514440" cy="434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Group 691"/>
              <p:cNvGrpSpPr/>
              <p:nvPr/>
            </p:nvGrpSpPr>
            <p:grpSpPr>
              <a:xfrm>
                <a:off x="4495680" y="4038480"/>
                <a:ext cx="3676680" cy="992160"/>
                <a:chOff x="4495680" y="4038480"/>
                <a:chExt cx="3676680" cy="992160"/>
              </a:xfrm>
            </p:grpSpPr>
            <p:sp>
              <p:nvSpPr>
                <p:cNvPr id="371" name="Rectangle 692"/>
                <p:cNvSpPr/>
                <p:nvPr/>
              </p:nvSpPr>
              <p:spPr>
                <a:xfrm>
                  <a:off x="5057640" y="4818960"/>
                  <a:ext cx="164520" cy="95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2" name="Group 693"/>
                <p:cNvGrpSpPr/>
                <p:nvPr/>
              </p:nvGrpSpPr>
              <p:grpSpPr>
                <a:xfrm>
                  <a:off x="6513480" y="4590000"/>
                  <a:ext cx="162000" cy="207000"/>
                  <a:chOff x="6513480" y="4590000"/>
                  <a:chExt cx="162000" cy="207000"/>
                </a:xfrm>
              </p:grpSpPr>
              <p:cxnSp>
                <p:nvCxnSpPr>
                  <p:cNvPr id="373" name="AutoShape 694"/>
                  <p:cNvCxnSpPr/>
                  <p:nvPr/>
                </p:nvCxnSpPr>
                <p:spPr>
                  <a:xfrm>
                    <a:off x="6533640" y="4590000"/>
                    <a:ext cx="142200" cy="207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74" name="AutoShape 695"/>
                  <p:cNvCxnSpPr/>
                  <p:nvPr/>
                </p:nvCxnSpPr>
                <p:spPr>
                  <a:xfrm flipH="1">
                    <a:off x="6513480" y="4590000"/>
                    <a:ext cx="162360" cy="207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75" name="Group 696"/>
                <p:cNvGrpSpPr/>
                <p:nvPr/>
              </p:nvGrpSpPr>
              <p:grpSpPr>
                <a:xfrm>
                  <a:off x="7653240" y="4475160"/>
                  <a:ext cx="216000" cy="266760"/>
                  <a:chOff x="7653240" y="4475160"/>
                  <a:chExt cx="216000" cy="266760"/>
                </a:xfrm>
              </p:grpSpPr>
              <p:cxnSp>
                <p:nvCxnSpPr>
                  <p:cNvPr id="376" name="AutoShape 697"/>
                  <p:cNvCxnSpPr/>
                  <p:nvPr/>
                </p:nvCxnSpPr>
                <p:spPr>
                  <a:xfrm>
                    <a:off x="7680240" y="4475160"/>
                    <a:ext cx="189360" cy="267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77" name="AutoShape 698"/>
                  <p:cNvCxnSpPr/>
                  <p:nvPr/>
                </p:nvCxnSpPr>
                <p:spPr>
                  <a:xfrm flipH="1">
                    <a:off x="7653240" y="4475160"/>
                    <a:ext cx="216000" cy="267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78" name="Group 699"/>
                <p:cNvGrpSpPr/>
                <p:nvPr/>
              </p:nvGrpSpPr>
              <p:grpSpPr>
                <a:xfrm>
                  <a:off x="5568840" y="4483800"/>
                  <a:ext cx="162000" cy="207000"/>
                  <a:chOff x="5568840" y="4483800"/>
                  <a:chExt cx="162000" cy="207000"/>
                </a:xfrm>
              </p:grpSpPr>
              <p:cxnSp>
                <p:nvCxnSpPr>
                  <p:cNvPr id="379" name="AutoShape 700"/>
                  <p:cNvCxnSpPr/>
                  <p:nvPr/>
                </p:nvCxnSpPr>
                <p:spPr>
                  <a:xfrm>
                    <a:off x="5589000" y="4483800"/>
                    <a:ext cx="142200" cy="207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80" name="AutoShape 701"/>
                  <p:cNvCxnSpPr/>
                  <p:nvPr/>
                </p:nvCxnSpPr>
                <p:spPr>
                  <a:xfrm flipH="1">
                    <a:off x="5568840" y="4483800"/>
                    <a:ext cx="162360" cy="207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81" name="Group 702"/>
                <p:cNvGrpSpPr/>
                <p:nvPr/>
              </p:nvGrpSpPr>
              <p:grpSpPr>
                <a:xfrm>
                  <a:off x="6091560" y="4569840"/>
                  <a:ext cx="162000" cy="208080"/>
                  <a:chOff x="6091560" y="4569840"/>
                  <a:chExt cx="162000" cy="208080"/>
                </a:xfrm>
              </p:grpSpPr>
              <p:cxnSp>
                <p:nvCxnSpPr>
                  <p:cNvPr id="382" name="AutoShape 703"/>
                  <p:cNvCxnSpPr/>
                  <p:nvPr/>
                </p:nvCxnSpPr>
                <p:spPr>
                  <a:xfrm>
                    <a:off x="6111720" y="4569840"/>
                    <a:ext cx="142200" cy="208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83" name="AutoShape 704"/>
                  <p:cNvCxnSpPr/>
                  <p:nvPr/>
                </p:nvCxnSpPr>
                <p:spPr>
                  <a:xfrm flipH="1">
                    <a:off x="6091560" y="4569840"/>
                    <a:ext cx="162360" cy="208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84" name="Group 705"/>
                <p:cNvGrpSpPr/>
                <p:nvPr/>
              </p:nvGrpSpPr>
              <p:grpSpPr>
                <a:xfrm>
                  <a:off x="7039080" y="4587480"/>
                  <a:ext cx="162000" cy="205560"/>
                  <a:chOff x="7039080" y="4587480"/>
                  <a:chExt cx="162000" cy="205560"/>
                </a:xfrm>
              </p:grpSpPr>
              <p:cxnSp>
                <p:nvCxnSpPr>
                  <p:cNvPr id="385" name="AutoShape 706"/>
                  <p:cNvCxnSpPr/>
                  <p:nvPr/>
                </p:nvCxnSpPr>
                <p:spPr>
                  <a:xfrm>
                    <a:off x="7059240" y="4587480"/>
                    <a:ext cx="142200" cy="205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86" name="AutoShape 707"/>
                  <p:cNvCxnSpPr/>
                  <p:nvPr/>
                </p:nvCxnSpPr>
                <p:spPr>
                  <a:xfrm flipH="1">
                    <a:off x="7039080" y="4587480"/>
                    <a:ext cx="162360" cy="205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87" name="Group 708"/>
                <p:cNvGrpSpPr/>
                <p:nvPr/>
              </p:nvGrpSpPr>
              <p:grpSpPr>
                <a:xfrm>
                  <a:off x="4834800" y="4608360"/>
                  <a:ext cx="622800" cy="164520"/>
                  <a:chOff x="4834800" y="4608360"/>
                  <a:chExt cx="622800" cy="164520"/>
                </a:xfrm>
              </p:grpSpPr>
              <p:sp>
                <p:nvSpPr>
                  <p:cNvPr id="388" name="Freeform 709"/>
                  <p:cNvSpPr/>
                  <p:nvPr/>
                </p:nvSpPr>
                <p:spPr>
                  <a:xfrm>
                    <a:off x="4834800" y="4608360"/>
                    <a:ext cx="199080" cy="1137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9" name="Group 710"/>
                  <p:cNvGrpSpPr/>
                  <p:nvPr/>
                </p:nvGrpSpPr>
                <p:grpSpPr>
                  <a:xfrm>
                    <a:off x="4845600" y="4608360"/>
                    <a:ext cx="612000" cy="164520"/>
                    <a:chOff x="4845600" y="4608360"/>
                    <a:chExt cx="612000" cy="164520"/>
                  </a:xfrm>
                </p:grpSpPr>
                <p:sp>
                  <p:nvSpPr>
                    <p:cNvPr id="390" name="Freeform 711"/>
                    <p:cNvSpPr/>
                    <p:nvPr/>
                  </p:nvSpPr>
                  <p:spPr>
                    <a:xfrm flipV="1">
                      <a:off x="4845600" y="4659120"/>
                      <a:ext cx="199080" cy="11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712"/>
                    <p:cNvSpPr/>
                    <p:nvPr/>
                  </p:nvSpPr>
                  <p:spPr>
                    <a:xfrm flipH="1" flipV="1">
                      <a:off x="5238000" y="4656600"/>
                      <a:ext cx="199080" cy="11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92" name="Group 713"/>
                    <p:cNvGrpSpPr/>
                    <p:nvPr/>
                  </p:nvGrpSpPr>
                  <p:grpSpPr>
                    <a:xfrm>
                      <a:off x="5033880" y="4608360"/>
                      <a:ext cx="423720" cy="145440"/>
                      <a:chOff x="5033880" y="4608360"/>
                      <a:chExt cx="423720" cy="145440"/>
                    </a:xfrm>
                  </p:grpSpPr>
                  <p:sp>
                    <p:nvSpPr>
                      <p:cNvPr id="393" name="Rectangle 714"/>
                      <p:cNvSpPr/>
                      <p:nvPr/>
                    </p:nvSpPr>
                    <p:spPr>
                      <a:xfrm>
                        <a:off x="5033880" y="4608360"/>
                        <a:ext cx="199080" cy="1137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Freeform 715"/>
                      <p:cNvSpPr/>
                      <p:nvPr/>
                    </p:nvSpPr>
                    <p:spPr>
                      <a:xfrm flipH="1">
                        <a:off x="5249520" y="4695840"/>
                        <a:ext cx="208080" cy="579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95" name="Group 716"/>
                <p:cNvGrpSpPr/>
                <p:nvPr/>
              </p:nvGrpSpPr>
              <p:grpSpPr>
                <a:xfrm>
                  <a:off x="4845600" y="4695840"/>
                  <a:ext cx="622800" cy="163440"/>
                  <a:chOff x="4845600" y="4695840"/>
                  <a:chExt cx="622800" cy="163440"/>
                </a:xfrm>
              </p:grpSpPr>
              <p:sp>
                <p:nvSpPr>
                  <p:cNvPr id="396" name="Freeform 717"/>
                  <p:cNvSpPr/>
                  <p:nvPr/>
                </p:nvSpPr>
                <p:spPr>
                  <a:xfrm>
                    <a:off x="4845600" y="4695840"/>
                    <a:ext cx="199080" cy="1130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7" name="Group 718"/>
                  <p:cNvGrpSpPr/>
                  <p:nvPr/>
                </p:nvGrpSpPr>
                <p:grpSpPr>
                  <a:xfrm>
                    <a:off x="4856400" y="4695840"/>
                    <a:ext cx="612000" cy="163440"/>
                    <a:chOff x="4856400" y="4695840"/>
                    <a:chExt cx="612000" cy="163440"/>
                  </a:xfrm>
                </p:grpSpPr>
                <p:sp>
                  <p:nvSpPr>
                    <p:cNvPr id="398" name="Freeform 719"/>
                    <p:cNvSpPr/>
                    <p:nvPr/>
                  </p:nvSpPr>
                  <p:spPr>
                    <a:xfrm flipV="1">
                      <a:off x="4856400" y="4746240"/>
                      <a:ext cx="199080" cy="1130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720"/>
                    <p:cNvSpPr/>
                    <p:nvPr/>
                  </p:nvSpPr>
                  <p:spPr>
                    <a:xfrm flipH="1" flipV="1">
                      <a:off x="5248800" y="4743360"/>
                      <a:ext cx="199080" cy="1130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0" name="Group 721"/>
                    <p:cNvGrpSpPr/>
                    <p:nvPr/>
                  </p:nvGrpSpPr>
                  <p:grpSpPr>
                    <a:xfrm>
                      <a:off x="5044680" y="4695840"/>
                      <a:ext cx="423720" cy="144000"/>
                      <a:chOff x="5044680" y="4695840"/>
                      <a:chExt cx="423720" cy="144000"/>
                    </a:xfrm>
                  </p:grpSpPr>
                  <p:sp>
                    <p:nvSpPr>
                      <p:cNvPr id="401" name="Rectangle 722"/>
                      <p:cNvSpPr/>
                      <p:nvPr/>
                    </p:nvSpPr>
                    <p:spPr>
                      <a:xfrm>
                        <a:off x="5044680" y="4695840"/>
                        <a:ext cx="199080" cy="112680"/>
                      </a:xfrm>
                      <a:prstGeom prst="rect">
                        <a:avLst/>
                      </a:prstGeom>
                      <a:solidFill>
                        <a:srgbClr val="a5a5a5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Freeform 723"/>
                      <p:cNvSpPr/>
                      <p:nvPr/>
                    </p:nvSpPr>
                    <p:spPr>
                      <a:xfrm flipH="1">
                        <a:off x="5260320" y="4782240"/>
                        <a:ext cx="208080" cy="57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03" name="Arc 724"/>
                <p:cNvSpPr/>
                <p:nvPr/>
              </p:nvSpPr>
              <p:spPr>
                <a:xfrm flipV="1">
                  <a:off x="4543920" y="4114080"/>
                  <a:ext cx="514440" cy="476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Arc 725"/>
                <p:cNvSpPr/>
                <p:nvPr/>
              </p:nvSpPr>
              <p:spPr>
                <a:xfrm flipV="1">
                  <a:off x="4495680" y="4309200"/>
                  <a:ext cx="570960" cy="367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Group 726"/>
                <p:cNvGrpSpPr/>
                <p:nvPr/>
              </p:nvGrpSpPr>
              <p:grpSpPr>
                <a:xfrm>
                  <a:off x="5139360" y="4038480"/>
                  <a:ext cx="3033000" cy="992160"/>
                  <a:chOff x="5139360" y="4038480"/>
                  <a:chExt cx="3033000" cy="992160"/>
                </a:xfrm>
              </p:grpSpPr>
              <p:grpSp>
                <p:nvGrpSpPr>
                  <p:cNvPr id="406" name="Group 727"/>
                  <p:cNvGrpSpPr/>
                  <p:nvPr/>
                </p:nvGrpSpPr>
                <p:grpSpPr>
                  <a:xfrm>
                    <a:off x="5805720" y="4391280"/>
                    <a:ext cx="244440" cy="357120"/>
                    <a:chOff x="5805720" y="4391280"/>
                    <a:chExt cx="244440" cy="357120"/>
                  </a:xfrm>
                </p:grpSpPr>
                <p:sp>
                  <p:nvSpPr>
                    <p:cNvPr id="407" name="Oval 728"/>
                    <p:cNvSpPr/>
                    <p:nvPr/>
                  </p:nvSpPr>
                  <p:spPr>
                    <a:xfrm rot="1200000">
                      <a:off x="5857560" y="4405320"/>
                      <a:ext cx="140760" cy="328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729"/>
                    <p:cNvSpPr/>
                    <p:nvPr/>
                  </p:nvSpPr>
                  <p:spPr>
                    <a:xfrm flipV="1">
                      <a:off x="5879160" y="4491360"/>
                      <a:ext cx="76320" cy="205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730"/>
                  <p:cNvGrpSpPr/>
                  <p:nvPr/>
                </p:nvGrpSpPr>
                <p:grpSpPr>
                  <a:xfrm>
                    <a:off x="6269400" y="4352760"/>
                    <a:ext cx="246240" cy="357120"/>
                    <a:chOff x="6269400" y="4352760"/>
                    <a:chExt cx="246240" cy="357120"/>
                  </a:xfrm>
                </p:grpSpPr>
                <p:sp>
                  <p:nvSpPr>
                    <p:cNvPr id="410" name="Oval 731"/>
                    <p:cNvSpPr/>
                    <p:nvPr/>
                  </p:nvSpPr>
                  <p:spPr>
                    <a:xfrm rot="1200000">
                      <a:off x="6321240" y="4367160"/>
                      <a:ext cx="142560" cy="328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32"/>
                    <p:cNvSpPr/>
                    <p:nvPr/>
                  </p:nvSpPr>
                  <p:spPr>
                    <a:xfrm flipV="1">
                      <a:off x="6343560" y="4452840"/>
                      <a:ext cx="76320" cy="205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733"/>
                  <p:cNvGrpSpPr/>
                  <p:nvPr/>
                </p:nvGrpSpPr>
                <p:grpSpPr>
                  <a:xfrm>
                    <a:off x="6746760" y="4432680"/>
                    <a:ext cx="245880" cy="358560"/>
                    <a:chOff x="6746760" y="4432680"/>
                    <a:chExt cx="245880" cy="358560"/>
                  </a:xfrm>
                </p:grpSpPr>
                <p:sp>
                  <p:nvSpPr>
                    <p:cNvPr id="413" name="Oval 734"/>
                    <p:cNvSpPr/>
                    <p:nvPr/>
                  </p:nvSpPr>
                  <p:spPr>
                    <a:xfrm rot="1200000">
                      <a:off x="6798600" y="4446720"/>
                      <a:ext cx="141840" cy="329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735"/>
                    <p:cNvSpPr/>
                    <p:nvPr/>
                  </p:nvSpPr>
                  <p:spPr>
                    <a:xfrm flipV="1">
                      <a:off x="6820560" y="4533120"/>
                      <a:ext cx="76680" cy="205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736"/>
                  <p:cNvGrpSpPr/>
                  <p:nvPr/>
                </p:nvGrpSpPr>
                <p:grpSpPr>
                  <a:xfrm>
                    <a:off x="7254720" y="4346640"/>
                    <a:ext cx="244800" cy="357840"/>
                    <a:chOff x="7254720" y="4346640"/>
                    <a:chExt cx="244800" cy="357840"/>
                  </a:xfrm>
                </p:grpSpPr>
                <p:sp>
                  <p:nvSpPr>
                    <p:cNvPr id="416" name="Oval 737"/>
                    <p:cNvSpPr/>
                    <p:nvPr/>
                  </p:nvSpPr>
                  <p:spPr>
                    <a:xfrm rot="1200000">
                      <a:off x="7306560" y="4360680"/>
                      <a:ext cx="140760" cy="329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38"/>
                    <p:cNvSpPr/>
                    <p:nvPr/>
                  </p:nvSpPr>
                  <p:spPr>
                    <a:xfrm flipV="1">
                      <a:off x="7328520" y="4446720"/>
                      <a:ext cx="76320" cy="205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739"/>
                  <p:cNvGrpSpPr/>
                  <p:nvPr/>
                </p:nvGrpSpPr>
                <p:grpSpPr>
                  <a:xfrm>
                    <a:off x="5857200" y="4531680"/>
                    <a:ext cx="320760" cy="315360"/>
                    <a:chOff x="5857200" y="4531680"/>
                    <a:chExt cx="320760" cy="315360"/>
                  </a:xfrm>
                </p:grpSpPr>
                <p:sp>
                  <p:nvSpPr>
                    <p:cNvPr id="419" name="Arc 740"/>
                    <p:cNvSpPr/>
                    <p:nvPr/>
                  </p:nvSpPr>
                  <p:spPr>
                    <a:xfrm flipV="1" rot="2984400">
                      <a:off x="5915520" y="4565160"/>
                      <a:ext cx="203400" cy="2480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741"/>
                    <p:cNvSpPr/>
                    <p:nvPr/>
                  </p:nvSpPr>
                  <p:spPr>
                    <a:xfrm>
                      <a:off x="6089400" y="4758120"/>
                      <a:ext cx="49680" cy="5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Freeform 742"/>
                  <p:cNvSpPr/>
                  <p:nvPr/>
                </p:nvSpPr>
                <p:spPr>
                  <a:xfrm>
                    <a:off x="5139360" y="4038480"/>
                    <a:ext cx="2835000" cy="739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AutoShape 743"/>
                  <p:cNvSpPr/>
                  <p:nvPr/>
                </p:nvSpPr>
                <p:spPr>
                  <a:xfrm rot="5400000">
                    <a:off x="8018640" y="4508640"/>
                    <a:ext cx="111600" cy="195480"/>
                  </a:xfrm>
                  <a:prstGeom prst="triangle">
                    <a:avLst>
                      <a:gd name="adj" fmla="val 38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3" name="Group 744"/>
                  <p:cNvGrpSpPr/>
                  <p:nvPr/>
                </p:nvGrpSpPr>
                <p:grpSpPr>
                  <a:xfrm>
                    <a:off x="6806520" y="4580640"/>
                    <a:ext cx="320400" cy="309600"/>
                    <a:chOff x="6806520" y="4580640"/>
                    <a:chExt cx="320400" cy="309600"/>
                  </a:xfrm>
                </p:grpSpPr>
                <p:sp>
                  <p:nvSpPr>
                    <p:cNvPr id="424" name="Arc 745"/>
                    <p:cNvSpPr/>
                    <p:nvPr/>
                  </p:nvSpPr>
                  <p:spPr>
                    <a:xfrm flipV="1" rot="3266400">
                      <a:off x="6864840" y="4611600"/>
                      <a:ext cx="203400" cy="2480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746"/>
                    <p:cNvSpPr/>
                    <p:nvPr/>
                  </p:nvSpPr>
                  <p:spPr>
                    <a:xfrm>
                      <a:off x="7032600" y="4809600"/>
                      <a:ext cx="44640" cy="6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747"/>
                  <p:cNvGrpSpPr/>
                  <p:nvPr/>
                </p:nvGrpSpPr>
                <p:grpSpPr>
                  <a:xfrm>
                    <a:off x="6208920" y="4352400"/>
                    <a:ext cx="320040" cy="314640"/>
                    <a:chOff x="6208920" y="4352400"/>
                    <a:chExt cx="320040" cy="314640"/>
                  </a:xfrm>
                </p:grpSpPr>
                <p:sp>
                  <p:nvSpPr>
                    <p:cNvPr id="427" name="Arc 748"/>
                    <p:cNvSpPr/>
                    <p:nvPr/>
                  </p:nvSpPr>
                  <p:spPr>
                    <a:xfrm rot="13800000">
                      <a:off x="6266880" y="4386240"/>
                      <a:ext cx="203400" cy="2469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749"/>
                    <p:cNvSpPr/>
                    <p:nvPr/>
                  </p:nvSpPr>
                  <p:spPr>
                    <a:xfrm flipH="1" flipV="1">
                      <a:off x="6263640" y="4368240"/>
                      <a:ext cx="50040" cy="5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Group 750"/>
                  <p:cNvGrpSpPr/>
                  <p:nvPr/>
                </p:nvGrpSpPr>
                <p:grpSpPr>
                  <a:xfrm>
                    <a:off x="7187040" y="4339800"/>
                    <a:ext cx="320760" cy="315360"/>
                    <a:chOff x="7187040" y="4339800"/>
                    <a:chExt cx="320760" cy="315360"/>
                  </a:xfrm>
                </p:grpSpPr>
                <p:sp>
                  <p:nvSpPr>
                    <p:cNvPr id="430" name="Arc 751"/>
                    <p:cNvSpPr/>
                    <p:nvPr/>
                  </p:nvSpPr>
                  <p:spPr>
                    <a:xfrm rot="13800000">
                      <a:off x="7245720" y="4373280"/>
                      <a:ext cx="203400" cy="2480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752"/>
                    <p:cNvSpPr/>
                    <p:nvPr/>
                  </p:nvSpPr>
                  <p:spPr>
                    <a:xfrm flipH="1" flipV="1">
                      <a:off x="7241760" y="4356000"/>
                      <a:ext cx="50040" cy="5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Group 753"/>
                  <p:cNvGrpSpPr/>
                  <p:nvPr/>
                </p:nvGrpSpPr>
                <p:grpSpPr>
                  <a:xfrm>
                    <a:off x="7242840" y="4672440"/>
                    <a:ext cx="168480" cy="336240"/>
                    <a:chOff x="7242840" y="4672440"/>
                    <a:chExt cx="168480" cy="336240"/>
                  </a:xfrm>
                </p:grpSpPr>
                <p:sp>
                  <p:nvSpPr>
                    <p:cNvPr id="433" name="Freeform 754"/>
                    <p:cNvSpPr/>
                    <p:nvPr/>
                  </p:nvSpPr>
                  <p:spPr>
                    <a:xfrm>
                      <a:off x="7318080" y="4683600"/>
                      <a:ext cx="47520" cy="253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Freeform 755"/>
                    <p:cNvSpPr/>
                    <p:nvPr/>
                  </p:nvSpPr>
                  <p:spPr>
                    <a:xfrm rot="21000000">
                      <a:off x="7341120" y="4673520"/>
                      <a:ext cx="43920" cy="304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756"/>
                    <p:cNvSpPr/>
                    <p:nvPr/>
                  </p:nvSpPr>
                  <p:spPr>
                    <a:xfrm flipH="1" rot="600000">
                      <a:off x="7268400" y="4703040"/>
                      <a:ext cx="43920" cy="304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757"/>
                  <p:cNvGrpSpPr/>
                  <p:nvPr/>
                </p:nvGrpSpPr>
                <p:grpSpPr>
                  <a:xfrm>
                    <a:off x="6715440" y="4694400"/>
                    <a:ext cx="168480" cy="336240"/>
                    <a:chOff x="6715440" y="4694400"/>
                    <a:chExt cx="168480" cy="336240"/>
                  </a:xfrm>
                </p:grpSpPr>
                <p:sp>
                  <p:nvSpPr>
                    <p:cNvPr id="437" name="Freeform 758"/>
                    <p:cNvSpPr/>
                    <p:nvPr/>
                  </p:nvSpPr>
                  <p:spPr>
                    <a:xfrm>
                      <a:off x="6790680" y="4705560"/>
                      <a:ext cx="47520" cy="253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759"/>
                    <p:cNvSpPr/>
                    <p:nvPr/>
                  </p:nvSpPr>
                  <p:spPr>
                    <a:xfrm rot="21000000">
                      <a:off x="6813720" y="4695480"/>
                      <a:ext cx="43920" cy="304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760"/>
                    <p:cNvSpPr/>
                    <p:nvPr/>
                  </p:nvSpPr>
                  <p:spPr>
                    <a:xfrm flipH="1" rot="600000">
                      <a:off x="6741000" y="4725000"/>
                      <a:ext cx="43920" cy="304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761"/>
                  <p:cNvGrpSpPr/>
                  <p:nvPr/>
                </p:nvGrpSpPr>
                <p:grpSpPr>
                  <a:xfrm>
                    <a:off x="6253560" y="4673520"/>
                    <a:ext cx="168480" cy="336240"/>
                    <a:chOff x="6253560" y="4673520"/>
                    <a:chExt cx="168480" cy="336240"/>
                  </a:xfrm>
                </p:grpSpPr>
                <p:sp>
                  <p:nvSpPr>
                    <p:cNvPr id="441" name="Freeform 762"/>
                    <p:cNvSpPr/>
                    <p:nvPr/>
                  </p:nvSpPr>
                  <p:spPr>
                    <a:xfrm>
                      <a:off x="6328800" y="4684680"/>
                      <a:ext cx="47520" cy="253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763"/>
                    <p:cNvSpPr/>
                    <p:nvPr/>
                  </p:nvSpPr>
                  <p:spPr>
                    <a:xfrm rot="21000000">
                      <a:off x="6351840" y="4674600"/>
                      <a:ext cx="43920" cy="304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Freeform 764"/>
                    <p:cNvSpPr/>
                    <p:nvPr/>
                  </p:nvSpPr>
                  <p:spPr>
                    <a:xfrm flipH="1" rot="600000">
                      <a:off x="6279120" y="4704120"/>
                      <a:ext cx="43920" cy="304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765"/>
                  <p:cNvGrpSpPr/>
                  <p:nvPr/>
                </p:nvGrpSpPr>
                <p:grpSpPr>
                  <a:xfrm>
                    <a:off x="5749920" y="4635360"/>
                    <a:ext cx="167400" cy="336240"/>
                    <a:chOff x="5749920" y="4635360"/>
                    <a:chExt cx="167400" cy="336240"/>
                  </a:xfrm>
                </p:grpSpPr>
                <p:sp>
                  <p:nvSpPr>
                    <p:cNvPr id="445" name="Freeform 766"/>
                    <p:cNvSpPr/>
                    <p:nvPr/>
                  </p:nvSpPr>
                  <p:spPr>
                    <a:xfrm>
                      <a:off x="5824800" y="4646520"/>
                      <a:ext cx="47160" cy="253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Freeform 767"/>
                    <p:cNvSpPr/>
                    <p:nvPr/>
                  </p:nvSpPr>
                  <p:spPr>
                    <a:xfrm rot="21000000">
                      <a:off x="5847480" y="4636800"/>
                      <a:ext cx="43560" cy="304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768"/>
                    <p:cNvSpPr/>
                    <p:nvPr/>
                  </p:nvSpPr>
                  <p:spPr>
                    <a:xfrm flipH="1" rot="600000">
                      <a:off x="5775840" y="4665960"/>
                      <a:ext cx="43560" cy="304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8" name="Group 769"/>
                <p:cNvGrpSpPr/>
                <p:nvPr/>
              </p:nvGrpSpPr>
              <p:grpSpPr>
                <a:xfrm>
                  <a:off x="4920120" y="4260240"/>
                  <a:ext cx="245880" cy="357120"/>
                  <a:chOff x="4920120" y="4260240"/>
                  <a:chExt cx="245880" cy="357120"/>
                </a:xfrm>
              </p:grpSpPr>
              <p:sp>
                <p:nvSpPr>
                  <p:cNvPr id="449" name="Oval 770"/>
                  <p:cNvSpPr/>
                  <p:nvPr/>
                </p:nvSpPr>
                <p:spPr>
                  <a:xfrm flipH="1" rot="20400000">
                    <a:off x="4971600" y="4274280"/>
                    <a:ext cx="141840" cy="32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771"/>
                  <p:cNvSpPr/>
                  <p:nvPr/>
                </p:nvSpPr>
                <p:spPr>
                  <a:xfrm flipH="1" flipV="1">
                    <a:off x="5015520" y="4360320"/>
                    <a:ext cx="76320" cy="205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451" name="AutoShape 773"/>
            <p:cNvCxnSpPr/>
            <p:nvPr/>
          </p:nvCxnSpPr>
          <p:spPr>
            <a:xfrm>
              <a:off x="8860680" y="4954680"/>
              <a:ext cx="36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2" name="AutoShape 774"/>
            <p:cNvCxnSpPr/>
            <p:nvPr/>
          </p:nvCxnSpPr>
          <p:spPr>
            <a:xfrm>
              <a:off x="6680880" y="4904640"/>
              <a:ext cx="36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3" name="AutoShape 775"/>
            <p:cNvCxnSpPr/>
            <p:nvPr/>
          </p:nvCxnSpPr>
          <p:spPr>
            <a:xfrm>
              <a:off x="7865280" y="5174280"/>
              <a:ext cx="36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4" name="AutoShape 776"/>
            <p:cNvCxnSpPr/>
            <p:nvPr/>
          </p:nvCxnSpPr>
          <p:spPr>
            <a:xfrm>
              <a:off x="7082280" y="5603760"/>
              <a:ext cx="36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5" name="AutoShape 777"/>
            <p:cNvCxnSpPr/>
            <p:nvPr/>
          </p:nvCxnSpPr>
          <p:spPr>
            <a:xfrm>
              <a:off x="6466320" y="5798520"/>
              <a:ext cx="36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6" name="AutoShape 801"/>
            <p:cNvCxnSpPr/>
            <p:nvPr/>
          </p:nvCxnSpPr>
          <p:spPr>
            <a:xfrm>
              <a:off x="8541000" y="5716080"/>
              <a:ext cx="36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7" name="AutoShape 802"/>
            <p:cNvCxnSpPr/>
            <p:nvPr/>
          </p:nvCxnSpPr>
          <p:spPr>
            <a:xfrm>
              <a:off x="0" y="3429000"/>
              <a:ext cx="91447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58" name="Text Box 804"/>
            <p:cNvSpPr/>
            <p:nvPr/>
          </p:nvSpPr>
          <p:spPr>
            <a:xfrm>
              <a:off x="380880" y="5029200"/>
              <a:ext cx="1018800" cy="71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Oenant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aqua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805"/>
            <p:cNvSpPr/>
            <p:nvPr/>
          </p:nvSpPr>
          <p:spPr>
            <a:xfrm>
              <a:off x="5562720" y="5105520"/>
              <a:ext cx="9604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altha palustr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72"/>
            <p:cNvSpPr/>
            <p:nvPr/>
          </p:nvSpPr>
          <p:spPr>
            <a:xfrm>
              <a:off x="0" y="2666880"/>
              <a:ext cx="9524880" cy="304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406"/>
            <p:cNvSpPr/>
            <p:nvPr/>
          </p:nvSpPr>
          <p:spPr>
            <a:xfrm>
              <a:off x="2819160" y="4876920"/>
              <a:ext cx="900000" cy="71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icuta vir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Стрелка вниз 404"/>
          <p:cNvSpPr/>
          <p:nvPr/>
        </p:nvSpPr>
        <p:spPr>
          <a:xfrm>
            <a:off x="3124080" y="1752480"/>
            <a:ext cx="362160" cy="8384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406"/>
          <p:cNvSpPr/>
          <p:nvPr/>
        </p:nvSpPr>
        <p:spPr>
          <a:xfrm>
            <a:off x="609480" y="5867280"/>
            <a:ext cx="381240" cy="76212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низ 407"/>
          <p:cNvSpPr/>
          <p:nvPr/>
        </p:nvSpPr>
        <p:spPr>
          <a:xfrm>
            <a:off x="1523880" y="838080"/>
            <a:ext cx="362160" cy="8384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трелка вверх 408"/>
          <p:cNvSpPr/>
          <p:nvPr/>
        </p:nvSpPr>
        <p:spPr>
          <a:xfrm>
            <a:off x="5715000" y="5867280"/>
            <a:ext cx="380880" cy="76212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трелка вниз 409"/>
          <p:cNvSpPr/>
          <p:nvPr/>
        </p:nvSpPr>
        <p:spPr>
          <a:xfrm>
            <a:off x="5257800" y="1295280"/>
            <a:ext cx="361800" cy="83844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Стрелка вниз 410"/>
          <p:cNvSpPr/>
          <p:nvPr/>
        </p:nvSpPr>
        <p:spPr>
          <a:xfrm>
            <a:off x="7391520" y="762120"/>
            <a:ext cx="361800" cy="8380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3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нтогенез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генетически обусловленная последовательность этапов развития особи: периодов и фаз (например, генеративный период; проросток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орфогенез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процесс формообразования -заложения, роста, развития - у растений структур разного уровня (например, побегов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нтоморфогенез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генетически обусловленная последовательность этапов развития особи в ее онтогенезе (например, фаза розеточного вегетативного побег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anunculus sceler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0" name="Group 5"/>
          <p:cNvGrpSpPr/>
          <p:nvPr/>
        </p:nvGrpSpPr>
        <p:grpSpPr>
          <a:xfrm>
            <a:off x="837000" y="1995840"/>
            <a:ext cx="410760" cy="1053720"/>
            <a:chOff x="837000" y="1995840"/>
            <a:chExt cx="410760" cy="1053720"/>
          </a:xfrm>
        </p:grpSpPr>
        <p:sp>
          <p:nvSpPr>
            <p:cNvPr id="471" name="Freeform 6"/>
            <p:cNvSpPr/>
            <p:nvPr/>
          </p:nvSpPr>
          <p:spPr>
            <a:xfrm flipH="1" flipV="1" rot="1200000">
              <a:off x="1106640" y="2002320"/>
              <a:ext cx="93240" cy="293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rc 7"/>
            <p:cNvSpPr/>
            <p:nvPr/>
          </p:nvSpPr>
          <p:spPr>
            <a:xfrm flipV="1" rot="21094200">
              <a:off x="1031040" y="2254320"/>
              <a:ext cx="167400" cy="236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rc 8"/>
            <p:cNvSpPr/>
            <p:nvPr/>
          </p:nvSpPr>
          <p:spPr>
            <a:xfrm flipH="1" flipV="1" rot="505800">
              <a:off x="917640" y="2269080"/>
              <a:ext cx="118080" cy="24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9"/>
            <p:cNvSpPr/>
            <p:nvPr/>
          </p:nvSpPr>
          <p:spPr>
            <a:xfrm flipV="1" rot="19800000">
              <a:off x="904320" y="2016360"/>
              <a:ext cx="93240" cy="293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"/>
            <p:cNvSpPr/>
            <p:nvPr/>
          </p:nvSpPr>
          <p:spPr>
            <a:xfrm>
              <a:off x="903240" y="2491200"/>
              <a:ext cx="127800" cy="20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"/>
            <p:cNvSpPr/>
            <p:nvPr/>
          </p:nvSpPr>
          <p:spPr>
            <a:xfrm rot="5056800">
              <a:off x="970560" y="2823480"/>
              <a:ext cx="197640" cy="4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"/>
            <p:cNvSpPr/>
            <p:nvPr/>
          </p:nvSpPr>
          <p:spPr>
            <a:xfrm>
              <a:off x="997920" y="2614680"/>
              <a:ext cx="4752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3"/>
            <p:cNvSpPr/>
            <p:nvPr/>
          </p:nvSpPr>
          <p:spPr>
            <a:xfrm>
              <a:off x="1028520" y="2488680"/>
              <a:ext cx="12960" cy="56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4"/>
            <p:cNvSpPr/>
            <p:nvPr/>
          </p:nvSpPr>
          <p:spPr>
            <a:xfrm>
              <a:off x="1039320" y="2502720"/>
              <a:ext cx="112680" cy="14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15"/>
          <p:cNvGrpSpPr/>
          <p:nvPr/>
        </p:nvGrpSpPr>
        <p:grpSpPr>
          <a:xfrm>
            <a:off x="1461960" y="1885680"/>
            <a:ext cx="817200" cy="1235520"/>
            <a:chOff x="1461960" y="1885680"/>
            <a:chExt cx="817200" cy="1235520"/>
          </a:xfrm>
        </p:grpSpPr>
        <p:sp>
          <p:nvSpPr>
            <p:cNvPr id="481" name="Freeform 16"/>
            <p:cNvSpPr/>
            <p:nvPr/>
          </p:nvSpPr>
          <p:spPr>
            <a:xfrm>
              <a:off x="1482840" y="1886040"/>
              <a:ext cx="234360" cy="252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7"/>
            <p:cNvGrpSpPr/>
            <p:nvPr/>
          </p:nvGrpSpPr>
          <p:grpSpPr>
            <a:xfrm>
              <a:off x="1781280" y="2320920"/>
              <a:ext cx="96480" cy="221760"/>
              <a:chOff x="1781280" y="2320920"/>
              <a:chExt cx="96480" cy="221760"/>
            </a:xfrm>
          </p:grpSpPr>
          <p:grpSp>
            <p:nvGrpSpPr>
              <p:cNvPr id="483" name="Group 18"/>
              <p:cNvGrpSpPr/>
              <p:nvPr/>
            </p:nvGrpSpPr>
            <p:grpSpPr>
              <a:xfrm>
                <a:off x="1781280" y="2320920"/>
                <a:ext cx="96120" cy="221760"/>
                <a:chOff x="1781280" y="2320920"/>
                <a:chExt cx="96120" cy="221760"/>
              </a:xfrm>
            </p:grpSpPr>
            <p:sp>
              <p:nvSpPr>
                <p:cNvPr id="484" name="Arc 19"/>
                <p:cNvSpPr/>
                <p:nvPr/>
              </p:nvSpPr>
              <p:spPr>
                <a:xfrm>
                  <a:off x="1830240" y="2320920"/>
                  <a:ext cx="47160" cy="221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Arc 20"/>
                <p:cNvSpPr/>
                <p:nvPr/>
              </p:nvSpPr>
              <p:spPr>
                <a:xfrm flipH="1">
                  <a:off x="1780920" y="2320920"/>
                  <a:ext cx="47160" cy="221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Group 21"/>
              <p:cNvGrpSpPr/>
              <p:nvPr/>
            </p:nvGrpSpPr>
            <p:grpSpPr>
              <a:xfrm>
                <a:off x="1801800" y="2419560"/>
                <a:ext cx="52200" cy="117000"/>
                <a:chOff x="1801800" y="2419560"/>
                <a:chExt cx="52200" cy="117000"/>
              </a:xfrm>
            </p:grpSpPr>
            <p:sp>
              <p:nvSpPr>
                <p:cNvPr id="487" name="Arc 22"/>
                <p:cNvSpPr/>
                <p:nvPr/>
              </p:nvSpPr>
              <p:spPr>
                <a:xfrm>
                  <a:off x="1828440" y="2419560"/>
                  <a:ext cx="25560" cy="117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Arc 23"/>
                <p:cNvSpPr/>
                <p:nvPr/>
              </p:nvSpPr>
              <p:spPr>
                <a:xfrm flipH="1">
                  <a:off x="1801440" y="2419560"/>
                  <a:ext cx="25560" cy="117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489" name="AutoShape 24"/>
              <p:cNvCxnSpPr/>
              <p:nvPr/>
            </p:nvCxnSpPr>
            <p:spPr>
              <a:xfrm>
                <a:off x="1781640" y="2538000"/>
                <a:ext cx="96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90" name="Arc 25"/>
            <p:cNvSpPr/>
            <p:nvPr/>
          </p:nvSpPr>
          <p:spPr>
            <a:xfrm flipV="1" rot="21094200">
              <a:off x="1828080" y="2083320"/>
              <a:ext cx="121680" cy="473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rc 26"/>
            <p:cNvSpPr/>
            <p:nvPr/>
          </p:nvSpPr>
          <p:spPr>
            <a:xfrm flipV="1" rot="245400">
              <a:off x="1877400" y="1953720"/>
              <a:ext cx="272160" cy="60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rc 27"/>
            <p:cNvSpPr/>
            <p:nvPr/>
          </p:nvSpPr>
          <p:spPr>
            <a:xfrm flipH="1" flipV="1" rot="505800">
              <a:off x="1581120" y="2025720"/>
              <a:ext cx="276480" cy="49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8"/>
            <p:cNvSpPr/>
            <p:nvPr/>
          </p:nvSpPr>
          <p:spPr>
            <a:xfrm>
              <a:off x="1846440" y="2586240"/>
              <a:ext cx="222840" cy="513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9"/>
            <p:cNvSpPr/>
            <p:nvPr/>
          </p:nvSpPr>
          <p:spPr>
            <a:xfrm>
              <a:off x="1482840" y="2555280"/>
              <a:ext cx="330480" cy="282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0"/>
            <p:cNvSpPr/>
            <p:nvPr/>
          </p:nvSpPr>
          <p:spPr>
            <a:xfrm>
              <a:off x="1657800" y="2559960"/>
              <a:ext cx="155160" cy="56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1"/>
            <p:cNvSpPr/>
            <p:nvPr/>
          </p:nvSpPr>
          <p:spPr>
            <a:xfrm>
              <a:off x="1877400" y="2558880"/>
              <a:ext cx="286560" cy="345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2"/>
            <p:cNvSpPr/>
            <p:nvPr/>
          </p:nvSpPr>
          <p:spPr>
            <a:xfrm rot="772200">
              <a:off x="1522800" y="2485440"/>
              <a:ext cx="277560" cy="558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3"/>
            <p:cNvSpPr/>
            <p:nvPr/>
          </p:nvSpPr>
          <p:spPr>
            <a:xfrm>
              <a:off x="1845720" y="2555280"/>
              <a:ext cx="289800" cy="457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4"/>
            <p:cNvSpPr/>
            <p:nvPr/>
          </p:nvSpPr>
          <p:spPr>
            <a:xfrm>
              <a:off x="1461960" y="2540520"/>
              <a:ext cx="351360" cy="188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5"/>
            <p:cNvSpPr/>
            <p:nvPr/>
          </p:nvSpPr>
          <p:spPr>
            <a:xfrm>
              <a:off x="1823400" y="2532960"/>
              <a:ext cx="3420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6"/>
            <p:cNvSpPr/>
            <p:nvPr/>
          </p:nvSpPr>
          <p:spPr>
            <a:xfrm rot="1474200">
              <a:off x="1857600" y="1908720"/>
              <a:ext cx="171000" cy="2696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7"/>
            <p:cNvSpPr/>
            <p:nvPr/>
          </p:nvSpPr>
          <p:spPr>
            <a:xfrm rot="1465200">
              <a:off x="2069280" y="2024640"/>
              <a:ext cx="168840" cy="235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8"/>
            <p:cNvSpPr/>
            <p:nvPr/>
          </p:nvSpPr>
          <p:spPr>
            <a:xfrm rot="1519200">
              <a:off x="1779120" y="2586240"/>
              <a:ext cx="289800" cy="457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9"/>
            <p:cNvSpPr/>
            <p:nvPr/>
          </p:nvSpPr>
          <p:spPr>
            <a:xfrm flipH="1" rot="21135600">
              <a:off x="1522440" y="2585160"/>
              <a:ext cx="289800" cy="457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0"/>
            <p:cNvSpPr/>
            <p:nvPr/>
          </p:nvSpPr>
          <p:spPr>
            <a:xfrm rot="18567600">
              <a:off x="1508760" y="2765520"/>
              <a:ext cx="494640" cy="13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41"/>
          <p:cNvGrpSpPr/>
          <p:nvPr/>
        </p:nvGrpSpPr>
        <p:grpSpPr>
          <a:xfrm>
            <a:off x="2629080" y="1736640"/>
            <a:ext cx="1067040" cy="1409400"/>
            <a:chOff x="2629080" y="1736640"/>
            <a:chExt cx="1067040" cy="1409400"/>
          </a:xfrm>
        </p:grpSpPr>
        <p:grpSp>
          <p:nvGrpSpPr>
            <p:cNvPr id="507" name="Group 42"/>
            <p:cNvGrpSpPr/>
            <p:nvPr/>
          </p:nvGrpSpPr>
          <p:grpSpPr>
            <a:xfrm>
              <a:off x="3096720" y="2304000"/>
              <a:ext cx="97200" cy="200160"/>
              <a:chOff x="3096720" y="2304000"/>
              <a:chExt cx="97200" cy="200160"/>
            </a:xfrm>
          </p:grpSpPr>
          <p:grpSp>
            <p:nvGrpSpPr>
              <p:cNvPr id="508" name="Group 43"/>
              <p:cNvGrpSpPr/>
              <p:nvPr/>
            </p:nvGrpSpPr>
            <p:grpSpPr>
              <a:xfrm>
                <a:off x="3097080" y="2304000"/>
                <a:ext cx="96840" cy="200160"/>
                <a:chOff x="3097080" y="2304000"/>
                <a:chExt cx="96840" cy="200160"/>
              </a:xfrm>
            </p:grpSpPr>
            <p:sp>
              <p:nvSpPr>
                <p:cNvPr id="509" name="Arc 44"/>
                <p:cNvSpPr/>
                <p:nvPr/>
              </p:nvSpPr>
              <p:spPr>
                <a:xfrm>
                  <a:off x="3146400" y="2304000"/>
                  <a:ext cx="47520" cy="200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rc 45"/>
                <p:cNvSpPr/>
                <p:nvPr/>
              </p:nvSpPr>
              <p:spPr>
                <a:xfrm flipH="1">
                  <a:off x="3097080" y="2304000"/>
                  <a:ext cx="47520" cy="200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46"/>
              <p:cNvGrpSpPr/>
              <p:nvPr/>
            </p:nvGrpSpPr>
            <p:grpSpPr>
              <a:xfrm>
                <a:off x="3117600" y="2393280"/>
                <a:ext cx="52560" cy="105480"/>
                <a:chOff x="3117600" y="2393280"/>
                <a:chExt cx="52560" cy="105480"/>
              </a:xfrm>
            </p:grpSpPr>
            <p:sp>
              <p:nvSpPr>
                <p:cNvPr id="512" name="Arc 47"/>
                <p:cNvSpPr/>
                <p:nvPr/>
              </p:nvSpPr>
              <p:spPr>
                <a:xfrm>
                  <a:off x="3144600" y="2393280"/>
                  <a:ext cx="25560" cy="105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rc 48"/>
                <p:cNvSpPr/>
                <p:nvPr/>
              </p:nvSpPr>
              <p:spPr>
                <a:xfrm flipH="1">
                  <a:off x="3117240" y="2393280"/>
                  <a:ext cx="25560" cy="105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14" name="AutoShape 49"/>
              <p:cNvCxnSpPr/>
              <p:nvPr/>
            </p:nvCxnSpPr>
            <p:spPr>
              <a:xfrm>
                <a:off x="3096720" y="2499840"/>
                <a:ext cx="97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15" name="Arc 50"/>
            <p:cNvSpPr/>
            <p:nvPr/>
          </p:nvSpPr>
          <p:spPr>
            <a:xfrm flipV="1" rot="21094200">
              <a:off x="3141000" y="1967760"/>
              <a:ext cx="212400" cy="550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rc 51"/>
            <p:cNvSpPr/>
            <p:nvPr/>
          </p:nvSpPr>
          <p:spPr>
            <a:xfrm flipV="1" rot="245400">
              <a:off x="3179880" y="2036520"/>
              <a:ext cx="3952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rc 52"/>
            <p:cNvSpPr/>
            <p:nvPr/>
          </p:nvSpPr>
          <p:spPr>
            <a:xfrm flipH="1" flipV="1" rot="505800">
              <a:off x="2738880" y="1965960"/>
              <a:ext cx="441720" cy="524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rc 53"/>
            <p:cNvSpPr/>
            <p:nvPr/>
          </p:nvSpPr>
          <p:spPr>
            <a:xfrm flipH="1" flipV="1" rot="21354600">
              <a:off x="2743200" y="2356560"/>
              <a:ext cx="325080" cy="23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rc 54"/>
            <p:cNvSpPr/>
            <p:nvPr/>
          </p:nvSpPr>
          <p:spPr>
            <a:xfrm flipH="1" flipV="1">
              <a:off x="2955960" y="1960200"/>
              <a:ext cx="226800" cy="549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55"/>
            <p:cNvSpPr/>
            <p:nvPr/>
          </p:nvSpPr>
          <p:spPr>
            <a:xfrm>
              <a:off x="3212280" y="2602440"/>
              <a:ext cx="226080" cy="480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56"/>
            <p:cNvSpPr/>
            <p:nvPr/>
          </p:nvSpPr>
          <p:spPr>
            <a:xfrm>
              <a:off x="2725560" y="2570400"/>
              <a:ext cx="335520" cy="254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7"/>
            <p:cNvSpPr/>
            <p:nvPr/>
          </p:nvSpPr>
          <p:spPr>
            <a:xfrm>
              <a:off x="2957760" y="2602440"/>
              <a:ext cx="126360" cy="47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58"/>
            <p:cNvSpPr/>
            <p:nvPr/>
          </p:nvSpPr>
          <p:spPr>
            <a:xfrm rot="5056800">
              <a:off x="3113640" y="2588760"/>
              <a:ext cx="438840" cy="242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59"/>
            <p:cNvSpPr/>
            <p:nvPr/>
          </p:nvSpPr>
          <p:spPr>
            <a:xfrm>
              <a:off x="3239640" y="2594520"/>
              <a:ext cx="2912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0"/>
            <p:cNvSpPr/>
            <p:nvPr/>
          </p:nvSpPr>
          <p:spPr>
            <a:xfrm>
              <a:off x="2784240" y="2547000"/>
              <a:ext cx="281880" cy="50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1"/>
            <p:cNvSpPr/>
            <p:nvPr/>
          </p:nvSpPr>
          <p:spPr>
            <a:xfrm>
              <a:off x="2864160" y="2620080"/>
              <a:ext cx="173520" cy="460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2"/>
            <p:cNvSpPr/>
            <p:nvPr/>
          </p:nvSpPr>
          <p:spPr>
            <a:xfrm>
              <a:off x="3216600" y="2541240"/>
              <a:ext cx="339480" cy="324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3"/>
            <p:cNvSpPr/>
            <p:nvPr/>
          </p:nvSpPr>
          <p:spPr>
            <a:xfrm>
              <a:off x="2707560" y="2541240"/>
              <a:ext cx="356760" cy="169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4"/>
            <p:cNvSpPr/>
            <p:nvPr/>
          </p:nvSpPr>
          <p:spPr>
            <a:xfrm>
              <a:off x="2900160" y="2602440"/>
              <a:ext cx="137520" cy="54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65"/>
            <p:cNvSpPr/>
            <p:nvPr/>
          </p:nvSpPr>
          <p:spPr>
            <a:xfrm>
              <a:off x="3216600" y="2584800"/>
              <a:ext cx="95040" cy="481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6"/>
            <p:cNvSpPr/>
            <p:nvPr/>
          </p:nvSpPr>
          <p:spPr>
            <a:xfrm>
              <a:off x="3069000" y="2500560"/>
              <a:ext cx="133920" cy="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67"/>
            <p:cNvSpPr/>
            <p:nvPr/>
          </p:nvSpPr>
          <p:spPr>
            <a:xfrm rot="1090200">
              <a:off x="3211920" y="1824480"/>
              <a:ext cx="235080" cy="3006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8"/>
            <p:cNvSpPr/>
            <p:nvPr/>
          </p:nvSpPr>
          <p:spPr>
            <a:xfrm>
              <a:off x="2629080" y="1824840"/>
              <a:ext cx="235080" cy="3006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9"/>
            <p:cNvSpPr/>
            <p:nvPr/>
          </p:nvSpPr>
          <p:spPr>
            <a:xfrm>
              <a:off x="2826000" y="1736640"/>
              <a:ext cx="235080" cy="3006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70"/>
            <p:cNvSpPr/>
            <p:nvPr/>
          </p:nvSpPr>
          <p:spPr>
            <a:xfrm rot="1206000">
              <a:off x="3456000" y="2037240"/>
              <a:ext cx="217080" cy="172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71"/>
            <p:cNvSpPr/>
            <p:nvPr/>
          </p:nvSpPr>
          <p:spPr>
            <a:xfrm>
              <a:off x="2661840" y="2228760"/>
              <a:ext cx="163800" cy="164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72"/>
          <p:cNvGrpSpPr/>
          <p:nvPr/>
        </p:nvGrpSpPr>
        <p:grpSpPr>
          <a:xfrm>
            <a:off x="3918960" y="1676520"/>
            <a:ext cx="1427040" cy="1444680"/>
            <a:chOff x="3918960" y="1676520"/>
            <a:chExt cx="1427040" cy="1444680"/>
          </a:xfrm>
        </p:grpSpPr>
        <p:grpSp>
          <p:nvGrpSpPr>
            <p:cNvPr id="538" name="Group 73"/>
            <p:cNvGrpSpPr/>
            <p:nvPr/>
          </p:nvGrpSpPr>
          <p:grpSpPr>
            <a:xfrm>
              <a:off x="4613760" y="2237040"/>
              <a:ext cx="100080" cy="203400"/>
              <a:chOff x="4613760" y="2237040"/>
              <a:chExt cx="100080" cy="203400"/>
            </a:xfrm>
          </p:grpSpPr>
          <p:grpSp>
            <p:nvGrpSpPr>
              <p:cNvPr id="539" name="Group 74"/>
              <p:cNvGrpSpPr/>
              <p:nvPr/>
            </p:nvGrpSpPr>
            <p:grpSpPr>
              <a:xfrm>
                <a:off x="4613760" y="2237040"/>
                <a:ext cx="99720" cy="203400"/>
                <a:chOff x="4613760" y="2237040"/>
                <a:chExt cx="99720" cy="203400"/>
              </a:xfrm>
            </p:grpSpPr>
            <p:sp>
              <p:nvSpPr>
                <p:cNvPr id="540" name="Arc 75"/>
                <p:cNvSpPr/>
                <p:nvPr/>
              </p:nvSpPr>
              <p:spPr>
                <a:xfrm>
                  <a:off x="4664520" y="2237040"/>
                  <a:ext cx="48960" cy="203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Arc 76"/>
                <p:cNvSpPr/>
                <p:nvPr/>
              </p:nvSpPr>
              <p:spPr>
                <a:xfrm flipH="1">
                  <a:off x="4613400" y="2237040"/>
                  <a:ext cx="48600" cy="203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77"/>
              <p:cNvGrpSpPr/>
              <p:nvPr/>
            </p:nvGrpSpPr>
            <p:grpSpPr>
              <a:xfrm>
                <a:off x="4635360" y="2327760"/>
                <a:ext cx="54000" cy="107280"/>
                <a:chOff x="4635360" y="2327760"/>
                <a:chExt cx="54000" cy="107280"/>
              </a:xfrm>
            </p:grpSpPr>
            <p:sp>
              <p:nvSpPr>
                <p:cNvPr id="543" name="Arc 78"/>
                <p:cNvSpPr/>
                <p:nvPr/>
              </p:nvSpPr>
              <p:spPr>
                <a:xfrm>
                  <a:off x="4663080" y="2327760"/>
                  <a:ext cx="26280" cy="107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Arc 79"/>
                <p:cNvSpPr/>
                <p:nvPr/>
              </p:nvSpPr>
              <p:spPr>
                <a:xfrm flipH="1">
                  <a:off x="4635000" y="2327760"/>
                  <a:ext cx="26280" cy="107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45" name="AutoShape 80"/>
              <p:cNvCxnSpPr/>
              <p:nvPr/>
            </p:nvCxnSpPr>
            <p:spPr>
              <a:xfrm>
                <a:off x="4614120" y="2436120"/>
                <a:ext cx="100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546" name="Group 81"/>
            <p:cNvGrpSpPr/>
            <p:nvPr/>
          </p:nvGrpSpPr>
          <p:grpSpPr>
            <a:xfrm>
              <a:off x="4186800" y="2443320"/>
              <a:ext cx="939600" cy="677880"/>
              <a:chOff x="4186800" y="2443320"/>
              <a:chExt cx="939600" cy="677880"/>
            </a:xfrm>
          </p:grpSpPr>
          <p:sp>
            <p:nvSpPr>
              <p:cNvPr id="547" name="Rectangle 82"/>
              <p:cNvSpPr/>
              <p:nvPr/>
            </p:nvSpPr>
            <p:spPr>
              <a:xfrm>
                <a:off x="4600080" y="2451240"/>
                <a:ext cx="1501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83"/>
              <p:cNvSpPr/>
              <p:nvPr/>
            </p:nvSpPr>
            <p:spPr>
              <a:xfrm>
                <a:off x="4750560" y="2568600"/>
                <a:ext cx="232200" cy="487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84"/>
              <p:cNvSpPr/>
              <p:nvPr/>
            </p:nvSpPr>
            <p:spPr>
              <a:xfrm>
                <a:off x="4250160" y="2536200"/>
                <a:ext cx="344520" cy="258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85"/>
              <p:cNvSpPr/>
              <p:nvPr/>
            </p:nvSpPr>
            <p:spPr>
              <a:xfrm>
                <a:off x="4488840" y="2568600"/>
                <a:ext cx="129960" cy="48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86"/>
              <p:cNvSpPr/>
              <p:nvPr/>
            </p:nvSpPr>
            <p:spPr>
              <a:xfrm rot="5056800">
                <a:off x="4651560" y="2552760"/>
                <a:ext cx="445680" cy="248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87"/>
              <p:cNvSpPr/>
              <p:nvPr/>
            </p:nvSpPr>
            <p:spPr>
              <a:xfrm>
                <a:off x="4778640" y="2559960"/>
                <a:ext cx="299520" cy="316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88"/>
              <p:cNvSpPr/>
              <p:nvPr/>
            </p:nvSpPr>
            <p:spPr>
              <a:xfrm>
                <a:off x="4310280" y="2512080"/>
                <a:ext cx="289440" cy="510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89"/>
              <p:cNvSpPr/>
              <p:nvPr/>
            </p:nvSpPr>
            <p:spPr>
              <a:xfrm>
                <a:off x="4392720" y="2586600"/>
                <a:ext cx="17820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0"/>
              <p:cNvSpPr/>
              <p:nvPr/>
            </p:nvSpPr>
            <p:spPr>
              <a:xfrm>
                <a:off x="4777560" y="2482200"/>
                <a:ext cx="348840" cy="329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91"/>
              <p:cNvSpPr/>
              <p:nvPr/>
            </p:nvSpPr>
            <p:spPr>
              <a:xfrm>
                <a:off x="4186800" y="2519280"/>
                <a:ext cx="366480" cy="172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92"/>
              <p:cNvSpPr/>
              <p:nvPr/>
            </p:nvSpPr>
            <p:spPr>
              <a:xfrm>
                <a:off x="4429800" y="2568600"/>
                <a:ext cx="141120" cy="552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93"/>
              <p:cNvSpPr/>
              <p:nvPr/>
            </p:nvSpPr>
            <p:spPr>
              <a:xfrm>
                <a:off x="4754880" y="2550600"/>
                <a:ext cx="97920" cy="488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Freeform 94"/>
            <p:cNvSpPr/>
            <p:nvPr/>
          </p:nvSpPr>
          <p:spPr>
            <a:xfrm>
              <a:off x="4429440" y="1688040"/>
              <a:ext cx="189360" cy="2113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95"/>
            <p:cNvSpPr/>
            <p:nvPr/>
          </p:nvSpPr>
          <p:spPr>
            <a:xfrm rot="19487400">
              <a:off x="3962160" y="2003040"/>
              <a:ext cx="160920" cy="2019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6"/>
            <p:cNvSpPr/>
            <p:nvPr/>
          </p:nvSpPr>
          <p:spPr>
            <a:xfrm rot="2458800">
              <a:off x="5067360" y="1850400"/>
              <a:ext cx="222120" cy="255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97"/>
            <p:cNvSpPr/>
            <p:nvPr/>
          </p:nvSpPr>
          <p:spPr>
            <a:xfrm rot="1113600">
              <a:off x="4855680" y="1739160"/>
              <a:ext cx="222120" cy="297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98"/>
            <p:cNvSpPr/>
            <p:nvPr/>
          </p:nvSpPr>
          <p:spPr>
            <a:xfrm>
              <a:off x="4689720" y="1676520"/>
              <a:ext cx="222120" cy="297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99"/>
            <p:cNvSpPr/>
            <p:nvPr/>
          </p:nvSpPr>
          <p:spPr>
            <a:xfrm>
              <a:off x="4081680" y="1710720"/>
              <a:ext cx="222120" cy="297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00"/>
            <p:cNvSpPr/>
            <p:nvPr/>
          </p:nvSpPr>
          <p:spPr>
            <a:xfrm>
              <a:off x="4250160" y="1688040"/>
              <a:ext cx="222120" cy="297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101"/>
            <p:cNvGrpSpPr/>
            <p:nvPr/>
          </p:nvGrpSpPr>
          <p:grpSpPr>
            <a:xfrm>
              <a:off x="4554360" y="1890000"/>
              <a:ext cx="594360" cy="673920"/>
              <a:chOff x="4554360" y="1890000"/>
              <a:chExt cx="594360" cy="673920"/>
            </a:xfrm>
          </p:grpSpPr>
          <p:sp>
            <p:nvSpPr>
              <p:cNvPr id="567" name="Arc 102"/>
              <p:cNvSpPr/>
              <p:nvPr/>
            </p:nvSpPr>
            <p:spPr>
              <a:xfrm flipV="1" rot="21094200">
                <a:off x="4593240" y="1916640"/>
                <a:ext cx="404640" cy="558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rc 103"/>
              <p:cNvSpPr/>
              <p:nvPr/>
            </p:nvSpPr>
            <p:spPr>
              <a:xfrm flipV="1" rot="245400">
                <a:off x="4720680" y="1916280"/>
                <a:ext cx="406080" cy="633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rc 104"/>
              <p:cNvSpPr/>
              <p:nvPr/>
            </p:nvSpPr>
            <p:spPr>
              <a:xfrm flipV="1">
                <a:off x="4593240" y="1916640"/>
                <a:ext cx="233280" cy="558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Arc 105"/>
            <p:cNvSpPr/>
            <p:nvPr/>
          </p:nvSpPr>
          <p:spPr>
            <a:xfrm flipH="1" flipV="1" rot="505800">
              <a:off x="4170240" y="1911960"/>
              <a:ext cx="548640" cy="533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rc 106"/>
            <p:cNvSpPr/>
            <p:nvPr/>
          </p:nvSpPr>
          <p:spPr>
            <a:xfrm flipH="1" flipV="1" rot="21354600">
              <a:off x="4080600" y="1920960"/>
              <a:ext cx="510840" cy="63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rc 107"/>
            <p:cNvSpPr/>
            <p:nvPr/>
          </p:nvSpPr>
          <p:spPr>
            <a:xfrm flipH="1" flipV="1">
              <a:off x="4392720" y="1915920"/>
              <a:ext cx="327600" cy="55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rc 108"/>
            <p:cNvSpPr/>
            <p:nvPr/>
          </p:nvSpPr>
          <p:spPr>
            <a:xfrm flipH="1" flipV="1">
              <a:off x="4527000" y="1872720"/>
              <a:ext cx="108720" cy="55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09"/>
          <p:cNvGrpSpPr/>
          <p:nvPr/>
        </p:nvGrpSpPr>
        <p:grpSpPr>
          <a:xfrm>
            <a:off x="5913720" y="914400"/>
            <a:ext cx="1741320" cy="2282400"/>
            <a:chOff x="5913720" y="914400"/>
            <a:chExt cx="1741320" cy="2282400"/>
          </a:xfrm>
        </p:grpSpPr>
        <p:grpSp>
          <p:nvGrpSpPr>
            <p:cNvPr id="575" name="Group 110"/>
            <p:cNvGrpSpPr/>
            <p:nvPr/>
          </p:nvGrpSpPr>
          <p:grpSpPr>
            <a:xfrm>
              <a:off x="6189840" y="914400"/>
              <a:ext cx="1239480" cy="1729440"/>
              <a:chOff x="6189840" y="914400"/>
              <a:chExt cx="1239480" cy="1729440"/>
            </a:xfrm>
          </p:grpSpPr>
          <p:cxnSp>
            <p:nvCxnSpPr>
              <p:cNvPr id="576" name="AutoShape 111"/>
              <p:cNvCxnSpPr/>
              <p:nvPr/>
            </p:nvCxnSpPr>
            <p:spPr>
              <a:xfrm flipH="1" flipV="1">
                <a:off x="6845400" y="1199520"/>
                <a:ext cx="1080" cy="1444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577" name="Group 112"/>
              <p:cNvGrpSpPr/>
              <p:nvPr/>
            </p:nvGrpSpPr>
            <p:grpSpPr>
              <a:xfrm>
                <a:off x="6241680" y="953280"/>
                <a:ext cx="630000" cy="626760"/>
                <a:chOff x="6241680" y="953280"/>
                <a:chExt cx="630000" cy="626760"/>
              </a:xfrm>
            </p:grpSpPr>
            <p:grpSp>
              <p:nvGrpSpPr>
                <p:cNvPr id="578" name="Group 113"/>
                <p:cNvGrpSpPr/>
                <p:nvPr/>
              </p:nvGrpSpPr>
              <p:grpSpPr>
                <a:xfrm>
                  <a:off x="6401160" y="953280"/>
                  <a:ext cx="470520" cy="626760"/>
                  <a:chOff x="6401160" y="953280"/>
                  <a:chExt cx="470520" cy="626760"/>
                </a:xfrm>
              </p:grpSpPr>
              <p:sp>
                <p:nvSpPr>
                  <p:cNvPr id="579" name="Arc 114"/>
                  <p:cNvSpPr/>
                  <p:nvPr/>
                </p:nvSpPr>
                <p:spPr>
                  <a:xfrm flipH="1" flipV="1" rot="19500000">
                    <a:off x="6533280" y="1230840"/>
                    <a:ext cx="103320" cy="110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0" name="Group 115"/>
                  <p:cNvGrpSpPr/>
                  <p:nvPr/>
                </p:nvGrpSpPr>
                <p:grpSpPr>
                  <a:xfrm>
                    <a:off x="6401160" y="953280"/>
                    <a:ext cx="470520" cy="626760"/>
                    <a:chOff x="6401160" y="953280"/>
                    <a:chExt cx="470520" cy="626760"/>
                  </a:xfrm>
                </p:grpSpPr>
                <p:sp>
                  <p:nvSpPr>
                    <p:cNvPr id="581" name="Line 116"/>
                    <p:cNvSpPr/>
                    <p:nvPr/>
                  </p:nvSpPr>
                  <p:spPr>
                    <a:xfrm>
                      <a:off x="6552360" y="1125360"/>
                      <a:ext cx="319320" cy="454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Oval 117"/>
                    <p:cNvSpPr/>
                    <p:nvPr/>
                  </p:nvSpPr>
                  <p:spPr>
                    <a:xfrm flipH="1" rot="19500000">
                      <a:off x="6431760" y="988200"/>
                      <a:ext cx="173520" cy="161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3" name="Line 118"/>
                <p:cNvSpPr/>
                <p:nvPr/>
              </p:nvSpPr>
              <p:spPr>
                <a:xfrm flipH="1" flipV="1">
                  <a:off x="6427440" y="1248840"/>
                  <a:ext cx="22896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119"/>
                <p:cNvSpPr/>
                <p:nvPr/>
              </p:nvSpPr>
              <p:spPr>
                <a:xfrm flipH="1" rot="19500000">
                  <a:off x="6272280" y="1140120"/>
                  <a:ext cx="174240" cy="161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120"/>
              <p:cNvGrpSpPr/>
              <p:nvPr/>
            </p:nvGrpSpPr>
            <p:grpSpPr>
              <a:xfrm>
                <a:off x="6189840" y="1488600"/>
                <a:ext cx="678600" cy="564120"/>
                <a:chOff x="6189840" y="1488600"/>
                <a:chExt cx="678600" cy="564120"/>
              </a:xfrm>
            </p:grpSpPr>
            <p:grpSp>
              <p:nvGrpSpPr>
                <p:cNvPr id="586" name="Group 121"/>
                <p:cNvGrpSpPr/>
                <p:nvPr/>
              </p:nvGrpSpPr>
              <p:grpSpPr>
                <a:xfrm>
                  <a:off x="6324120" y="1488600"/>
                  <a:ext cx="544320" cy="564120"/>
                  <a:chOff x="6324120" y="1488600"/>
                  <a:chExt cx="544320" cy="564120"/>
                </a:xfrm>
              </p:grpSpPr>
              <p:sp>
                <p:nvSpPr>
                  <p:cNvPr id="587" name="Arc 122"/>
                  <p:cNvSpPr/>
                  <p:nvPr/>
                </p:nvSpPr>
                <p:spPr>
                  <a:xfrm flipH="1" flipV="1" rot="18958800">
                    <a:off x="6488640" y="1755000"/>
                    <a:ext cx="103680" cy="110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8" name="Group 123"/>
                  <p:cNvGrpSpPr/>
                  <p:nvPr/>
                </p:nvGrpSpPr>
                <p:grpSpPr>
                  <a:xfrm>
                    <a:off x="6324120" y="1488600"/>
                    <a:ext cx="544320" cy="564120"/>
                    <a:chOff x="6324120" y="1488600"/>
                    <a:chExt cx="544320" cy="564120"/>
                  </a:xfrm>
                </p:grpSpPr>
                <p:sp>
                  <p:nvSpPr>
                    <p:cNvPr id="589" name="Line 124"/>
                    <p:cNvSpPr/>
                    <p:nvPr/>
                  </p:nvSpPr>
                  <p:spPr>
                    <a:xfrm>
                      <a:off x="6484320" y="1656360"/>
                      <a:ext cx="384120" cy="396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Oval 125"/>
                    <p:cNvSpPr/>
                    <p:nvPr/>
                  </p:nvSpPr>
                  <p:spPr>
                    <a:xfrm flipH="1" rot="18958200">
                      <a:off x="6354360" y="1526400"/>
                      <a:ext cx="173880" cy="159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1" name="Line 126"/>
                <p:cNvSpPr/>
                <p:nvPr/>
              </p:nvSpPr>
              <p:spPr>
                <a:xfrm flipH="1" flipV="1">
                  <a:off x="6379920" y="1798200"/>
                  <a:ext cx="232920" cy="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Oval 127"/>
                <p:cNvSpPr/>
                <p:nvPr/>
              </p:nvSpPr>
              <p:spPr>
                <a:xfrm flipH="1" rot="18958200">
                  <a:off x="6220800" y="1701000"/>
                  <a:ext cx="174600" cy="160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Group 128"/>
              <p:cNvGrpSpPr/>
              <p:nvPr/>
            </p:nvGrpSpPr>
            <p:grpSpPr>
              <a:xfrm>
                <a:off x="6907680" y="1245240"/>
                <a:ext cx="521640" cy="527040"/>
                <a:chOff x="6907680" y="1245240"/>
                <a:chExt cx="521640" cy="527040"/>
              </a:xfrm>
            </p:grpSpPr>
            <p:grpSp>
              <p:nvGrpSpPr>
                <p:cNvPr id="594" name="Group 129"/>
                <p:cNvGrpSpPr/>
                <p:nvPr/>
              </p:nvGrpSpPr>
              <p:grpSpPr>
                <a:xfrm>
                  <a:off x="6907680" y="1245240"/>
                  <a:ext cx="361800" cy="527040"/>
                  <a:chOff x="6907680" y="1245240"/>
                  <a:chExt cx="361800" cy="527040"/>
                </a:xfrm>
              </p:grpSpPr>
              <p:sp>
                <p:nvSpPr>
                  <p:cNvPr id="595" name="Arc 130"/>
                  <p:cNvSpPr/>
                  <p:nvPr/>
                </p:nvSpPr>
                <p:spPr>
                  <a:xfrm flipV="1" rot="2100000">
                    <a:off x="7038360" y="1518120"/>
                    <a:ext cx="103680" cy="107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6" name="Group 131"/>
                  <p:cNvGrpSpPr/>
                  <p:nvPr/>
                </p:nvGrpSpPr>
                <p:grpSpPr>
                  <a:xfrm>
                    <a:off x="6907680" y="1245240"/>
                    <a:ext cx="361800" cy="527040"/>
                    <a:chOff x="6907680" y="1245240"/>
                    <a:chExt cx="361800" cy="527040"/>
                  </a:xfrm>
                </p:grpSpPr>
                <p:sp>
                  <p:nvSpPr>
                    <p:cNvPr id="597" name="Line 132"/>
                    <p:cNvSpPr/>
                    <p:nvPr/>
                  </p:nvSpPr>
                  <p:spPr>
                    <a:xfrm flipH="1">
                      <a:off x="6907680" y="1437840"/>
                      <a:ext cx="235080" cy="334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Oval 133"/>
                    <p:cNvSpPr/>
                    <p:nvPr/>
                  </p:nvSpPr>
                  <p:spPr>
                    <a:xfrm rot="2100000">
                      <a:off x="7066080" y="1280880"/>
                      <a:ext cx="173880" cy="15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9" name="Line 134"/>
                <p:cNvSpPr/>
                <p:nvPr/>
              </p:nvSpPr>
              <p:spPr>
                <a:xfrm flipV="1">
                  <a:off x="7018560" y="1537200"/>
                  <a:ext cx="2275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Oval 135"/>
                <p:cNvSpPr/>
                <p:nvPr/>
              </p:nvSpPr>
              <p:spPr>
                <a:xfrm rot="2100000">
                  <a:off x="7225200" y="1432440"/>
                  <a:ext cx="174600" cy="157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Oval 136"/>
              <p:cNvSpPr/>
              <p:nvPr/>
            </p:nvSpPr>
            <p:spPr>
              <a:xfrm flipH="1">
                <a:off x="6710760" y="914400"/>
                <a:ext cx="281880" cy="28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rc 137"/>
              <p:cNvSpPr/>
              <p:nvPr/>
            </p:nvSpPr>
            <p:spPr>
              <a:xfrm flipH="1" flipV="1">
                <a:off x="6649560" y="1449720"/>
                <a:ext cx="186840" cy="111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rc 138"/>
              <p:cNvSpPr/>
              <p:nvPr/>
            </p:nvSpPr>
            <p:spPr>
              <a:xfrm flipH="1" flipV="1">
                <a:off x="6658200" y="1919520"/>
                <a:ext cx="186840" cy="111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rc 139"/>
              <p:cNvSpPr/>
              <p:nvPr/>
            </p:nvSpPr>
            <p:spPr>
              <a:xfrm flipV="1">
                <a:off x="6867360" y="1728360"/>
                <a:ext cx="186840" cy="111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140"/>
            <p:cNvGrpSpPr/>
            <p:nvPr/>
          </p:nvGrpSpPr>
          <p:grpSpPr>
            <a:xfrm>
              <a:off x="6226560" y="2627640"/>
              <a:ext cx="1187640" cy="569160"/>
              <a:chOff x="6226560" y="2627640"/>
              <a:chExt cx="1187640" cy="569160"/>
            </a:xfrm>
          </p:grpSpPr>
          <p:sp>
            <p:nvSpPr>
              <p:cNvPr id="606" name="Rectangle 141"/>
              <p:cNvSpPr/>
              <p:nvPr/>
            </p:nvSpPr>
            <p:spPr>
              <a:xfrm>
                <a:off x="6748920" y="2639520"/>
                <a:ext cx="189720" cy="11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42"/>
              <p:cNvSpPr/>
              <p:nvPr/>
            </p:nvSpPr>
            <p:spPr>
              <a:xfrm>
                <a:off x="6939000" y="2737080"/>
                <a:ext cx="293400" cy="405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43"/>
              <p:cNvSpPr/>
              <p:nvPr/>
            </p:nvSpPr>
            <p:spPr>
              <a:xfrm>
                <a:off x="6306840" y="2710080"/>
                <a:ext cx="435240" cy="21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44"/>
              <p:cNvSpPr/>
              <p:nvPr/>
            </p:nvSpPr>
            <p:spPr>
              <a:xfrm>
                <a:off x="6608160" y="2737080"/>
                <a:ext cx="164160" cy="403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45"/>
              <p:cNvSpPr/>
              <p:nvPr/>
            </p:nvSpPr>
            <p:spPr>
              <a:xfrm rot="5056800">
                <a:off x="6910560" y="2670120"/>
                <a:ext cx="370800" cy="314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46"/>
              <p:cNvSpPr/>
              <p:nvPr/>
            </p:nvSpPr>
            <p:spPr>
              <a:xfrm>
                <a:off x="6974640" y="2730240"/>
                <a:ext cx="378360" cy="263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47"/>
              <p:cNvSpPr/>
              <p:nvPr/>
            </p:nvSpPr>
            <p:spPr>
              <a:xfrm>
                <a:off x="6382800" y="2689920"/>
                <a:ext cx="366120" cy="425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48"/>
              <p:cNvSpPr/>
              <p:nvPr/>
            </p:nvSpPr>
            <p:spPr>
              <a:xfrm>
                <a:off x="6486840" y="2752200"/>
                <a:ext cx="225360" cy="389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49"/>
              <p:cNvSpPr/>
              <p:nvPr/>
            </p:nvSpPr>
            <p:spPr>
              <a:xfrm>
                <a:off x="6973200" y="2665080"/>
                <a:ext cx="441000" cy="274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50"/>
              <p:cNvSpPr/>
              <p:nvPr/>
            </p:nvSpPr>
            <p:spPr>
              <a:xfrm>
                <a:off x="6226560" y="2696040"/>
                <a:ext cx="463320" cy="143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51"/>
              <p:cNvSpPr/>
              <p:nvPr/>
            </p:nvSpPr>
            <p:spPr>
              <a:xfrm>
                <a:off x="6533640" y="2737080"/>
                <a:ext cx="178560" cy="4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52"/>
              <p:cNvSpPr/>
              <p:nvPr/>
            </p:nvSpPr>
            <p:spPr>
              <a:xfrm>
                <a:off x="6944400" y="2722320"/>
                <a:ext cx="123480" cy="406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Freeform 153"/>
            <p:cNvSpPr/>
            <p:nvPr/>
          </p:nvSpPr>
          <p:spPr>
            <a:xfrm>
              <a:off x="6533640" y="2003760"/>
              <a:ext cx="239040" cy="176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54"/>
            <p:cNvSpPr/>
            <p:nvPr/>
          </p:nvSpPr>
          <p:spPr>
            <a:xfrm rot="19487400">
              <a:off x="5943600" y="2265840"/>
              <a:ext cx="203040" cy="168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5"/>
            <p:cNvSpPr/>
            <p:nvPr/>
          </p:nvSpPr>
          <p:spPr>
            <a:xfrm rot="2458800">
              <a:off x="7339320" y="2138760"/>
              <a:ext cx="280440" cy="212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6"/>
            <p:cNvSpPr/>
            <p:nvPr/>
          </p:nvSpPr>
          <p:spPr>
            <a:xfrm rot="1113600">
              <a:off x="7072560" y="2046600"/>
              <a:ext cx="280440" cy="247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7"/>
            <p:cNvSpPr/>
            <p:nvPr/>
          </p:nvSpPr>
          <p:spPr>
            <a:xfrm>
              <a:off x="6862320" y="1994040"/>
              <a:ext cx="280440" cy="247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58"/>
            <p:cNvSpPr/>
            <p:nvPr/>
          </p:nvSpPr>
          <p:spPr>
            <a:xfrm>
              <a:off x="6094080" y="2022480"/>
              <a:ext cx="280440" cy="247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9"/>
            <p:cNvSpPr/>
            <p:nvPr/>
          </p:nvSpPr>
          <p:spPr>
            <a:xfrm>
              <a:off x="6307200" y="2003760"/>
              <a:ext cx="281160" cy="2473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160"/>
            <p:cNvGrpSpPr/>
            <p:nvPr/>
          </p:nvGrpSpPr>
          <p:grpSpPr>
            <a:xfrm>
              <a:off x="6708960" y="2159280"/>
              <a:ext cx="723960" cy="579600"/>
              <a:chOff x="6708960" y="2159280"/>
              <a:chExt cx="723960" cy="579600"/>
            </a:xfrm>
          </p:grpSpPr>
          <p:sp>
            <p:nvSpPr>
              <p:cNvPr id="626" name="Arc 161"/>
              <p:cNvSpPr/>
              <p:nvPr/>
            </p:nvSpPr>
            <p:spPr>
              <a:xfrm flipV="1" rot="21094200">
                <a:off x="6739920" y="2194200"/>
                <a:ext cx="511560" cy="465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rc 162"/>
              <p:cNvSpPr/>
              <p:nvPr/>
            </p:nvSpPr>
            <p:spPr>
              <a:xfrm flipV="1" rot="245400">
                <a:off x="6901200" y="2193480"/>
                <a:ext cx="513360" cy="527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rc 163"/>
              <p:cNvSpPr/>
              <p:nvPr/>
            </p:nvSpPr>
            <p:spPr>
              <a:xfrm flipV="1">
                <a:off x="6740280" y="2194200"/>
                <a:ext cx="294840" cy="465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Arc 164"/>
            <p:cNvSpPr/>
            <p:nvPr/>
          </p:nvSpPr>
          <p:spPr>
            <a:xfrm flipH="1" flipV="1" rot="505800">
              <a:off x="6207120" y="2189880"/>
              <a:ext cx="693360" cy="44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rc 165"/>
            <p:cNvSpPr/>
            <p:nvPr/>
          </p:nvSpPr>
          <p:spPr>
            <a:xfrm flipH="1" flipV="1" rot="21354600">
              <a:off x="6094080" y="2198160"/>
              <a:ext cx="645120" cy="52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rc 166"/>
            <p:cNvSpPr/>
            <p:nvPr/>
          </p:nvSpPr>
          <p:spPr>
            <a:xfrm flipH="1" flipV="1">
              <a:off x="6487200" y="2193480"/>
              <a:ext cx="414000" cy="46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rc 167"/>
            <p:cNvSpPr/>
            <p:nvPr/>
          </p:nvSpPr>
          <p:spPr>
            <a:xfrm flipH="1" flipV="1">
              <a:off x="6656760" y="2157840"/>
              <a:ext cx="137520" cy="46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168"/>
          <p:cNvGrpSpPr/>
          <p:nvPr/>
        </p:nvGrpSpPr>
        <p:grpSpPr>
          <a:xfrm>
            <a:off x="1247400" y="4800600"/>
            <a:ext cx="1709280" cy="1630440"/>
            <a:chOff x="1247400" y="4800600"/>
            <a:chExt cx="1709280" cy="1630440"/>
          </a:xfrm>
        </p:grpSpPr>
        <p:grpSp>
          <p:nvGrpSpPr>
            <p:cNvPr id="634" name="Group 169"/>
            <p:cNvGrpSpPr/>
            <p:nvPr/>
          </p:nvGrpSpPr>
          <p:grpSpPr>
            <a:xfrm>
              <a:off x="2067480" y="5374800"/>
              <a:ext cx="126000" cy="303840"/>
              <a:chOff x="2067480" y="5374800"/>
              <a:chExt cx="126000" cy="303840"/>
            </a:xfrm>
          </p:grpSpPr>
          <p:grpSp>
            <p:nvGrpSpPr>
              <p:cNvPr id="635" name="Group 170"/>
              <p:cNvGrpSpPr/>
              <p:nvPr/>
            </p:nvGrpSpPr>
            <p:grpSpPr>
              <a:xfrm>
                <a:off x="2067480" y="5374800"/>
                <a:ext cx="126000" cy="286560"/>
                <a:chOff x="2067480" y="5374800"/>
                <a:chExt cx="126000" cy="286560"/>
              </a:xfrm>
            </p:grpSpPr>
            <p:sp>
              <p:nvSpPr>
                <p:cNvPr id="636" name="Arc 171"/>
                <p:cNvSpPr/>
                <p:nvPr/>
              </p:nvSpPr>
              <p:spPr>
                <a:xfrm>
                  <a:off x="2131560" y="5374800"/>
                  <a:ext cx="61920" cy="286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Arc 172"/>
                <p:cNvSpPr/>
                <p:nvPr/>
              </p:nvSpPr>
              <p:spPr>
                <a:xfrm flipH="1">
                  <a:off x="2067480" y="5374800"/>
                  <a:ext cx="61920" cy="286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38" name="AutoShape 173"/>
              <p:cNvCxnSpPr/>
              <p:nvPr/>
            </p:nvCxnSpPr>
            <p:spPr>
              <a:xfrm>
                <a:off x="2125800" y="5466960"/>
                <a:ext cx="1080" cy="212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</p:cxnSp>
        </p:grpSp>
        <p:grpSp>
          <p:nvGrpSpPr>
            <p:cNvPr id="639" name="Group 174"/>
            <p:cNvGrpSpPr/>
            <p:nvPr/>
          </p:nvGrpSpPr>
          <p:grpSpPr>
            <a:xfrm>
              <a:off x="1565640" y="5665320"/>
              <a:ext cx="1133640" cy="765720"/>
              <a:chOff x="1565640" y="5665320"/>
              <a:chExt cx="1133640" cy="765720"/>
            </a:xfrm>
          </p:grpSpPr>
          <p:sp>
            <p:nvSpPr>
              <p:cNvPr id="640" name="Rectangle 175"/>
              <p:cNvSpPr/>
              <p:nvPr/>
            </p:nvSpPr>
            <p:spPr>
              <a:xfrm>
                <a:off x="2064240" y="5675040"/>
                <a:ext cx="181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76"/>
              <p:cNvSpPr/>
              <p:nvPr/>
            </p:nvSpPr>
            <p:spPr>
              <a:xfrm>
                <a:off x="2245320" y="5807520"/>
                <a:ext cx="280080" cy="550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77"/>
              <p:cNvSpPr/>
              <p:nvPr/>
            </p:nvSpPr>
            <p:spPr>
              <a:xfrm>
                <a:off x="1642320" y="5770800"/>
                <a:ext cx="415440" cy="291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78"/>
              <p:cNvSpPr/>
              <p:nvPr/>
            </p:nvSpPr>
            <p:spPr>
              <a:xfrm>
                <a:off x="1929960" y="5807520"/>
                <a:ext cx="15660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79"/>
              <p:cNvSpPr/>
              <p:nvPr/>
            </p:nvSpPr>
            <p:spPr>
              <a:xfrm rot="5056800">
                <a:off x="2143800" y="5780160"/>
                <a:ext cx="502920" cy="300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80"/>
              <p:cNvSpPr/>
              <p:nvPr/>
            </p:nvSpPr>
            <p:spPr>
              <a:xfrm>
                <a:off x="2279520" y="5797800"/>
                <a:ext cx="361080" cy="356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81"/>
              <p:cNvSpPr/>
              <p:nvPr/>
            </p:nvSpPr>
            <p:spPr>
              <a:xfrm>
                <a:off x="1714680" y="5743440"/>
                <a:ext cx="349200" cy="57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82"/>
              <p:cNvSpPr/>
              <p:nvPr/>
            </p:nvSpPr>
            <p:spPr>
              <a:xfrm>
                <a:off x="1814040" y="5827680"/>
                <a:ext cx="215280" cy="52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83"/>
              <p:cNvSpPr/>
              <p:nvPr/>
            </p:nvSpPr>
            <p:spPr>
              <a:xfrm>
                <a:off x="2278440" y="5709960"/>
                <a:ext cx="420840" cy="371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84"/>
              <p:cNvSpPr/>
              <p:nvPr/>
            </p:nvSpPr>
            <p:spPr>
              <a:xfrm>
                <a:off x="1565640" y="5751720"/>
                <a:ext cx="442080" cy="194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85"/>
              <p:cNvSpPr/>
              <p:nvPr/>
            </p:nvSpPr>
            <p:spPr>
              <a:xfrm>
                <a:off x="1858680" y="5807520"/>
                <a:ext cx="170280" cy="623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86"/>
              <p:cNvSpPr/>
              <p:nvPr/>
            </p:nvSpPr>
            <p:spPr>
              <a:xfrm>
                <a:off x="2250720" y="5787000"/>
                <a:ext cx="118080" cy="551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Freeform 187"/>
            <p:cNvSpPr/>
            <p:nvPr/>
          </p:nvSpPr>
          <p:spPr>
            <a:xfrm>
              <a:off x="1858680" y="4813560"/>
              <a:ext cx="228240" cy="23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88"/>
            <p:cNvSpPr/>
            <p:nvPr/>
          </p:nvSpPr>
          <p:spPr>
            <a:xfrm rot="19487400">
              <a:off x="1295280" y="5169240"/>
              <a:ext cx="194040" cy="227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89"/>
            <p:cNvSpPr/>
            <p:nvPr/>
          </p:nvSpPr>
          <p:spPr>
            <a:xfrm rot="2458800">
              <a:off x="2626920" y="4996440"/>
              <a:ext cx="267840" cy="2880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90"/>
            <p:cNvSpPr/>
            <p:nvPr/>
          </p:nvSpPr>
          <p:spPr>
            <a:xfrm rot="1113600">
              <a:off x="2372760" y="4871880"/>
              <a:ext cx="267840" cy="335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91"/>
            <p:cNvSpPr/>
            <p:nvPr/>
          </p:nvSpPr>
          <p:spPr>
            <a:xfrm>
              <a:off x="2172240" y="4800600"/>
              <a:ext cx="267840" cy="335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92"/>
            <p:cNvSpPr/>
            <p:nvPr/>
          </p:nvSpPr>
          <p:spPr>
            <a:xfrm>
              <a:off x="1438920" y="4839120"/>
              <a:ext cx="267840" cy="335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93"/>
            <p:cNvSpPr/>
            <p:nvPr/>
          </p:nvSpPr>
          <p:spPr>
            <a:xfrm>
              <a:off x="1642320" y="4813560"/>
              <a:ext cx="267840" cy="335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194"/>
            <p:cNvGrpSpPr/>
            <p:nvPr/>
          </p:nvGrpSpPr>
          <p:grpSpPr>
            <a:xfrm>
              <a:off x="2011680" y="5039280"/>
              <a:ext cx="712080" cy="764280"/>
              <a:chOff x="2011680" y="5039280"/>
              <a:chExt cx="712080" cy="764280"/>
            </a:xfrm>
          </p:grpSpPr>
          <p:sp>
            <p:nvSpPr>
              <p:cNvPr id="660" name="Arc 195"/>
              <p:cNvSpPr/>
              <p:nvPr/>
            </p:nvSpPr>
            <p:spPr>
              <a:xfrm flipV="1" rot="21094200">
                <a:off x="2055240" y="5071320"/>
                <a:ext cx="487800" cy="63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rc 196"/>
              <p:cNvSpPr/>
              <p:nvPr/>
            </p:nvSpPr>
            <p:spPr>
              <a:xfrm flipV="1" rot="245400">
                <a:off x="2208960" y="5071680"/>
                <a:ext cx="489600" cy="714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rc 197"/>
              <p:cNvSpPr/>
              <p:nvPr/>
            </p:nvSpPr>
            <p:spPr>
              <a:xfrm flipV="1">
                <a:off x="2055600" y="5071320"/>
                <a:ext cx="281160" cy="63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Arc 198"/>
            <p:cNvSpPr/>
            <p:nvPr/>
          </p:nvSpPr>
          <p:spPr>
            <a:xfrm flipH="1" flipV="1" rot="505800">
              <a:off x="1545480" y="5067360"/>
              <a:ext cx="661680" cy="602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rc 199"/>
            <p:cNvSpPr/>
            <p:nvPr/>
          </p:nvSpPr>
          <p:spPr>
            <a:xfrm flipH="1" flipV="1" rot="21354600">
              <a:off x="1437840" y="5077440"/>
              <a:ext cx="616320" cy="715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rc 200"/>
            <p:cNvSpPr/>
            <p:nvPr/>
          </p:nvSpPr>
          <p:spPr>
            <a:xfrm flipH="1" flipV="1">
              <a:off x="1813320" y="5072040"/>
              <a:ext cx="394920" cy="630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rc 201"/>
            <p:cNvSpPr/>
            <p:nvPr/>
          </p:nvSpPr>
          <p:spPr>
            <a:xfrm flipH="1" flipV="1">
              <a:off x="1976040" y="5022360"/>
              <a:ext cx="131040" cy="63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202"/>
          <p:cNvGrpSpPr/>
          <p:nvPr/>
        </p:nvGrpSpPr>
        <p:grpSpPr>
          <a:xfrm>
            <a:off x="3276720" y="3886200"/>
            <a:ext cx="1857600" cy="2438280"/>
            <a:chOff x="3276720" y="3886200"/>
            <a:chExt cx="1857600" cy="2438280"/>
          </a:xfrm>
        </p:grpSpPr>
        <p:sp>
          <p:nvSpPr>
            <p:cNvPr id="668" name="Freeform 203"/>
            <p:cNvSpPr/>
            <p:nvPr/>
          </p:nvSpPr>
          <p:spPr>
            <a:xfrm>
              <a:off x="4303080" y="5855400"/>
              <a:ext cx="270720" cy="41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4"/>
            <p:cNvSpPr/>
            <p:nvPr/>
          </p:nvSpPr>
          <p:spPr>
            <a:xfrm>
              <a:off x="3998880" y="5855400"/>
              <a:ext cx="151200" cy="40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05"/>
            <p:cNvSpPr/>
            <p:nvPr/>
          </p:nvSpPr>
          <p:spPr>
            <a:xfrm>
              <a:off x="3886560" y="5870160"/>
              <a:ext cx="208080" cy="39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06"/>
            <p:cNvSpPr/>
            <p:nvPr/>
          </p:nvSpPr>
          <p:spPr>
            <a:xfrm>
              <a:off x="3930120" y="5855400"/>
              <a:ext cx="164880" cy="465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7"/>
            <p:cNvSpPr/>
            <p:nvPr/>
          </p:nvSpPr>
          <p:spPr>
            <a:xfrm>
              <a:off x="3918960" y="5133600"/>
              <a:ext cx="281160" cy="257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rc 208"/>
            <p:cNvSpPr/>
            <p:nvPr/>
          </p:nvSpPr>
          <p:spPr>
            <a:xfrm flipV="1" rot="21094200">
              <a:off x="4216680" y="5257800"/>
              <a:ext cx="229680" cy="535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rc 209"/>
            <p:cNvSpPr/>
            <p:nvPr/>
          </p:nvSpPr>
          <p:spPr>
            <a:xfrm flipV="1" rot="245400">
              <a:off x="4333680" y="5517360"/>
              <a:ext cx="565200" cy="339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rc 210"/>
            <p:cNvSpPr/>
            <p:nvPr/>
          </p:nvSpPr>
          <p:spPr>
            <a:xfrm flipH="1" flipV="1" rot="505800">
              <a:off x="3458880" y="5394240"/>
              <a:ext cx="677880" cy="34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rc 211"/>
            <p:cNvSpPr/>
            <p:nvPr/>
          </p:nvSpPr>
          <p:spPr>
            <a:xfrm flipH="1" flipV="1" rot="21354600">
              <a:off x="3679560" y="5726160"/>
              <a:ext cx="435240" cy="44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rc 212"/>
            <p:cNvSpPr/>
            <p:nvPr/>
          </p:nvSpPr>
          <p:spPr>
            <a:xfrm flipH="1" flipV="1">
              <a:off x="4047120" y="5247000"/>
              <a:ext cx="227880" cy="51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13"/>
            <p:cNvSpPr/>
            <p:nvPr/>
          </p:nvSpPr>
          <p:spPr>
            <a:xfrm>
              <a:off x="3632400" y="5841000"/>
              <a:ext cx="471600" cy="24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14"/>
            <p:cNvSpPr/>
            <p:nvPr/>
          </p:nvSpPr>
          <p:spPr>
            <a:xfrm rot="5056800">
              <a:off x="4272840" y="5806080"/>
              <a:ext cx="427680" cy="34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15"/>
            <p:cNvSpPr/>
            <p:nvPr/>
          </p:nvSpPr>
          <p:spPr>
            <a:xfrm>
              <a:off x="4355280" y="5864760"/>
              <a:ext cx="409680" cy="30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16"/>
            <p:cNvSpPr/>
            <p:nvPr/>
          </p:nvSpPr>
          <p:spPr>
            <a:xfrm>
              <a:off x="3714840" y="5817960"/>
              <a:ext cx="396360" cy="49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17"/>
            <p:cNvSpPr/>
            <p:nvPr/>
          </p:nvSpPr>
          <p:spPr>
            <a:xfrm>
              <a:off x="4323240" y="5812560"/>
              <a:ext cx="477000" cy="316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18"/>
            <p:cNvSpPr/>
            <p:nvPr/>
          </p:nvSpPr>
          <p:spPr>
            <a:xfrm>
              <a:off x="3606840" y="5812560"/>
              <a:ext cx="502560" cy="16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9"/>
            <p:cNvSpPr/>
            <p:nvPr/>
          </p:nvSpPr>
          <p:spPr>
            <a:xfrm>
              <a:off x="4323240" y="5855040"/>
              <a:ext cx="133920" cy="46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20"/>
            <p:cNvSpPr/>
            <p:nvPr/>
          </p:nvSpPr>
          <p:spPr>
            <a:xfrm>
              <a:off x="4115880" y="5773320"/>
              <a:ext cx="187920" cy="8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21"/>
            <p:cNvSpPr/>
            <p:nvPr/>
          </p:nvSpPr>
          <p:spPr>
            <a:xfrm rot="1090200">
              <a:off x="4300200" y="5155200"/>
              <a:ext cx="281880" cy="227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22"/>
            <p:cNvSpPr/>
            <p:nvPr/>
          </p:nvSpPr>
          <p:spPr>
            <a:xfrm>
              <a:off x="3276720" y="5166360"/>
              <a:ext cx="330120" cy="293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23"/>
            <p:cNvSpPr/>
            <p:nvPr/>
          </p:nvSpPr>
          <p:spPr>
            <a:xfrm rot="1680600">
              <a:off x="4800240" y="5406480"/>
              <a:ext cx="305280" cy="1980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24"/>
            <p:cNvSpPr/>
            <p:nvPr/>
          </p:nvSpPr>
          <p:spPr>
            <a:xfrm rot="19200000">
              <a:off x="3528360" y="5572800"/>
              <a:ext cx="245160" cy="239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AutoShape 225"/>
            <p:cNvCxnSpPr/>
            <p:nvPr/>
          </p:nvCxnSpPr>
          <p:spPr>
            <a:xfrm flipH="1" flipV="1">
              <a:off x="4199760" y="4195080"/>
              <a:ext cx="1080" cy="156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691" name="Group 226"/>
            <p:cNvGrpSpPr/>
            <p:nvPr/>
          </p:nvGrpSpPr>
          <p:grpSpPr>
            <a:xfrm>
              <a:off x="3513960" y="3919320"/>
              <a:ext cx="700920" cy="682560"/>
              <a:chOff x="3513960" y="3919320"/>
              <a:chExt cx="700920" cy="682560"/>
            </a:xfrm>
          </p:grpSpPr>
          <p:grpSp>
            <p:nvGrpSpPr>
              <p:cNvPr id="692" name="Group 227"/>
              <p:cNvGrpSpPr/>
              <p:nvPr/>
            </p:nvGrpSpPr>
            <p:grpSpPr>
              <a:xfrm>
                <a:off x="3699720" y="3919320"/>
                <a:ext cx="515160" cy="682560"/>
                <a:chOff x="3699720" y="3919320"/>
                <a:chExt cx="515160" cy="682560"/>
              </a:xfrm>
            </p:grpSpPr>
            <p:sp>
              <p:nvSpPr>
                <p:cNvPr id="693" name="Arc 228"/>
                <p:cNvSpPr/>
                <p:nvPr/>
              </p:nvSpPr>
              <p:spPr>
                <a:xfrm flipH="1" flipV="1" rot="19500000">
                  <a:off x="3838680" y="4227480"/>
                  <a:ext cx="120600" cy="119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" name="Group 229"/>
                <p:cNvGrpSpPr/>
                <p:nvPr/>
              </p:nvGrpSpPr>
              <p:grpSpPr>
                <a:xfrm>
                  <a:off x="3699720" y="3919320"/>
                  <a:ext cx="515160" cy="682560"/>
                  <a:chOff x="3699720" y="3919320"/>
                  <a:chExt cx="515160" cy="682560"/>
                </a:xfrm>
              </p:grpSpPr>
              <p:sp>
                <p:nvSpPr>
                  <p:cNvPr id="695" name="Line 230"/>
                  <p:cNvSpPr/>
                  <p:nvPr/>
                </p:nvSpPr>
                <p:spPr>
                  <a:xfrm>
                    <a:off x="3869280" y="4109400"/>
                    <a:ext cx="345600" cy="492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Oval 231"/>
                  <p:cNvSpPr/>
                  <p:nvPr/>
                </p:nvSpPr>
                <p:spPr>
                  <a:xfrm flipH="1" rot="19500000">
                    <a:off x="3731040" y="3961080"/>
                    <a:ext cx="201600" cy="17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7" name="Line 232"/>
              <p:cNvSpPr/>
              <p:nvPr/>
            </p:nvSpPr>
            <p:spPr>
              <a:xfrm flipH="1" flipV="1">
                <a:off x="3721680" y="4250880"/>
                <a:ext cx="26064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233"/>
              <p:cNvSpPr/>
              <p:nvPr/>
            </p:nvSpPr>
            <p:spPr>
              <a:xfrm flipH="1" rot="19500000">
                <a:off x="3545280" y="4135320"/>
                <a:ext cx="202320" cy="174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34"/>
            <p:cNvGrpSpPr/>
            <p:nvPr/>
          </p:nvGrpSpPr>
          <p:grpSpPr>
            <a:xfrm>
              <a:off x="3455640" y="4496760"/>
              <a:ext cx="751320" cy="614880"/>
              <a:chOff x="3455640" y="4496760"/>
              <a:chExt cx="751320" cy="614880"/>
            </a:xfrm>
          </p:grpSpPr>
          <p:grpSp>
            <p:nvGrpSpPr>
              <p:cNvPr id="700" name="Group 235"/>
              <p:cNvGrpSpPr/>
              <p:nvPr/>
            </p:nvGrpSpPr>
            <p:grpSpPr>
              <a:xfrm>
                <a:off x="3613320" y="4496760"/>
                <a:ext cx="593640" cy="614880"/>
                <a:chOff x="3613320" y="4496760"/>
                <a:chExt cx="593640" cy="614880"/>
              </a:xfrm>
            </p:grpSpPr>
            <p:sp>
              <p:nvSpPr>
                <p:cNvPr id="701" name="Arc 236"/>
                <p:cNvSpPr/>
                <p:nvPr/>
              </p:nvSpPr>
              <p:spPr>
                <a:xfrm flipH="1" flipV="1" rot="18958800">
                  <a:off x="3788280" y="4793400"/>
                  <a:ext cx="120240" cy="119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237"/>
                <p:cNvGrpSpPr/>
                <p:nvPr/>
              </p:nvGrpSpPr>
              <p:grpSpPr>
                <a:xfrm>
                  <a:off x="3613320" y="4496760"/>
                  <a:ext cx="593640" cy="614880"/>
                  <a:chOff x="3613320" y="4496760"/>
                  <a:chExt cx="593640" cy="614880"/>
                </a:xfrm>
              </p:grpSpPr>
              <p:sp>
                <p:nvSpPr>
                  <p:cNvPr id="703" name="Line 238"/>
                  <p:cNvSpPr/>
                  <p:nvPr/>
                </p:nvSpPr>
                <p:spPr>
                  <a:xfrm>
                    <a:off x="3791520" y="4682880"/>
                    <a:ext cx="415440" cy="428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Oval 239"/>
                  <p:cNvSpPr/>
                  <p:nvPr/>
                </p:nvSpPr>
                <p:spPr>
                  <a:xfrm flipH="1" rot="18958200">
                    <a:off x="3644640" y="4542480"/>
                    <a:ext cx="201600" cy="17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5" name="Line 240"/>
              <p:cNvSpPr/>
              <p:nvPr/>
            </p:nvSpPr>
            <p:spPr>
              <a:xfrm flipH="1">
                <a:off x="3666960" y="4844880"/>
                <a:ext cx="2638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Oval 241"/>
              <p:cNvSpPr/>
              <p:nvPr/>
            </p:nvSpPr>
            <p:spPr>
              <a:xfrm flipH="1" rot="18958200">
                <a:off x="3486960" y="4743360"/>
                <a:ext cx="202680" cy="174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Oval 242"/>
            <p:cNvSpPr/>
            <p:nvPr/>
          </p:nvSpPr>
          <p:spPr>
            <a:xfrm flipH="1">
              <a:off x="4043520" y="3886200"/>
              <a:ext cx="3272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rc 243"/>
            <p:cNvSpPr/>
            <p:nvPr/>
          </p:nvSpPr>
          <p:spPr>
            <a:xfrm flipH="1" flipV="1">
              <a:off x="3972600" y="4465080"/>
              <a:ext cx="217080" cy="12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rc 244"/>
            <p:cNvSpPr/>
            <p:nvPr/>
          </p:nvSpPr>
          <p:spPr>
            <a:xfrm flipH="1" flipV="1">
              <a:off x="3982680" y="4973400"/>
              <a:ext cx="217080" cy="12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rc 245"/>
            <p:cNvSpPr/>
            <p:nvPr/>
          </p:nvSpPr>
          <p:spPr>
            <a:xfrm flipV="1">
              <a:off x="4225320" y="4766760"/>
              <a:ext cx="216360" cy="120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246"/>
            <p:cNvGrpSpPr/>
            <p:nvPr/>
          </p:nvGrpSpPr>
          <p:grpSpPr>
            <a:xfrm>
              <a:off x="4220640" y="4300200"/>
              <a:ext cx="394560" cy="575640"/>
              <a:chOff x="4220640" y="4300200"/>
              <a:chExt cx="394560" cy="575640"/>
            </a:xfrm>
          </p:grpSpPr>
          <p:sp>
            <p:nvSpPr>
              <p:cNvPr id="712" name="Arc 247"/>
              <p:cNvSpPr/>
              <p:nvPr/>
            </p:nvSpPr>
            <p:spPr>
              <a:xfrm flipV="1" rot="2100000">
                <a:off x="4360320" y="4602600"/>
                <a:ext cx="120240" cy="116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3" name="Group 248"/>
              <p:cNvGrpSpPr/>
              <p:nvPr/>
            </p:nvGrpSpPr>
            <p:grpSpPr>
              <a:xfrm>
                <a:off x="4220640" y="4300200"/>
                <a:ext cx="394560" cy="575640"/>
                <a:chOff x="4220640" y="4300200"/>
                <a:chExt cx="394560" cy="575640"/>
              </a:xfrm>
            </p:grpSpPr>
            <p:sp>
              <p:nvSpPr>
                <p:cNvPr id="714" name="Line 249"/>
                <p:cNvSpPr/>
                <p:nvPr/>
              </p:nvSpPr>
              <p:spPr>
                <a:xfrm flipH="1">
                  <a:off x="4220640" y="4514040"/>
                  <a:ext cx="254160" cy="36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Oval 250"/>
                <p:cNvSpPr/>
                <p:nvPr/>
              </p:nvSpPr>
              <p:spPr>
                <a:xfrm rot="2100000">
                  <a:off x="4383000" y="4342680"/>
                  <a:ext cx="201600" cy="169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6" name="Line 251"/>
            <p:cNvSpPr/>
            <p:nvPr/>
          </p:nvSpPr>
          <p:spPr>
            <a:xfrm flipV="1">
              <a:off x="4340160" y="4622040"/>
              <a:ext cx="259200" cy="3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52"/>
            <p:cNvSpPr/>
            <p:nvPr/>
          </p:nvSpPr>
          <p:spPr>
            <a:xfrm rot="2100000">
              <a:off x="4582080" y="4502880"/>
              <a:ext cx="202320" cy="16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253"/>
            <p:cNvGrpSpPr/>
            <p:nvPr/>
          </p:nvGrpSpPr>
          <p:grpSpPr>
            <a:xfrm>
              <a:off x="3645000" y="5014080"/>
              <a:ext cx="584640" cy="748440"/>
              <a:chOff x="3645000" y="5014080"/>
              <a:chExt cx="584640" cy="748440"/>
            </a:xfrm>
          </p:grpSpPr>
          <p:sp>
            <p:nvSpPr>
              <p:cNvPr id="719" name="Arc 254"/>
              <p:cNvSpPr/>
              <p:nvPr/>
            </p:nvSpPr>
            <p:spPr>
              <a:xfrm flipH="1" flipV="1">
                <a:off x="3776040" y="5170680"/>
                <a:ext cx="453600" cy="591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Arc 255"/>
              <p:cNvSpPr/>
              <p:nvPr/>
            </p:nvSpPr>
            <p:spPr>
              <a:xfrm flipV="1">
                <a:off x="3957480" y="5557320"/>
                <a:ext cx="114120" cy="13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rc 256"/>
              <p:cNvSpPr/>
              <p:nvPr/>
            </p:nvSpPr>
            <p:spPr>
              <a:xfrm flipH="1" flipV="1">
                <a:off x="3771720" y="5505480"/>
                <a:ext cx="110520" cy="51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Oval 257"/>
              <p:cNvSpPr/>
              <p:nvPr/>
            </p:nvSpPr>
            <p:spPr>
              <a:xfrm rot="2100000">
                <a:off x="3706920" y="5044320"/>
                <a:ext cx="147600" cy="13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258"/>
              <p:cNvSpPr/>
              <p:nvPr/>
            </p:nvSpPr>
            <p:spPr>
              <a:xfrm flipH="1" flipV="1">
                <a:off x="3745080" y="5415840"/>
                <a:ext cx="11592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Oval 259"/>
              <p:cNvSpPr/>
              <p:nvPr/>
            </p:nvSpPr>
            <p:spPr>
              <a:xfrm rot="16031400">
                <a:off x="3655800" y="5310000"/>
                <a:ext cx="13212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Arc 260"/>
            <p:cNvSpPr/>
            <p:nvPr/>
          </p:nvSpPr>
          <p:spPr>
            <a:xfrm flipV="1">
              <a:off x="4258800" y="5049360"/>
              <a:ext cx="532800" cy="72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rc 261"/>
            <p:cNvSpPr/>
            <p:nvPr/>
          </p:nvSpPr>
          <p:spPr>
            <a:xfrm flipH="1" flipV="1">
              <a:off x="4457160" y="5557320"/>
              <a:ext cx="12096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rc 262"/>
            <p:cNvSpPr/>
            <p:nvPr/>
          </p:nvSpPr>
          <p:spPr>
            <a:xfrm flipV="1">
              <a:off x="4665960" y="5458320"/>
              <a:ext cx="129960" cy="63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263"/>
            <p:cNvSpPr/>
            <p:nvPr/>
          </p:nvSpPr>
          <p:spPr>
            <a:xfrm flipH="1" rot="19500000">
              <a:off x="4699080" y="4893840"/>
              <a:ext cx="17316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" name="Group 264"/>
            <p:cNvGrpSpPr/>
            <p:nvPr/>
          </p:nvGrpSpPr>
          <p:grpSpPr>
            <a:xfrm>
              <a:off x="4690440" y="5225400"/>
              <a:ext cx="255240" cy="308520"/>
              <a:chOff x="4690440" y="5225400"/>
              <a:chExt cx="255240" cy="308520"/>
            </a:xfrm>
          </p:grpSpPr>
          <p:sp>
            <p:nvSpPr>
              <p:cNvPr id="730" name="Line 265"/>
              <p:cNvSpPr/>
              <p:nvPr/>
            </p:nvSpPr>
            <p:spPr>
              <a:xfrm flipV="1">
                <a:off x="4690440" y="5348880"/>
                <a:ext cx="138960" cy="18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266"/>
              <p:cNvSpPr/>
              <p:nvPr/>
            </p:nvSpPr>
            <p:spPr>
              <a:xfrm flipH="1" rot="5568600">
                <a:off x="4773960" y="5223240"/>
                <a:ext cx="162000" cy="17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Arc 267"/>
            <p:cNvSpPr/>
            <p:nvPr/>
          </p:nvSpPr>
          <p:spPr>
            <a:xfrm flipH="1" flipV="1">
              <a:off x="4657680" y="5204520"/>
              <a:ext cx="162720" cy="105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Group 268"/>
            <p:cNvGrpSpPr/>
            <p:nvPr/>
          </p:nvGrpSpPr>
          <p:grpSpPr>
            <a:xfrm>
              <a:off x="4537440" y="4995360"/>
              <a:ext cx="200160" cy="307800"/>
              <a:chOff x="4537440" y="4995360"/>
              <a:chExt cx="200160" cy="307800"/>
            </a:xfrm>
          </p:grpSpPr>
          <p:sp>
            <p:nvSpPr>
              <p:cNvPr id="734" name="Line 269"/>
              <p:cNvSpPr/>
              <p:nvPr/>
            </p:nvSpPr>
            <p:spPr>
              <a:xfrm flipH="1" flipV="1">
                <a:off x="4652640" y="5124600"/>
                <a:ext cx="84960" cy="1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Oval 270"/>
              <p:cNvSpPr/>
              <p:nvPr/>
            </p:nvSpPr>
            <p:spPr>
              <a:xfrm flipH="1" rot="1968600">
                <a:off x="4562640" y="5022720"/>
                <a:ext cx="141480" cy="13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TextBox 870"/>
          <p:cNvSpPr/>
          <p:nvPr/>
        </p:nvSpPr>
        <p:spPr>
          <a:xfrm>
            <a:off x="914400" y="3200400"/>
            <a:ext cx="333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871"/>
          <p:cNvSpPr/>
          <p:nvPr/>
        </p:nvSpPr>
        <p:spPr>
          <a:xfrm>
            <a:off x="1828800" y="3200400"/>
            <a:ext cx="333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872"/>
          <p:cNvSpPr/>
          <p:nvPr/>
        </p:nvSpPr>
        <p:spPr>
          <a:xfrm>
            <a:off x="2971800" y="3124080"/>
            <a:ext cx="498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873"/>
          <p:cNvSpPr/>
          <p:nvPr/>
        </p:nvSpPr>
        <p:spPr>
          <a:xfrm>
            <a:off x="4495680" y="3124080"/>
            <a:ext cx="333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126"/>
          <p:cNvSpPr/>
          <p:nvPr/>
        </p:nvSpPr>
        <p:spPr>
          <a:xfrm>
            <a:off x="1981080" y="6172200"/>
            <a:ext cx="457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126"/>
          <p:cNvSpPr/>
          <p:nvPr/>
        </p:nvSpPr>
        <p:spPr>
          <a:xfrm>
            <a:off x="4038480" y="6172200"/>
            <a:ext cx="457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126"/>
          <p:cNvSpPr/>
          <p:nvPr/>
        </p:nvSpPr>
        <p:spPr>
          <a:xfrm>
            <a:off x="6629400" y="3048120"/>
            <a:ext cx="457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Прямоугольник 277"/>
          <p:cNvSpPr/>
          <p:nvPr/>
        </p:nvSpPr>
        <p:spPr>
          <a:xfrm>
            <a:off x="5491800" y="472428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овой или ози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окарп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Caltha palustr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5" name="Group 2"/>
          <p:cNvGrpSpPr/>
          <p:nvPr/>
        </p:nvGrpSpPr>
        <p:grpSpPr>
          <a:xfrm>
            <a:off x="1107000" y="1440360"/>
            <a:ext cx="289800" cy="502560"/>
            <a:chOff x="1107000" y="1440360"/>
            <a:chExt cx="289800" cy="502560"/>
          </a:xfrm>
        </p:grpSpPr>
        <p:sp>
          <p:nvSpPr>
            <p:cNvPr id="746" name="Freeform 3"/>
            <p:cNvSpPr/>
            <p:nvPr/>
          </p:nvSpPr>
          <p:spPr>
            <a:xfrm flipH="1" flipV="1" rot="1200000">
              <a:off x="1298880" y="1447560"/>
              <a:ext cx="72000" cy="1616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rc 4"/>
            <p:cNvSpPr/>
            <p:nvPr/>
          </p:nvSpPr>
          <p:spPr>
            <a:xfrm flipV="1" rot="21094200">
              <a:off x="1240200" y="1585080"/>
              <a:ext cx="129600" cy="130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rc 5"/>
            <p:cNvSpPr/>
            <p:nvPr/>
          </p:nvSpPr>
          <p:spPr>
            <a:xfrm flipH="1" flipV="1" rot="505800">
              <a:off x="1153440" y="1593360"/>
              <a:ext cx="91440" cy="136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1207800" y="1715040"/>
              <a:ext cx="78480" cy="227880"/>
              <a:chOff x="1207800" y="1715040"/>
              <a:chExt cx="78480" cy="227880"/>
            </a:xfrm>
          </p:grpSpPr>
          <p:sp>
            <p:nvSpPr>
              <p:cNvPr id="750" name="Freeform 7"/>
              <p:cNvSpPr/>
              <p:nvPr/>
            </p:nvSpPr>
            <p:spPr>
              <a:xfrm rot="5056800">
                <a:off x="1222920" y="1841760"/>
                <a:ext cx="80280" cy="3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8"/>
              <p:cNvSpPr/>
              <p:nvPr/>
            </p:nvSpPr>
            <p:spPr>
              <a:xfrm>
                <a:off x="1207800" y="1766160"/>
                <a:ext cx="36720" cy="101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9"/>
              <p:cNvSpPr/>
              <p:nvPr/>
            </p:nvSpPr>
            <p:spPr>
              <a:xfrm>
                <a:off x="1231560" y="1715040"/>
                <a:ext cx="10080" cy="227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Freeform 10"/>
            <p:cNvSpPr/>
            <p:nvPr/>
          </p:nvSpPr>
          <p:spPr>
            <a:xfrm flipV="1" rot="19800000">
              <a:off x="1142640" y="1453680"/>
              <a:ext cx="72000" cy="1616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1"/>
          <p:cNvGrpSpPr/>
          <p:nvPr/>
        </p:nvGrpSpPr>
        <p:grpSpPr>
          <a:xfrm>
            <a:off x="1612080" y="1295640"/>
            <a:ext cx="624240" cy="702720"/>
            <a:chOff x="1612080" y="1295640"/>
            <a:chExt cx="624240" cy="702720"/>
          </a:xfrm>
        </p:grpSpPr>
        <p:grpSp>
          <p:nvGrpSpPr>
            <p:cNvPr id="755" name="Group 12"/>
            <p:cNvGrpSpPr/>
            <p:nvPr/>
          </p:nvGrpSpPr>
          <p:grpSpPr>
            <a:xfrm>
              <a:off x="1612080" y="1295640"/>
              <a:ext cx="624240" cy="702720"/>
              <a:chOff x="1612080" y="1295640"/>
              <a:chExt cx="624240" cy="702720"/>
            </a:xfrm>
          </p:grpSpPr>
          <p:sp>
            <p:nvSpPr>
              <p:cNvPr id="756" name="Freeform 13"/>
              <p:cNvSpPr/>
              <p:nvPr/>
            </p:nvSpPr>
            <p:spPr>
              <a:xfrm flipH="1" rot="1200000">
                <a:off x="1914120" y="1352160"/>
                <a:ext cx="140760" cy="1602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Arc 14"/>
              <p:cNvSpPr/>
              <p:nvPr/>
            </p:nvSpPr>
            <p:spPr>
              <a:xfrm flipV="1" rot="21094200">
                <a:off x="1892520" y="1432800"/>
                <a:ext cx="91080" cy="257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rc 15"/>
              <p:cNvSpPr/>
              <p:nvPr/>
            </p:nvSpPr>
            <p:spPr>
              <a:xfrm flipV="1" rot="245400">
                <a:off x="1928160" y="1363680"/>
                <a:ext cx="204120" cy="329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rc 16"/>
              <p:cNvSpPr/>
              <p:nvPr/>
            </p:nvSpPr>
            <p:spPr>
              <a:xfrm flipH="1" flipV="1" rot="505800">
                <a:off x="1706040" y="1402920"/>
                <a:ext cx="206640" cy="271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7"/>
              <p:cNvSpPr/>
              <p:nvPr/>
            </p:nvSpPr>
            <p:spPr>
              <a:xfrm>
                <a:off x="1905840" y="1707840"/>
                <a:ext cx="166680" cy="279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"/>
              <p:cNvSpPr/>
              <p:nvPr/>
            </p:nvSpPr>
            <p:spPr>
              <a:xfrm>
                <a:off x="1633320" y="1690560"/>
                <a:ext cx="247320" cy="154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9"/>
              <p:cNvSpPr/>
              <p:nvPr/>
            </p:nvSpPr>
            <p:spPr>
              <a:xfrm>
                <a:off x="1764000" y="1693440"/>
                <a:ext cx="116640" cy="304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0"/>
              <p:cNvSpPr/>
              <p:nvPr/>
            </p:nvSpPr>
            <p:spPr>
              <a:xfrm>
                <a:off x="1928520" y="1692720"/>
                <a:ext cx="21492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1"/>
              <p:cNvSpPr/>
              <p:nvPr/>
            </p:nvSpPr>
            <p:spPr>
              <a:xfrm>
                <a:off x="1680480" y="1688400"/>
                <a:ext cx="208080" cy="30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2"/>
              <p:cNvSpPr/>
              <p:nvPr/>
            </p:nvSpPr>
            <p:spPr>
              <a:xfrm>
                <a:off x="1905120" y="1690560"/>
                <a:ext cx="216720" cy="248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3"/>
              <p:cNvSpPr/>
              <p:nvPr/>
            </p:nvSpPr>
            <p:spPr>
              <a:xfrm>
                <a:off x="1617840" y="1683000"/>
                <a:ext cx="263160" cy="102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7" name="Group 24"/>
              <p:cNvGrpSpPr/>
              <p:nvPr/>
            </p:nvGrpSpPr>
            <p:grpSpPr>
              <a:xfrm>
                <a:off x="1854360" y="1707840"/>
                <a:ext cx="78120" cy="227880"/>
                <a:chOff x="1854360" y="1707840"/>
                <a:chExt cx="78120" cy="227880"/>
              </a:xfrm>
            </p:grpSpPr>
            <p:sp>
              <p:nvSpPr>
                <p:cNvPr id="768" name="Freeform 25"/>
                <p:cNvSpPr/>
                <p:nvPr/>
              </p:nvSpPr>
              <p:spPr>
                <a:xfrm rot="5056800">
                  <a:off x="1869120" y="1834560"/>
                  <a:ext cx="80280" cy="38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26"/>
                <p:cNvSpPr/>
                <p:nvPr/>
              </p:nvSpPr>
              <p:spPr>
                <a:xfrm>
                  <a:off x="1854360" y="1758960"/>
                  <a:ext cx="36720" cy="101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27"/>
                <p:cNvSpPr/>
                <p:nvPr/>
              </p:nvSpPr>
              <p:spPr>
                <a:xfrm>
                  <a:off x="1877760" y="1707840"/>
                  <a:ext cx="9720" cy="22788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Freeform 28"/>
              <p:cNvSpPr/>
              <p:nvPr/>
            </p:nvSpPr>
            <p:spPr>
              <a:xfrm flipH="1" rot="20549400">
                <a:off x="1632240" y="1312920"/>
                <a:ext cx="140760" cy="1602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29"/>
              <p:cNvSpPr/>
              <p:nvPr/>
            </p:nvSpPr>
            <p:spPr>
              <a:xfrm>
                <a:off x="1888560" y="1678680"/>
                <a:ext cx="25200" cy="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0"/>
              <p:cNvSpPr/>
              <p:nvPr/>
            </p:nvSpPr>
            <p:spPr>
              <a:xfrm flipH="1" rot="2454000">
                <a:off x="2071800" y="1396080"/>
                <a:ext cx="136800" cy="1339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31"/>
            <p:cNvGrpSpPr/>
            <p:nvPr/>
          </p:nvGrpSpPr>
          <p:grpSpPr>
            <a:xfrm>
              <a:off x="1856520" y="1563120"/>
              <a:ext cx="72000" cy="120960"/>
              <a:chOff x="1856520" y="1563120"/>
              <a:chExt cx="72000" cy="120960"/>
            </a:xfrm>
          </p:grpSpPr>
          <p:grpSp>
            <p:nvGrpSpPr>
              <p:cNvPr id="775" name="Group 32"/>
              <p:cNvGrpSpPr/>
              <p:nvPr/>
            </p:nvGrpSpPr>
            <p:grpSpPr>
              <a:xfrm>
                <a:off x="1856880" y="1563120"/>
                <a:ext cx="71640" cy="120960"/>
                <a:chOff x="1856880" y="1563120"/>
                <a:chExt cx="71640" cy="120960"/>
              </a:xfrm>
            </p:grpSpPr>
            <p:sp>
              <p:nvSpPr>
                <p:cNvPr id="776" name="Arc 33"/>
                <p:cNvSpPr/>
                <p:nvPr/>
              </p:nvSpPr>
              <p:spPr>
                <a:xfrm>
                  <a:off x="1893240" y="1563120"/>
                  <a:ext cx="35280" cy="12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Arc 34"/>
                <p:cNvSpPr/>
                <p:nvPr/>
              </p:nvSpPr>
              <p:spPr>
                <a:xfrm flipH="1">
                  <a:off x="1856880" y="1563120"/>
                  <a:ext cx="35280" cy="12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8" name="Group 35"/>
              <p:cNvGrpSpPr/>
              <p:nvPr/>
            </p:nvGrpSpPr>
            <p:grpSpPr>
              <a:xfrm>
                <a:off x="1872000" y="1617120"/>
                <a:ext cx="38880" cy="63720"/>
                <a:chOff x="1872000" y="1617120"/>
                <a:chExt cx="38880" cy="63720"/>
              </a:xfrm>
            </p:grpSpPr>
            <p:sp>
              <p:nvSpPr>
                <p:cNvPr id="779" name="Arc 36"/>
                <p:cNvSpPr/>
                <p:nvPr/>
              </p:nvSpPr>
              <p:spPr>
                <a:xfrm>
                  <a:off x="1891800" y="1617120"/>
                  <a:ext cx="19080" cy="63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rc 37"/>
                <p:cNvSpPr/>
                <p:nvPr/>
              </p:nvSpPr>
              <p:spPr>
                <a:xfrm flipH="1">
                  <a:off x="1871640" y="1617120"/>
                  <a:ext cx="19080" cy="63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781" name="AutoShape 38"/>
              <p:cNvCxnSpPr/>
              <p:nvPr/>
            </p:nvCxnSpPr>
            <p:spPr>
              <a:xfrm>
                <a:off x="1856520" y="1681560"/>
                <a:ext cx="72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82" name="Group 39"/>
          <p:cNvGrpSpPr/>
          <p:nvPr/>
        </p:nvGrpSpPr>
        <p:grpSpPr>
          <a:xfrm>
            <a:off x="2464920" y="1142640"/>
            <a:ext cx="903600" cy="892440"/>
            <a:chOff x="2464920" y="1142640"/>
            <a:chExt cx="903600" cy="892440"/>
          </a:xfrm>
        </p:grpSpPr>
        <p:grpSp>
          <p:nvGrpSpPr>
            <p:cNvPr id="783" name="Group 40"/>
            <p:cNvGrpSpPr/>
            <p:nvPr/>
          </p:nvGrpSpPr>
          <p:grpSpPr>
            <a:xfrm>
              <a:off x="2464920" y="1142640"/>
              <a:ext cx="903600" cy="892440"/>
              <a:chOff x="2464920" y="1142640"/>
              <a:chExt cx="903600" cy="892440"/>
            </a:xfrm>
          </p:grpSpPr>
          <p:sp>
            <p:nvSpPr>
              <p:cNvPr id="784" name="Freeform 41"/>
              <p:cNvSpPr/>
              <p:nvPr/>
            </p:nvSpPr>
            <p:spPr>
              <a:xfrm flipH="1" rot="283200">
                <a:off x="2659320" y="1149480"/>
                <a:ext cx="177120" cy="1980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2"/>
              <p:cNvSpPr/>
              <p:nvPr/>
            </p:nvSpPr>
            <p:spPr>
              <a:xfrm flipH="1" rot="283200">
                <a:off x="2937960" y="1192680"/>
                <a:ext cx="177120" cy="1980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3"/>
              <p:cNvSpPr/>
              <p:nvPr/>
            </p:nvSpPr>
            <p:spPr>
              <a:xfrm flipH="1" rot="2454000">
                <a:off x="3147120" y="1245240"/>
                <a:ext cx="177480" cy="1980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4"/>
              <p:cNvSpPr/>
              <p:nvPr/>
            </p:nvSpPr>
            <p:spPr>
              <a:xfrm flipH="1" rot="20549400">
                <a:off x="2485080" y="1450800"/>
                <a:ext cx="140760" cy="1602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rc 45"/>
              <p:cNvSpPr/>
              <p:nvPr/>
            </p:nvSpPr>
            <p:spPr>
              <a:xfrm flipV="1" rot="21094200">
                <a:off x="2882160" y="1324080"/>
                <a:ext cx="156600" cy="331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rc 46"/>
              <p:cNvSpPr/>
              <p:nvPr/>
            </p:nvSpPr>
            <p:spPr>
              <a:xfrm flipV="1" rot="245400">
                <a:off x="2911320" y="1364760"/>
                <a:ext cx="291600" cy="329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rc 47"/>
              <p:cNvSpPr/>
              <p:nvPr/>
            </p:nvSpPr>
            <p:spPr>
              <a:xfrm flipH="1" flipV="1" rot="505800">
                <a:off x="2585880" y="1321560"/>
                <a:ext cx="325800" cy="316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rc 48"/>
              <p:cNvSpPr/>
              <p:nvPr/>
            </p:nvSpPr>
            <p:spPr>
              <a:xfrm flipH="1" flipV="1" rot="21354600">
                <a:off x="2588400" y="1558440"/>
                <a:ext cx="239400" cy="14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rc 49"/>
              <p:cNvSpPr/>
              <p:nvPr/>
            </p:nvSpPr>
            <p:spPr>
              <a:xfrm flipH="1" flipV="1">
                <a:off x="2745360" y="1319040"/>
                <a:ext cx="167400" cy="331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Group 50"/>
              <p:cNvGrpSpPr/>
              <p:nvPr/>
            </p:nvGrpSpPr>
            <p:grpSpPr>
              <a:xfrm>
                <a:off x="2822760" y="1636560"/>
                <a:ext cx="113040" cy="120600"/>
                <a:chOff x="2822760" y="1636560"/>
                <a:chExt cx="113040" cy="120600"/>
              </a:xfrm>
            </p:grpSpPr>
            <p:sp>
              <p:nvSpPr>
                <p:cNvPr id="794" name="Rectangle 51"/>
                <p:cNvSpPr/>
                <p:nvPr/>
              </p:nvSpPr>
              <p:spPr>
                <a:xfrm>
                  <a:off x="2827080" y="1636560"/>
                  <a:ext cx="107640" cy="80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Rectangle 52"/>
                <p:cNvSpPr/>
                <p:nvPr/>
              </p:nvSpPr>
              <p:spPr>
                <a:xfrm>
                  <a:off x="2837160" y="1716840"/>
                  <a:ext cx="98640" cy="40320"/>
                </a:xfrm>
                <a:prstGeom prst="rect">
                  <a:avLst/>
                </a:prstGeom>
                <a:solidFill>
                  <a:srgbClr val="bfbfb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796" name="AutoShape 53"/>
                <p:cNvCxnSpPr/>
                <p:nvPr/>
              </p:nvCxnSpPr>
              <p:spPr>
                <a:xfrm flipH="1" flipV="1">
                  <a:off x="2822760" y="1676880"/>
                  <a:ext cx="99000" cy="2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797" name="Freeform 54"/>
              <p:cNvSpPr/>
              <p:nvPr/>
            </p:nvSpPr>
            <p:spPr>
              <a:xfrm>
                <a:off x="2935080" y="1706760"/>
                <a:ext cx="166680" cy="28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5"/>
              <p:cNvSpPr/>
              <p:nvPr/>
            </p:nvSpPr>
            <p:spPr>
              <a:xfrm>
                <a:off x="2576160" y="1687320"/>
                <a:ext cx="246960" cy="153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6"/>
              <p:cNvSpPr/>
              <p:nvPr/>
            </p:nvSpPr>
            <p:spPr>
              <a:xfrm>
                <a:off x="2747160" y="1706760"/>
                <a:ext cx="92880" cy="288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57"/>
              <p:cNvSpPr/>
              <p:nvPr/>
            </p:nvSpPr>
            <p:spPr>
              <a:xfrm rot="5056800">
                <a:off x="2891520" y="1681920"/>
                <a:ext cx="264960" cy="178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58"/>
              <p:cNvSpPr/>
              <p:nvPr/>
            </p:nvSpPr>
            <p:spPr>
              <a:xfrm>
                <a:off x="2955240" y="1701720"/>
                <a:ext cx="214920" cy="187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59"/>
              <p:cNvSpPr/>
              <p:nvPr/>
            </p:nvSpPr>
            <p:spPr>
              <a:xfrm>
                <a:off x="2619000" y="1672920"/>
                <a:ext cx="208080" cy="30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"/>
              <p:cNvSpPr/>
              <p:nvPr/>
            </p:nvSpPr>
            <p:spPr>
              <a:xfrm>
                <a:off x="2678400" y="1717200"/>
                <a:ext cx="127800" cy="27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"/>
              <p:cNvSpPr/>
              <p:nvPr/>
            </p:nvSpPr>
            <p:spPr>
              <a:xfrm>
                <a:off x="2938320" y="1669680"/>
                <a:ext cx="250200" cy="195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2"/>
              <p:cNvSpPr/>
              <p:nvPr/>
            </p:nvSpPr>
            <p:spPr>
              <a:xfrm>
                <a:off x="2562840" y="1669680"/>
                <a:ext cx="263160" cy="102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3"/>
              <p:cNvSpPr/>
              <p:nvPr/>
            </p:nvSpPr>
            <p:spPr>
              <a:xfrm>
                <a:off x="2705040" y="1706760"/>
                <a:ext cx="101160" cy="328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4"/>
              <p:cNvSpPr/>
              <p:nvPr/>
            </p:nvSpPr>
            <p:spPr>
              <a:xfrm>
                <a:off x="2938320" y="1695960"/>
                <a:ext cx="70200" cy="29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5"/>
              <p:cNvSpPr/>
              <p:nvPr/>
            </p:nvSpPr>
            <p:spPr>
              <a:xfrm flipH="1" rot="20549400">
                <a:off x="2517840" y="1245600"/>
                <a:ext cx="140760" cy="1602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Group 66"/>
            <p:cNvGrpSpPr/>
            <p:nvPr/>
          </p:nvGrpSpPr>
          <p:grpSpPr>
            <a:xfrm>
              <a:off x="2849760" y="1526400"/>
              <a:ext cx="72000" cy="120960"/>
              <a:chOff x="2849760" y="1526400"/>
              <a:chExt cx="72000" cy="120960"/>
            </a:xfrm>
          </p:grpSpPr>
          <p:grpSp>
            <p:nvGrpSpPr>
              <p:cNvPr id="810" name="Group 67"/>
              <p:cNvGrpSpPr/>
              <p:nvPr/>
            </p:nvGrpSpPr>
            <p:grpSpPr>
              <a:xfrm>
                <a:off x="2849760" y="1526400"/>
                <a:ext cx="71640" cy="120960"/>
                <a:chOff x="2849760" y="1526400"/>
                <a:chExt cx="71640" cy="120960"/>
              </a:xfrm>
            </p:grpSpPr>
            <p:sp>
              <p:nvSpPr>
                <p:cNvPr id="811" name="Arc 68"/>
                <p:cNvSpPr/>
                <p:nvPr/>
              </p:nvSpPr>
              <p:spPr>
                <a:xfrm>
                  <a:off x="2886480" y="1526400"/>
                  <a:ext cx="34920" cy="12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Arc 69"/>
                <p:cNvSpPr/>
                <p:nvPr/>
              </p:nvSpPr>
              <p:spPr>
                <a:xfrm flipH="1">
                  <a:off x="2849400" y="1526400"/>
                  <a:ext cx="34920" cy="12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Group 70"/>
              <p:cNvGrpSpPr/>
              <p:nvPr/>
            </p:nvGrpSpPr>
            <p:grpSpPr>
              <a:xfrm>
                <a:off x="2865240" y="1580400"/>
                <a:ext cx="38880" cy="63720"/>
                <a:chOff x="2865240" y="1580400"/>
                <a:chExt cx="38880" cy="63720"/>
              </a:xfrm>
            </p:grpSpPr>
            <p:sp>
              <p:nvSpPr>
                <p:cNvPr id="814" name="Arc 71"/>
                <p:cNvSpPr/>
                <p:nvPr/>
              </p:nvSpPr>
              <p:spPr>
                <a:xfrm>
                  <a:off x="2885040" y="1580400"/>
                  <a:ext cx="19080" cy="63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rc 72"/>
                <p:cNvSpPr/>
                <p:nvPr/>
              </p:nvSpPr>
              <p:spPr>
                <a:xfrm flipH="1">
                  <a:off x="2864880" y="1580400"/>
                  <a:ext cx="19080" cy="63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816" name="AutoShape 73"/>
              <p:cNvCxnSpPr/>
              <p:nvPr/>
            </p:nvCxnSpPr>
            <p:spPr>
              <a:xfrm>
                <a:off x="2850120" y="1644840"/>
                <a:ext cx="72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817" name="Group 74"/>
          <p:cNvGrpSpPr/>
          <p:nvPr/>
        </p:nvGrpSpPr>
        <p:grpSpPr>
          <a:xfrm>
            <a:off x="3567240" y="1189800"/>
            <a:ext cx="979920" cy="934200"/>
            <a:chOff x="3567240" y="1189800"/>
            <a:chExt cx="979920" cy="934200"/>
          </a:xfrm>
        </p:grpSpPr>
        <p:grpSp>
          <p:nvGrpSpPr>
            <p:cNvPr id="818" name="Group 75"/>
            <p:cNvGrpSpPr/>
            <p:nvPr/>
          </p:nvGrpSpPr>
          <p:grpSpPr>
            <a:xfrm>
              <a:off x="3567240" y="1189800"/>
              <a:ext cx="979920" cy="934200"/>
              <a:chOff x="3567240" y="1189800"/>
              <a:chExt cx="979920" cy="934200"/>
            </a:xfrm>
          </p:grpSpPr>
          <p:grpSp>
            <p:nvGrpSpPr>
              <p:cNvPr id="819" name="Group 76"/>
              <p:cNvGrpSpPr/>
              <p:nvPr/>
            </p:nvGrpSpPr>
            <p:grpSpPr>
              <a:xfrm>
                <a:off x="3567240" y="1189800"/>
                <a:ext cx="979920" cy="934200"/>
                <a:chOff x="3567240" y="1189800"/>
                <a:chExt cx="979920" cy="934200"/>
              </a:xfrm>
            </p:grpSpPr>
            <p:sp>
              <p:nvSpPr>
                <p:cNvPr id="820" name="Freeform 77"/>
                <p:cNvSpPr/>
                <p:nvPr/>
              </p:nvSpPr>
              <p:spPr>
                <a:xfrm flipH="1" rot="20549400">
                  <a:off x="3641040" y="1242000"/>
                  <a:ext cx="207360" cy="21672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78"/>
                <p:cNvSpPr/>
                <p:nvPr/>
              </p:nvSpPr>
              <p:spPr>
                <a:xfrm flipH="1" rot="283200">
                  <a:off x="3819240" y="1197000"/>
                  <a:ext cx="182160" cy="2073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79"/>
                <p:cNvSpPr/>
                <p:nvPr/>
              </p:nvSpPr>
              <p:spPr>
                <a:xfrm flipH="1" rot="283200">
                  <a:off x="4187880" y="1242360"/>
                  <a:ext cx="182160" cy="2073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80"/>
                <p:cNvSpPr/>
                <p:nvPr/>
              </p:nvSpPr>
              <p:spPr>
                <a:xfrm flipH="1" rot="20549400">
                  <a:off x="4077000" y="1236240"/>
                  <a:ext cx="143640" cy="1677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4" name="Group 81"/>
                <p:cNvGrpSpPr/>
                <p:nvPr/>
              </p:nvGrpSpPr>
              <p:grpSpPr>
                <a:xfrm>
                  <a:off x="3673080" y="1354320"/>
                  <a:ext cx="718920" cy="423720"/>
                  <a:chOff x="3673080" y="1354320"/>
                  <a:chExt cx="718920" cy="423720"/>
                </a:xfrm>
              </p:grpSpPr>
              <p:grpSp>
                <p:nvGrpSpPr>
                  <p:cNvPr id="825" name="Group 82"/>
                  <p:cNvGrpSpPr/>
                  <p:nvPr/>
                </p:nvGrpSpPr>
                <p:grpSpPr>
                  <a:xfrm>
                    <a:off x="3673080" y="1354320"/>
                    <a:ext cx="428040" cy="423720"/>
                    <a:chOff x="3673080" y="1354320"/>
                    <a:chExt cx="428040" cy="423720"/>
                  </a:xfrm>
                </p:grpSpPr>
                <p:sp>
                  <p:nvSpPr>
                    <p:cNvPr id="826" name="Arc 83"/>
                    <p:cNvSpPr/>
                    <p:nvPr/>
                  </p:nvSpPr>
                  <p:spPr>
                    <a:xfrm flipH="1" flipV="1" rot="505800">
                      <a:off x="3744000" y="1376640"/>
                      <a:ext cx="334440" cy="3315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Arc 84"/>
                    <p:cNvSpPr/>
                    <p:nvPr/>
                  </p:nvSpPr>
                  <p:spPr>
                    <a:xfrm flipH="1" flipV="1" rot="21354600">
                      <a:off x="3686400" y="1374120"/>
                      <a:ext cx="298800" cy="393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Arc 85"/>
                    <p:cNvSpPr/>
                    <p:nvPr/>
                  </p:nvSpPr>
                  <p:spPr>
                    <a:xfrm flipH="1" flipV="1">
                      <a:off x="3907080" y="1373400"/>
                      <a:ext cx="171720" cy="347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9" name="Group 86"/>
                  <p:cNvGrpSpPr/>
                  <p:nvPr/>
                </p:nvGrpSpPr>
                <p:grpSpPr>
                  <a:xfrm>
                    <a:off x="3962160" y="1354320"/>
                    <a:ext cx="429840" cy="423720"/>
                    <a:chOff x="3962160" y="1354320"/>
                    <a:chExt cx="429840" cy="423720"/>
                  </a:xfrm>
                </p:grpSpPr>
                <p:sp>
                  <p:nvSpPr>
                    <p:cNvPr id="830" name="Arc 87"/>
                    <p:cNvSpPr/>
                    <p:nvPr/>
                  </p:nvSpPr>
                  <p:spPr>
                    <a:xfrm flipV="1" rot="21094200">
                      <a:off x="3985920" y="1374120"/>
                      <a:ext cx="298080" cy="347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Arc 88"/>
                    <p:cNvSpPr/>
                    <p:nvPr/>
                  </p:nvSpPr>
                  <p:spPr>
                    <a:xfrm flipV="1" rot="245400">
                      <a:off x="4079160" y="1374120"/>
                      <a:ext cx="298800" cy="393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Arc 89"/>
                    <p:cNvSpPr/>
                    <p:nvPr/>
                  </p:nvSpPr>
                  <p:spPr>
                    <a:xfrm flipV="1">
                      <a:off x="3985920" y="1373400"/>
                      <a:ext cx="171720" cy="347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33" name="Freeform 90"/>
                <p:cNvSpPr/>
                <p:nvPr/>
              </p:nvSpPr>
              <p:spPr>
                <a:xfrm flipH="1" rot="2454000">
                  <a:off x="4318920" y="1297080"/>
                  <a:ext cx="181800" cy="2073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91"/>
                <p:cNvSpPr/>
                <p:nvPr/>
              </p:nvSpPr>
              <p:spPr>
                <a:xfrm flipH="1" rot="20549400">
                  <a:off x="3588840" y="1337040"/>
                  <a:ext cx="144360" cy="1677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5" name="Group 92"/>
                <p:cNvGrpSpPr/>
                <p:nvPr/>
              </p:nvGrpSpPr>
              <p:grpSpPr>
                <a:xfrm>
                  <a:off x="3686400" y="1701000"/>
                  <a:ext cx="691560" cy="423000"/>
                  <a:chOff x="3686400" y="1701000"/>
                  <a:chExt cx="691560" cy="423000"/>
                </a:xfrm>
              </p:grpSpPr>
              <p:grpSp>
                <p:nvGrpSpPr>
                  <p:cNvPr id="836" name="Group 93"/>
                  <p:cNvGrpSpPr/>
                  <p:nvPr/>
                </p:nvGrpSpPr>
                <p:grpSpPr>
                  <a:xfrm>
                    <a:off x="3686400" y="1701000"/>
                    <a:ext cx="691560" cy="423000"/>
                    <a:chOff x="3686400" y="1701000"/>
                    <a:chExt cx="691560" cy="423000"/>
                  </a:xfrm>
                </p:grpSpPr>
                <p:sp>
                  <p:nvSpPr>
                    <p:cNvPr id="837" name="Rectangle 94"/>
                    <p:cNvSpPr/>
                    <p:nvPr/>
                  </p:nvSpPr>
                  <p:spPr>
                    <a:xfrm>
                      <a:off x="3990600" y="1707120"/>
                      <a:ext cx="110520" cy="84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Freeform 95"/>
                    <p:cNvSpPr/>
                    <p:nvPr/>
                  </p:nvSpPr>
                  <p:spPr>
                    <a:xfrm>
                      <a:off x="4101480" y="1780200"/>
                      <a:ext cx="171000" cy="3034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Freeform 96"/>
                    <p:cNvSpPr/>
                    <p:nvPr/>
                  </p:nvSpPr>
                  <p:spPr>
                    <a:xfrm>
                      <a:off x="3733200" y="1760040"/>
                      <a:ext cx="253440" cy="1609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Freeform 97"/>
                    <p:cNvSpPr/>
                    <p:nvPr/>
                  </p:nvSpPr>
                  <p:spPr>
                    <a:xfrm>
                      <a:off x="3908520" y="1780200"/>
                      <a:ext cx="95400" cy="3020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Freeform 98"/>
                    <p:cNvSpPr/>
                    <p:nvPr/>
                  </p:nvSpPr>
                  <p:spPr>
                    <a:xfrm rot="5056800">
                      <a:off x="4053960" y="1756080"/>
                      <a:ext cx="277200" cy="183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Freeform 99"/>
                    <p:cNvSpPr/>
                    <p:nvPr/>
                  </p:nvSpPr>
                  <p:spPr>
                    <a:xfrm>
                      <a:off x="4122000" y="1774800"/>
                      <a:ext cx="220320" cy="1969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Freeform 100"/>
                    <p:cNvSpPr/>
                    <p:nvPr/>
                  </p:nvSpPr>
                  <p:spPr>
                    <a:xfrm>
                      <a:off x="3777480" y="1744920"/>
                      <a:ext cx="213120" cy="317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Freeform 101"/>
                    <p:cNvSpPr/>
                    <p:nvPr/>
                  </p:nvSpPr>
                  <p:spPr>
                    <a:xfrm>
                      <a:off x="3837960" y="1791360"/>
                      <a:ext cx="131400" cy="29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Freeform 102"/>
                    <p:cNvSpPr/>
                    <p:nvPr/>
                  </p:nvSpPr>
                  <p:spPr>
                    <a:xfrm>
                      <a:off x="4121280" y="1726200"/>
                      <a:ext cx="256680" cy="205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Freeform 103"/>
                    <p:cNvSpPr/>
                    <p:nvPr/>
                  </p:nvSpPr>
                  <p:spPr>
                    <a:xfrm>
                      <a:off x="3686400" y="1749240"/>
                      <a:ext cx="269640" cy="1072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Freeform 104"/>
                    <p:cNvSpPr/>
                    <p:nvPr/>
                  </p:nvSpPr>
                  <p:spPr>
                    <a:xfrm>
                      <a:off x="3865320" y="1780200"/>
                      <a:ext cx="104040" cy="343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Freeform 105"/>
                    <p:cNvSpPr/>
                    <p:nvPr/>
                  </p:nvSpPr>
                  <p:spPr>
                    <a:xfrm>
                      <a:off x="4104720" y="1769040"/>
                      <a:ext cx="72000" cy="3042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849" name="AutoShape 106"/>
                  <p:cNvCxnSpPr/>
                  <p:nvPr/>
                </p:nvCxnSpPr>
                <p:spPr>
                  <a:xfrm flipH="1" flipV="1">
                    <a:off x="3986280" y="1748880"/>
                    <a:ext cx="10152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sp>
            <p:nvSpPr>
              <p:cNvPr id="850" name="Rectangle 107"/>
              <p:cNvSpPr/>
              <p:nvPr/>
            </p:nvSpPr>
            <p:spPr>
              <a:xfrm>
                <a:off x="4004640" y="1787040"/>
                <a:ext cx="101160" cy="4248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Group 108"/>
            <p:cNvGrpSpPr/>
            <p:nvPr/>
          </p:nvGrpSpPr>
          <p:grpSpPr>
            <a:xfrm>
              <a:off x="4004640" y="1566720"/>
              <a:ext cx="73800" cy="126720"/>
              <a:chOff x="4004640" y="1566720"/>
              <a:chExt cx="73800" cy="126720"/>
            </a:xfrm>
          </p:grpSpPr>
          <p:grpSp>
            <p:nvGrpSpPr>
              <p:cNvPr id="852" name="Group 109"/>
              <p:cNvGrpSpPr/>
              <p:nvPr/>
            </p:nvGrpSpPr>
            <p:grpSpPr>
              <a:xfrm>
                <a:off x="4004640" y="1566720"/>
                <a:ext cx="73440" cy="126720"/>
                <a:chOff x="4004640" y="1566720"/>
                <a:chExt cx="73440" cy="126720"/>
              </a:xfrm>
            </p:grpSpPr>
            <p:sp>
              <p:nvSpPr>
                <p:cNvPr id="853" name="Arc 110"/>
                <p:cNvSpPr/>
                <p:nvPr/>
              </p:nvSpPr>
              <p:spPr>
                <a:xfrm>
                  <a:off x="4042080" y="1566720"/>
                  <a:ext cx="36000" cy="126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Arc 111"/>
                <p:cNvSpPr/>
                <p:nvPr/>
              </p:nvSpPr>
              <p:spPr>
                <a:xfrm flipH="1">
                  <a:off x="4004640" y="1566720"/>
                  <a:ext cx="36000" cy="126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112"/>
              <p:cNvGrpSpPr/>
              <p:nvPr/>
            </p:nvGrpSpPr>
            <p:grpSpPr>
              <a:xfrm>
                <a:off x="4020480" y="1623240"/>
                <a:ext cx="39600" cy="66960"/>
                <a:chOff x="4020480" y="1623240"/>
                <a:chExt cx="39600" cy="66960"/>
              </a:xfrm>
            </p:grpSpPr>
            <p:sp>
              <p:nvSpPr>
                <p:cNvPr id="856" name="Arc 113"/>
                <p:cNvSpPr/>
                <p:nvPr/>
              </p:nvSpPr>
              <p:spPr>
                <a:xfrm>
                  <a:off x="4040640" y="1623240"/>
                  <a:ext cx="19440" cy="66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Arc 114"/>
                <p:cNvSpPr/>
                <p:nvPr/>
              </p:nvSpPr>
              <p:spPr>
                <a:xfrm flipH="1">
                  <a:off x="4020480" y="1623240"/>
                  <a:ext cx="19440" cy="66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858" name="AutoShape 115"/>
              <p:cNvCxnSpPr/>
              <p:nvPr/>
            </p:nvCxnSpPr>
            <p:spPr>
              <a:xfrm>
                <a:off x="4004640" y="1690920"/>
                <a:ext cx="74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859" name="Group 116"/>
          <p:cNvGrpSpPr/>
          <p:nvPr/>
        </p:nvGrpSpPr>
        <p:grpSpPr>
          <a:xfrm>
            <a:off x="4754880" y="1189080"/>
            <a:ext cx="1046880" cy="937800"/>
            <a:chOff x="4754880" y="1189080"/>
            <a:chExt cx="1046880" cy="937800"/>
          </a:xfrm>
        </p:grpSpPr>
        <p:sp>
          <p:nvSpPr>
            <p:cNvPr id="860" name="Rectangle 117"/>
            <p:cNvSpPr/>
            <p:nvPr/>
          </p:nvSpPr>
          <p:spPr>
            <a:xfrm>
              <a:off x="5223240" y="1789200"/>
              <a:ext cx="108720" cy="42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18"/>
            <p:cNvSpPr/>
            <p:nvPr/>
          </p:nvSpPr>
          <p:spPr>
            <a:xfrm flipH="1" rot="20549400">
              <a:off x="4831920" y="1242360"/>
              <a:ext cx="222840" cy="2178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19"/>
            <p:cNvSpPr/>
            <p:nvPr/>
          </p:nvSpPr>
          <p:spPr>
            <a:xfrm flipH="1" rot="283200">
              <a:off x="5023080" y="1196640"/>
              <a:ext cx="195480" cy="208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20"/>
            <p:cNvSpPr/>
            <p:nvPr/>
          </p:nvSpPr>
          <p:spPr>
            <a:xfrm flipH="1" rot="283200">
              <a:off x="5419800" y="1242000"/>
              <a:ext cx="195840" cy="208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1"/>
            <p:cNvSpPr/>
            <p:nvPr/>
          </p:nvSpPr>
          <p:spPr>
            <a:xfrm flipH="1" rot="20549400">
              <a:off x="5301720" y="1235880"/>
              <a:ext cx="154440" cy="168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Group 122"/>
            <p:cNvGrpSpPr/>
            <p:nvPr/>
          </p:nvGrpSpPr>
          <p:grpSpPr>
            <a:xfrm>
              <a:off x="4867920" y="1353600"/>
              <a:ext cx="771120" cy="427320"/>
              <a:chOff x="4867920" y="1353600"/>
              <a:chExt cx="771120" cy="427320"/>
            </a:xfrm>
          </p:grpSpPr>
          <p:grpSp>
            <p:nvGrpSpPr>
              <p:cNvPr id="866" name="Group 123"/>
              <p:cNvGrpSpPr/>
              <p:nvPr/>
            </p:nvGrpSpPr>
            <p:grpSpPr>
              <a:xfrm>
                <a:off x="4867920" y="1353960"/>
                <a:ext cx="457200" cy="426960"/>
                <a:chOff x="4867920" y="1353960"/>
                <a:chExt cx="457200" cy="426960"/>
              </a:xfrm>
            </p:grpSpPr>
            <p:sp>
              <p:nvSpPr>
                <p:cNvPr id="867" name="Arc 124"/>
                <p:cNvSpPr/>
                <p:nvPr/>
              </p:nvSpPr>
              <p:spPr>
                <a:xfrm flipH="1" flipV="1" rot="505800">
                  <a:off x="4943520" y="1378440"/>
                  <a:ext cx="359280" cy="332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Arc 125"/>
                <p:cNvSpPr/>
                <p:nvPr/>
              </p:nvSpPr>
              <p:spPr>
                <a:xfrm flipH="1" flipV="1" rot="21354600">
                  <a:off x="4881600" y="1374120"/>
                  <a:ext cx="321120" cy="395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Arc 126"/>
                <p:cNvSpPr/>
                <p:nvPr/>
              </p:nvSpPr>
              <p:spPr>
                <a:xfrm flipH="1" flipV="1">
                  <a:off x="5119200" y="1375200"/>
                  <a:ext cx="184320" cy="348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Group 127"/>
              <p:cNvGrpSpPr/>
              <p:nvPr/>
            </p:nvGrpSpPr>
            <p:grpSpPr>
              <a:xfrm>
                <a:off x="5178960" y="1353600"/>
                <a:ext cx="460080" cy="427320"/>
                <a:chOff x="5178960" y="1353600"/>
                <a:chExt cx="460080" cy="427320"/>
              </a:xfrm>
            </p:grpSpPr>
            <p:sp>
              <p:nvSpPr>
                <p:cNvPr id="871" name="Arc 128"/>
                <p:cNvSpPr/>
                <p:nvPr/>
              </p:nvSpPr>
              <p:spPr>
                <a:xfrm flipV="1" rot="21094200">
                  <a:off x="5202720" y="1374840"/>
                  <a:ext cx="320400" cy="348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Arc 129"/>
                <p:cNvSpPr/>
                <p:nvPr/>
              </p:nvSpPr>
              <p:spPr>
                <a:xfrm flipV="1" rot="245400">
                  <a:off x="5303520" y="1374120"/>
                  <a:ext cx="321480" cy="395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Arc 130"/>
                <p:cNvSpPr/>
                <p:nvPr/>
              </p:nvSpPr>
              <p:spPr>
                <a:xfrm flipV="1">
                  <a:off x="5202720" y="1375200"/>
                  <a:ext cx="184680" cy="348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4" name="Freeform 131"/>
            <p:cNvSpPr/>
            <p:nvPr/>
          </p:nvSpPr>
          <p:spPr>
            <a:xfrm flipH="1" rot="2454000">
              <a:off x="5561280" y="1297800"/>
              <a:ext cx="195480" cy="208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32"/>
            <p:cNvSpPr/>
            <p:nvPr/>
          </p:nvSpPr>
          <p:spPr>
            <a:xfrm flipH="1" rot="20549400">
              <a:off x="4776480" y="1337400"/>
              <a:ext cx="155160" cy="168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133"/>
            <p:cNvGrpSpPr/>
            <p:nvPr/>
          </p:nvGrpSpPr>
          <p:grpSpPr>
            <a:xfrm>
              <a:off x="4881600" y="1702080"/>
              <a:ext cx="743040" cy="424800"/>
              <a:chOff x="4881600" y="1702080"/>
              <a:chExt cx="743040" cy="424800"/>
            </a:xfrm>
          </p:grpSpPr>
          <p:grpSp>
            <p:nvGrpSpPr>
              <p:cNvPr id="877" name="Group 134"/>
              <p:cNvGrpSpPr/>
              <p:nvPr/>
            </p:nvGrpSpPr>
            <p:grpSpPr>
              <a:xfrm>
                <a:off x="4881600" y="1702080"/>
                <a:ext cx="743040" cy="424800"/>
                <a:chOff x="4881600" y="1702080"/>
                <a:chExt cx="743040" cy="424800"/>
              </a:xfrm>
            </p:grpSpPr>
            <p:sp>
              <p:nvSpPr>
                <p:cNvPr id="878" name="Rectangle 135"/>
                <p:cNvSpPr/>
                <p:nvPr/>
              </p:nvSpPr>
              <p:spPr>
                <a:xfrm>
                  <a:off x="5208480" y="1708920"/>
                  <a:ext cx="118800" cy="84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36"/>
                <p:cNvSpPr/>
                <p:nvPr/>
              </p:nvSpPr>
              <p:spPr>
                <a:xfrm>
                  <a:off x="5327280" y="1782000"/>
                  <a:ext cx="183600" cy="304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37"/>
                <p:cNvSpPr/>
                <p:nvPr/>
              </p:nvSpPr>
              <p:spPr>
                <a:xfrm>
                  <a:off x="4931640" y="1761840"/>
                  <a:ext cx="272520" cy="161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38"/>
                <p:cNvSpPr/>
                <p:nvPr/>
              </p:nvSpPr>
              <p:spPr>
                <a:xfrm>
                  <a:off x="5120280" y="1782000"/>
                  <a:ext cx="102600" cy="303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39"/>
                <p:cNvSpPr/>
                <p:nvPr/>
              </p:nvSpPr>
              <p:spPr>
                <a:xfrm rot="5056800">
                  <a:off x="5285880" y="1751760"/>
                  <a:ext cx="278280" cy="196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0"/>
                <p:cNvSpPr/>
                <p:nvPr/>
              </p:nvSpPr>
              <p:spPr>
                <a:xfrm>
                  <a:off x="5349600" y="1776960"/>
                  <a:ext cx="236880" cy="197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1"/>
                <p:cNvSpPr/>
                <p:nvPr/>
              </p:nvSpPr>
              <p:spPr>
                <a:xfrm>
                  <a:off x="4979520" y="1746720"/>
                  <a:ext cx="228960" cy="318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2"/>
                <p:cNvSpPr/>
                <p:nvPr/>
              </p:nvSpPr>
              <p:spPr>
                <a:xfrm>
                  <a:off x="5044320" y="1793160"/>
                  <a:ext cx="141120" cy="291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3"/>
                <p:cNvSpPr/>
                <p:nvPr/>
              </p:nvSpPr>
              <p:spPr>
                <a:xfrm>
                  <a:off x="5348880" y="1728000"/>
                  <a:ext cx="275760" cy="205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4"/>
                <p:cNvSpPr/>
                <p:nvPr/>
              </p:nvSpPr>
              <p:spPr>
                <a:xfrm>
                  <a:off x="4881600" y="1751400"/>
                  <a:ext cx="289800" cy="107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5"/>
                <p:cNvSpPr/>
                <p:nvPr/>
              </p:nvSpPr>
              <p:spPr>
                <a:xfrm>
                  <a:off x="5073480" y="1782000"/>
                  <a:ext cx="111600" cy="34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146"/>
                <p:cNvSpPr/>
                <p:nvPr/>
              </p:nvSpPr>
              <p:spPr>
                <a:xfrm>
                  <a:off x="5330880" y="1770840"/>
                  <a:ext cx="77400" cy="305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890" name="AutoShape 147"/>
              <p:cNvCxnSpPr/>
              <p:nvPr/>
            </p:nvCxnSpPr>
            <p:spPr>
              <a:xfrm flipH="1" flipV="1">
                <a:off x="5203440" y="1751040"/>
                <a:ext cx="10908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891" name="Group 148"/>
            <p:cNvGrpSpPr/>
            <p:nvPr/>
          </p:nvGrpSpPr>
          <p:grpSpPr>
            <a:xfrm>
              <a:off x="5219640" y="1536120"/>
              <a:ext cx="78840" cy="169920"/>
              <a:chOff x="5219640" y="1536120"/>
              <a:chExt cx="78840" cy="169920"/>
            </a:xfrm>
          </p:grpSpPr>
          <p:sp>
            <p:nvSpPr>
              <p:cNvPr id="892" name="Arc 149"/>
              <p:cNvSpPr/>
              <p:nvPr/>
            </p:nvSpPr>
            <p:spPr>
              <a:xfrm>
                <a:off x="5259600" y="1536120"/>
                <a:ext cx="38880" cy="16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rc 150"/>
              <p:cNvSpPr/>
              <p:nvPr/>
            </p:nvSpPr>
            <p:spPr>
              <a:xfrm flipH="1">
                <a:off x="5219640" y="1536120"/>
                <a:ext cx="38880" cy="16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94" name="AutoShape 151"/>
            <p:cNvCxnSpPr/>
            <p:nvPr/>
          </p:nvCxnSpPr>
          <p:spPr>
            <a:xfrm>
              <a:off x="5219280" y="1702440"/>
              <a:ext cx="79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5" name="AutoShape 152"/>
            <p:cNvCxnSpPr/>
            <p:nvPr/>
          </p:nvCxnSpPr>
          <p:spPr>
            <a:xfrm>
              <a:off x="5256000" y="1591200"/>
              <a:ext cx="1080" cy="12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</p:grpSp>
      <p:grpSp>
        <p:nvGrpSpPr>
          <p:cNvPr id="896" name="Group 153"/>
          <p:cNvGrpSpPr/>
          <p:nvPr/>
        </p:nvGrpSpPr>
        <p:grpSpPr>
          <a:xfrm>
            <a:off x="1036080" y="2743200"/>
            <a:ext cx="1046880" cy="1550520"/>
            <a:chOff x="1036080" y="2743200"/>
            <a:chExt cx="1046880" cy="1550520"/>
          </a:xfrm>
        </p:grpSpPr>
        <p:sp>
          <p:nvSpPr>
            <p:cNvPr id="897" name="Rectangle 154"/>
            <p:cNvSpPr/>
            <p:nvPr/>
          </p:nvSpPr>
          <p:spPr>
            <a:xfrm>
              <a:off x="1477080" y="4013640"/>
              <a:ext cx="104400" cy="360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Group 155"/>
            <p:cNvGrpSpPr/>
            <p:nvPr/>
          </p:nvGrpSpPr>
          <p:grpSpPr>
            <a:xfrm>
              <a:off x="1153800" y="3932640"/>
              <a:ext cx="713880" cy="361080"/>
              <a:chOff x="1153800" y="3932640"/>
              <a:chExt cx="713880" cy="361080"/>
            </a:xfrm>
          </p:grpSpPr>
          <p:grpSp>
            <p:nvGrpSpPr>
              <p:cNvPr id="899" name="Group 156"/>
              <p:cNvGrpSpPr/>
              <p:nvPr/>
            </p:nvGrpSpPr>
            <p:grpSpPr>
              <a:xfrm>
                <a:off x="1153800" y="3932640"/>
                <a:ext cx="713880" cy="361080"/>
                <a:chOff x="1153800" y="3932640"/>
                <a:chExt cx="713880" cy="361080"/>
              </a:xfrm>
            </p:grpSpPr>
            <p:sp>
              <p:nvSpPr>
                <p:cNvPr id="900" name="Rectangle 157"/>
                <p:cNvSpPr/>
                <p:nvPr/>
              </p:nvSpPr>
              <p:spPr>
                <a:xfrm>
                  <a:off x="1467720" y="3939480"/>
                  <a:ext cx="114120" cy="71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158"/>
                <p:cNvSpPr/>
                <p:nvPr/>
              </p:nvSpPr>
              <p:spPr>
                <a:xfrm>
                  <a:off x="1581840" y="4001400"/>
                  <a:ext cx="176400" cy="258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9"/>
                <p:cNvSpPr/>
                <p:nvPr/>
              </p:nvSpPr>
              <p:spPr>
                <a:xfrm>
                  <a:off x="1202040" y="3984480"/>
                  <a:ext cx="261720" cy="136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160"/>
                <p:cNvSpPr/>
                <p:nvPr/>
              </p:nvSpPr>
              <p:spPr>
                <a:xfrm>
                  <a:off x="1383120" y="4001400"/>
                  <a:ext cx="98640" cy="257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61"/>
                <p:cNvSpPr/>
                <p:nvPr/>
              </p:nvSpPr>
              <p:spPr>
                <a:xfrm rot="5056800">
                  <a:off x="1557720" y="3964680"/>
                  <a:ext cx="235800" cy="1890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62"/>
                <p:cNvSpPr/>
                <p:nvPr/>
              </p:nvSpPr>
              <p:spPr>
                <a:xfrm>
                  <a:off x="1603440" y="3997080"/>
                  <a:ext cx="227520" cy="167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63"/>
                <p:cNvSpPr/>
                <p:nvPr/>
              </p:nvSpPr>
              <p:spPr>
                <a:xfrm>
                  <a:off x="1247760" y="3971520"/>
                  <a:ext cx="219960" cy="27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64"/>
                <p:cNvSpPr/>
                <p:nvPr/>
              </p:nvSpPr>
              <p:spPr>
                <a:xfrm>
                  <a:off x="1310040" y="4011120"/>
                  <a:ext cx="135360" cy="247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65"/>
                <p:cNvSpPr/>
                <p:nvPr/>
              </p:nvSpPr>
              <p:spPr>
                <a:xfrm>
                  <a:off x="1602720" y="3955680"/>
                  <a:ext cx="264960" cy="174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166"/>
                <p:cNvSpPr/>
                <p:nvPr/>
              </p:nvSpPr>
              <p:spPr>
                <a:xfrm>
                  <a:off x="1153800" y="3975480"/>
                  <a:ext cx="278280" cy="9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67"/>
                <p:cNvSpPr/>
                <p:nvPr/>
              </p:nvSpPr>
              <p:spPr>
                <a:xfrm>
                  <a:off x="1338120" y="4001400"/>
                  <a:ext cx="107280" cy="292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68"/>
                <p:cNvSpPr/>
                <p:nvPr/>
              </p:nvSpPr>
              <p:spPr>
                <a:xfrm>
                  <a:off x="1585080" y="3992040"/>
                  <a:ext cx="74160" cy="258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12" name="AutoShape 169"/>
              <p:cNvCxnSpPr/>
              <p:nvPr/>
            </p:nvCxnSpPr>
            <p:spPr>
              <a:xfrm flipH="1" flipV="1">
                <a:off x="1463040" y="3974760"/>
                <a:ext cx="10476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13" name="Freeform 170"/>
            <p:cNvSpPr/>
            <p:nvPr/>
          </p:nvSpPr>
          <p:spPr>
            <a:xfrm flipH="1" rot="20549400">
              <a:off x="1094400" y="3536280"/>
              <a:ext cx="213840" cy="184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71"/>
            <p:cNvSpPr/>
            <p:nvPr/>
          </p:nvSpPr>
          <p:spPr>
            <a:xfrm flipH="1" rot="283200">
              <a:off x="1278360" y="3497400"/>
              <a:ext cx="187920" cy="176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5" name="AutoShape 172"/>
            <p:cNvCxnSpPr/>
            <p:nvPr/>
          </p:nvCxnSpPr>
          <p:spPr>
            <a:xfrm flipH="1" flipV="1">
              <a:off x="1522800" y="2945520"/>
              <a:ext cx="1080" cy="102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16" name="Group 173"/>
            <p:cNvGrpSpPr/>
            <p:nvPr/>
          </p:nvGrpSpPr>
          <p:grpSpPr>
            <a:xfrm>
              <a:off x="1056600" y="2756520"/>
              <a:ext cx="443160" cy="444240"/>
              <a:chOff x="1056600" y="2756520"/>
              <a:chExt cx="443160" cy="444240"/>
            </a:xfrm>
          </p:grpSpPr>
          <p:grpSp>
            <p:nvGrpSpPr>
              <p:cNvPr id="917" name="Group 174"/>
              <p:cNvGrpSpPr/>
              <p:nvPr/>
            </p:nvGrpSpPr>
            <p:grpSpPr>
              <a:xfrm>
                <a:off x="1166040" y="2756520"/>
                <a:ext cx="333720" cy="444240"/>
                <a:chOff x="1166040" y="2756520"/>
                <a:chExt cx="333720" cy="444240"/>
              </a:xfrm>
            </p:grpSpPr>
            <p:sp>
              <p:nvSpPr>
                <p:cNvPr id="918" name="Arc 175"/>
                <p:cNvSpPr/>
                <p:nvPr/>
              </p:nvSpPr>
              <p:spPr>
                <a:xfrm flipH="1" flipV="1" rot="19500000">
                  <a:off x="1260000" y="2952000"/>
                  <a:ext cx="71640" cy="792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9" name="Group 176"/>
                <p:cNvGrpSpPr/>
                <p:nvPr/>
              </p:nvGrpSpPr>
              <p:grpSpPr>
                <a:xfrm>
                  <a:off x="1166040" y="2756520"/>
                  <a:ext cx="333720" cy="444240"/>
                  <a:chOff x="1166040" y="2756520"/>
                  <a:chExt cx="333720" cy="444240"/>
                </a:xfrm>
              </p:grpSpPr>
              <p:sp>
                <p:nvSpPr>
                  <p:cNvPr id="920" name="Line 177"/>
                  <p:cNvSpPr/>
                  <p:nvPr/>
                </p:nvSpPr>
                <p:spPr>
                  <a:xfrm>
                    <a:off x="1272960" y="2877480"/>
                    <a:ext cx="226800" cy="323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Oval 178"/>
                  <p:cNvSpPr/>
                  <p:nvPr/>
                </p:nvSpPr>
                <p:spPr>
                  <a:xfrm flipH="1" rot="19500000">
                    <a:off x="1187640" y="2780640"/>
                    <a:ext cx="120600" cy="114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2" name="Line 179"/>
              <p:cNvSpPr/>
              <p:nvPr/>
            </p:nvSpPr>
            <p:spPr>
              <a:xfrm flipH="1" flipV="1">
                <a:off x="1186560" y="2963520"/>
                <a:ext cx="15984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Oval 180"/>
              <p:cNvSpPr/>
              <p:nvPr/>
            </p:nvSpPr>
            <p:spPr>
              <a:xfrm flipH="1" rot="19500000">
                <a:off x="1078200" y="2886120"/>
                <a:ext cx="12060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181"/>
            <p:cNvGrpSpPr/>
            <p:nvPr/>
          </p:nvGrpSpPr>
          <p:grpSpPr>
            <a:xfrm>
              <a:off x="1036080" y="3131640"/>
              <a:ext cx="478080" cy="398880"/>
              <a:chOff x="1036080" y="3131640"/>
              <a:chExt cx="478080" cy="398880"/>
            </a:xfrm>
          </p:grpSpPr>
          <p:grpSp>
            <p:nvGrpSpPr>
              <p:cNvPr id="925" name="Group 182"/>
              <p:cNvGrpSpPr/>
              <p:nvPr/>
            </p:nvGrpSpPr>
            <p:grpSpPr>
              <a:xfrm>
                <a:off x="1128960" y="3131640"/>
                <a:ext cx="385200" cy="398880"/>
                <a:chOff x="1128960" y="3131640"/>
                <a:chExt cx="385200" cy="398880"/>
              </a:xfrm>
            </p:grpSpPr>
            <p:sp>
              <p:nvSpPr>
                <p:cNvPr id="926" name="Arc 183"/>
                <p:cNvSpPr/>
                <p:nvPr/>
              </p:nvSpPr>
              <p:spPr>
                <a:xfrm flipH="1" flipV="1" rot="18958800">
                  <a:off x="1245960" y="3318480"/>
                  <a:ext cx="71640" cy="78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184"/>
                <p:cNvGrpSpPr/>
                <p:nvPr/>
              </p:nvGrpSpPr>
              <p:grpSpPr>
                <a:xfrm>
                  <a:off x="1128960" y="3131640"/>
                  <a:ext cx="385200" cy="398880"/>
                  <a:chOff x="1128960" y="3131640"/>
                  <a:chExt cx="385200" cy="398880"/>
                </a:xfrm>
              </p:grpSpPr>
              <p:sp>
                <p:nvSpPr>
                  <p:cNvPr id="928" name="Line 185"/>
                  <p:cNvSpPr/>
                  <p:nvPr/>
                </p:nvSpPr>
                <p:spPr>
                  <a:xfrm>
                    <a:off x="1241640" y="3249360"/>
                    <a:ext cx="27252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Oval 186"/>
                  <p:cNvSpPr/>
                  <p:nvPr/>
                </p:nvSpPr>
                <p:spPr>
                  <a:xfrm flipH="1" rot="18958200">
                    <a:off x="1150920" y="3157200"/>
                    <a:ext cx="120240" cy="11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Line 187"/>
              <p:cNvSpPr/>
              <p:nvPr/>
            </p:nvSpPr>
            <p:spPr>
              <a:xfrm flipH="1" flipV="1">
                <a:off x="1169640" y="3347640"/>
                <a:ext cx="16272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Oval 188"/>
              <p:cNvSpPr/>
              <p:nvPr/>
            </p:nvSpPr>
            <p:spPr>
              <a:xfrm flipH="1" rot="18958200">
                <a:off x="1058400" y="3278880"/>
                <a:ext cx="121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189"/>
            <p:cNvGrpSpPr/>
            <p:nvPr/>
          </p:nvGrpSpPr>
          <p:grpSpPr>
            <a:xfrm>
              <a:off x="1538280" y="3018960"/>
              <a:ext cx="366840" cy="372960"/>
              <a:chOff x="1538280" y="3018960"/>
              <a:chExt cx="366840" cy="372960"/>
            </a:xfrm>
          </p:grpSpPr>
          <p:grpSp>
            <p:nvGrpSpPr>
              <p:cNvPr id="933" name="Group 190"/>
              <p:cNvGrpSpPr/>
              <p:nvPr/>
            </p:nvGrpSpPr>
            <p:grpSpPr>
              <a:xfrm>
                <a:off x="1538280" y="3018960"/>
                <a:ext cx="255960" cy="372960"/>
                <a:chOff x="1538280" y="3018960"/>
                <a:chExt cx="255960" cy="372960"/>
              </a:xfrm>
            </p:grpSpPr>
            <p:sp>
              <p:nvSpPr>
                <p:cNvPr id="934" name="Arc 191"/>
                <p:cNvSpPr/>
                <p:nvPr/>
              </p:nvSpPr>
              <p:spPr>
                <a:xfrm flipV="1" rot="2100000">
                  <a:off x="1631520" y="3211560"/>
                  <a:ext cx="7200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Group 192"/>
                <p:cNvGrpSpPr/>
                <p:nvPr/>
              </p:nvGrpSpPr>
              <p:grpSpPr>
                <a:xfrm>
                  <a:off x="1538280" y="3018960"/>
                  <a:ext cx="255960" cy="372960"/>
                  <a:chOff x="1538280" y="3018960"/>
                  <a:chExt cx="255960" cy="372960"/>
                </a:xfrm>
              </p:grpSpPr>
              <p:sp>
                <p:nvSpPr>
                  <p:cNvPr id="936" name="Line 193"/>
                  <p:cNvSpPr/>
                  <p:nvPr/>
                </p:nvSpPr>
                <p:spPr>
                  <a:xfrm flipH="1">
                    <a:off x="1538280" y="3154320"/>
                    <a:ext cx="166680" cy="23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Oval 194"/>
                  <p:cNvSpPr/>
                  <p:nvPr/>
                </p:nvSpPr>
                <p:spPr>
                  <a:xfrm rot="2100000">
                    <a:off x="1652760" y="3043440"/>
                    <a:ext cx="120600" cy="11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8" name="Line 195"/>
              <p:cNvSpPr/>
              <p:nvPr/>
            </p:nvSpPr>
            <p:spPr>
              <a:xfrm flipV="1">
                <a:off x="1617840" y="3223080"/>
                <a:ext cx="15912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Oval 196"/>
              <p:cNvSpPr/>
              <p:nvPr/>
            </p:nvSpPr>
            <p:spPr>
              <a:xfrm rot="2100000">
                <a:off x="1762920" y="3148560"/>
                <a:ext cx="120960" cy="11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Oval 197"/>
            <p:cNvSpPr/>
            <p:nvPr/>
          </p:nvSpPr>
          <p:spPr>
            <a:xfrm flipH="1">
              <a:off x="1429560" y="2743200"/>
              <a:ext cx="194760" cy="20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rc 198"/>
            <p:cNvSpPr/>
            <p:nvPr/>
          </p:nvSpPr>
          <p:spPr>
            <a:xfrm flipH="1" flipV="1">
              <a:off x="1387440" y="3123360"/>
              <a:ext cx="12924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rc 199"/>
            <p:cNvSpPr/>
            <p:nvPr/>
          </p:nvSpPr>
          <p:spPr>
            <a:xfrm flipH="1" flipV="1">
              <a:off x="1393560" y="3457080"/>
              <a:ext cx="12924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rc 200"/>
            <p:cNvSpPr/>
            <p:nvPr/>
          </p:nvSpPr>
          <p:spPr>
            <a:xfrm flipV="1">
              <a:off x="1538280" y="3321360"/>
              <a:ext cx="12924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01"/>
            <p:cNvSpPr/>
            <p:nvPr/>
          </p:nvSpPr>
          <p:spPr>
            <a:xfrm flipH="1" rot="20549400">
              <a:off x="1066320" y="3617280"/>
              <a:ext cx="149040" cy="141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2"/>
            <p:cNvSpPr/>
            <p:nvPr/>
          </p:nvSpPr>
          <p:spPr>
            <a:xfrm flipH="1" rot="2454000">
              <a:off x="1860480" y="3650760"/>
              <a:ext cx="187560" cy="175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rc 203"/>
            <p:cNvSpPr/>
            <p:nvPr/>
          </p:nvSpPr>
          <p:spPr>
            <a:xfrm flipH="1" flipV="1" rot="505800">
              <a:off x="1212480" y="3638160"/>
              <a:ext cx="344880" cy="282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rc 204"/>
            <p:cNvSpPr/>
            <p:nvPr/>
          </p:nvSpPr>
          <p:spPr>
            <a:xfrm flipH="1" flipV="1" rot="21354600">
              <a:off x="1160640" y="3634560"/>
              <a:ext cx="301320" cy="335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rc 205"/>
            <p:cNvSpPr/>
            <p:nvPr/>
          </p:nvSpPr>
          <p:spPr>
            <a:xfrm flipH="1" flipV="1">
              <a:off x="1382040" y="3635280"/>
              <a:ext cx="177120" cy="2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Arc 206"/>
            <p:cNvSpPr/>
            <p:nvPr/>
          </p:nvSpPr>
          <p:spPr>
            <a:xfrm flipV="1" rot="245400">
              <a:off x="1592280" y="3671280"/>
              <a:ext cx="327240" cy="3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07"/>
            <p:cNvSpPr/>
            <p:nvPr/>
          </p:nvSpPr>
          <p:spPr>
            <a:xfrm rot="937200">
              <a:off x="1540080" y="3941280"/>
              <a:ext cx="132480" cy="183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Group 208"/>
            <p:cNvGrpSpPr/>
            <p:nvPr/>
          </p:nvGrpSpPr>
          <p:grpSpPr>
            <a:xfrm>
              <a:off x="1362960" y="3615480"/>
              <a:ext cx="455400" cy="531000"/>
              <a:chOff x="1362960" y="3615480"/>
              <a:chExt cx="455400" cy="531000"/>
            </a:xfrm>
          </p:grpSpPr>
          <p:sp>
            <p:nvSpPr>
              <p:cNvPr id="952" name="Freeform 209"/>
              <p:cNvSpPr/>
              <p:nvPr/>
            </p:nvSpPr>
            <p:spPr>
              <a:xfrm rot="937200">
                <a:off x="1446480" y="3911400"/>
                <a:ext cx="71280" cy="224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10"/>
              <p:cNvSpPr/>
              <p:nvPr/>
            </p:nvSpPr>
            <p:spPr>
              <a:xfrm flipH="1" rot="3391800">
                <a:off x="1712520" y="3725280"/>
                <a:ext cx="81720" cy="10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11"/>
              <p:cNvSpPr/>
              <p:nvPr/>
            </p:nvSpPr>
            <p:spPr>
              <a:xfrm flipH="1" rot="2137800">
                <a:off x="1602000" y="3672720"/>
                <a:ext cx="108360" cy="117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rc 212"/>
              <p:cNvSpPr/>
              <p:nvPr/>
            </p:nvSpPr>
            <p:spPr>
              <a:xfrm flipV="1" rot="432000">
                <a:off x="1583640" y="3728160"/>
                <a:ext cx="55440" cy="18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Arc 213"/>
              <p:cNvSpPr/>
              <p:nvPr/>
            </p:nvSpPr>
            <p:spPr>
              <a:xfrm flipV="1" rot="1183200">
                <a:off x="1610640" y="3691080"/>
                <a:ext cx="124920" cy="24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rc 214"/>
              <p:cNvSpPr/>
              <p:nvPr/>
            </p:nvSpPr>
            <p:spPr>
              <a:xfrm flipH="1" flipV="1" rot="1443000">
                <a:off x="1477080" y="3685680"/>
                <a:ext cx="126000" cy="19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15"/>
              <p:cNvSpPr/>
              <p:nvPr/>
            </p:nvSpPr>
            <p:spPr>
              <a:xfrm rot="937200">
                <a:off x="1532520" y="3930480"/>
                <a:ext cx="101880" cy="205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16"/>
              <p:cNvSpPr/>
              <p:nvPr/>
            </p:nvSpPr>
            <p:spPr>
              <a:xfrm rot="937200">
                <a:off x="1557720" y="3927960"/>
                <a:ext cx="131040" cy="13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17"/>
              <p:cNvSpPr/>
              <p:nvPr/>
            </p:nvSpPr>
            <p:spPr>
              <a:xfrm rot="937200">
                <a:off x="1400400" y="3883680"/>
                <a:ext cx="127080" cy="223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18"/>
              <p:cNvSpPr/>
              <p:nvPr/>
            </p:nvSpPr>
            <p:spPr>
              <a:xfrm rot="937200">
                <a:off x="1378080" y="3874680"/>
                <a:ext cx="159480" cy="135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219"/>
              <p:cNvSpPr/>
              <p:nvPr/>
            </p:nvSpPr>
            <p:spPr>
              <a:xfrm flipH="1" rot="21486600">
                <a:off x="1441800" y="3617280"/>
                <a:ext cx="115200" cy="117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Rectangle 220"/>
              <p:cNvSpPr/>
              <p:nvPr/>
            </p:nvSpPr>
            <p:spPr>
              <a:xfrm rot="937200">
                <a:off x="1554480" y="3896640"/>
                <a:ext cx="45360" cy="4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4" name="Group 221"/>
          <p:cNvGrpSpPr/>
          <p:nvPr/>
        </p:nvGrpSpPr>
        <p:grpSpPr>
          <a:xfrm>
            <a:off x="2590920" y="3276720"/>
            <a:ext cx="4418640" cy="1097640"/>
            <a:chOff x="2590920" y="3276720"/>
            <a:chExt cx="4418640" cy="1097640"/>
          </a:xfrm>
        </p:grpSpPr>
        <p:sp>
          <p:nvSpPr>
            <p:cNvPr id="965" name="Arc 222"/>
            <p:cNvSpPr/>
            <p:nvPr/>
          </p:nvSpPr>
          <p:spPr>
            <a:xfrm flipV="1">
              <a:off x="3434040" y="3467520"/>
              <a:ext cx="618120" cy="44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Group 223"/>
            <p:cNvGrpSpPr/>
            <p:nvPr/>
          </p:nvGrpSpPr>
          <p:grpSpPr>
            <a:xfrm>
              <a:off x="5016600" y="3866760"/>
              <a:ext cx="194760" cy="213120"/>
              <a:chOff x="5016600" y="3866760"/>
              <a:chExt cx="194760" cy="213120"/>
            </a:xfrm>
          </p:grpSpPr>
          <p:cxnSp>
            <p:nvCxnSpPr>
              <p:cNvPr id="967" name="AutoShape 224"/>
              <p:cNvCxnSpPr/>
              <p:nvPr/>
            </p:nvCxnSpPr>
            <p:spPr>
              <a:xfrm>
                <a:off x="5040720" y="3866760"/>
                <a:ext cx="171000" cy="213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68" name="AutoShape 225"/>
              <p:cNvCxnSpPr/>
              <p:nvPr/>
            </p:nvCxnSpPr>
            <p:spPr>
              <a:xfrm flipH="1">
                <a:off x="5016600" y="3866760"/>
                <a:ext cx="195120" cy="213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969" name="Group 226"/>
            <p:cNvGrpSpPr/>
            <p:nvPr/>
          </p:nvGrpSpPr>
          <p:grpSpPr>
            <a:xfrm>
              <a:off x="6386400" y="3749760"/>
              <a:ext cx="258120" cy="274320"/>
              <a:chOff x="6386400" y="3749760"/>
              <a:chExt cx="258120" cy="274320"/>
            </a:xfrm>
          </p:grpSpPr>
          <p:cxnSp>
            <p:nvCxnSpPr>
              <p:cNvPr id="970" name="AutoShape 227"/>
              <p:cNvCxnSpPr/>
              <p:nvPr/>
            </p:nvCxnSpPr>
            <p:spPr>
              <a:xfrm>
                <a:off x="6418440" y="3749760"/>
                <a:ext cx="226440" cy="274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71" name="AutoShape 228"/>
              <p:cNvCxnSpPr/>
              <p:nvPr/>
            </p:nvCxnSpPr>
            <p:spPr>
              <a:xfrm flipH="1">
                <a:off x="6386400" y="3749760"/>
                <a:ext cx="258480" cy="274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972" name="Group 229"/>
            <p:cNvGrpSpPr/>
            <p:nvPr/>
          </p:nvGrpSpPr>
          <p:grpSpPr>
            <a:xfrm>
              <a:off x="3880440" y="3759120"/>
              <a:ext cx="195120" cy="212040"/>
              <a:chOff x="3880440" y="3759120"/>
              <a:chExt cx="195120" cy="212040"/>
            </a:xfrm>
          </p:grpSpPr>
          <p:cxnSp>
            <p:nvCxnSpPr>
              <p:cNvPr id="973" name="AutoShape 230"/>
              <p:cNvCxnSpPr/>
              <p:nvPr/>
            </p:nvCxnSpPr>
            <p:spPr>
              <a:xfrm>
                <a:off x="3905280" y="3759120"/>
                <a:ext cx="170640" cy="212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74" name="AutoShape 231"/>
              <p:cNvCxnSpPr/>
              <p:nvPr/>
            </p:nvCxnSpPr>
            <p:spPr>
              <a:xfrm flipH="1">
                <a:off x="3880440" y="3759120"/>
                <a:ext cx="194760" cy="212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975" name="Group 232"/>
            <p:cNvGrpSpPr/>
            <p:nvPr/>
          </p:nvGrpSpPr>
          <p:grpSpPr>
            <a:xfrm>
              <a:off x="4509360" y="3847320"/>
              <a:ext cx="195120" cy="213120"/>
              <a:chOff x="4509360" y="3847320"/>
              <a:chExt cx="195120" cy="213120"/>
            </a:xfrm>
          </p:grpSpPr>
          <p:cxnSp>
            <p:nvCxnSpPr>
              <p:cNvPr id="976" name="AutoShape 233"/>
              <p:cNvCxnSpPr/>
              <p:nvPr/>
            </p:nvCxnSpPr>
            <p:spPr>
              <a:xfrm>
                <a:off x="4534200" y="3847320"/>
                <a:ext cx="170640" cy="213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77" name="AutoShape 234"/>
              <p:cNvCxnSpPr/>
              <p:nvPr/>
            </p:nvCxnSpPr>
            <p:spPr>
              <a:xfrm flipH="1">
                <a:off x="4509360" y="3847320"/>
                <a:ext cx="194760" cy="213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978" name="Group 235"/>
            <p:cNvGrpSpPr/>
            <p:nvPr/>
          </p:nvGrpSpPr>
          <p:grpSpPr>
            <a:xfrm>
              <a:off x="5648400" y="3864960"/>
              <a:ext cx="194040" cy="211320"/>
              <a:chOff x="5648400" y="3864960"/>
              <a:chExt cx="194040" cy="211320"/>
            </a:xfrm>
          </p:grpSpPr>
          <p:cxnSp>
            <p:nvCxnSpPr>
              <p:cNvPr id="979" name="AutoShape 236"/>
              <p:cNvCxnSpPr/>
              <p:nvPr/>
            </p:nvCxnSpPr>
            <p:spPr>
              <a:xfrm>
                <a:off x="5672880" y="3864960"/>
                <a:ext cx="169920" cy="211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80" name="AutoShape 237"/>
              <p:cNvCxnSpPr/>
              <p:nvPr/>
            </p:nvCxnSpPr>
            <p:spPr>
              <a:xfrm flipH="1">
                <a:off x="5648400" y="3864960"/>
                <a:ext cx="194040" cy="211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81" name="Arc 238"/>
            <p:cNvSpPr/>
            <p:nvPr/>
          </p:nvSpPr>
          <p:spPr>
            <a:xfrm flipV="1">
              <a:off x="2648880" y="3380400"/>
              <a:ext cx="618120" cy="487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Arc 239"/>
            <p:cNvSpPr/>
            <p:nvPr/>
          </p:nvSpPr>
          <p:spPr>
            <a:xfrm flipV="1">
              <a:off x="2590920" y="3580200"/>
              <a:ext cx="686880" cy="37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Group 240"/>
            <p:cNvGrpSpPr/>
            <p:nvPr/>
          </p:nvGrpSpPr>
          <p:grpSpPr>
            <a:xfrm>
              <a:off x="4243680" y="3793680"/>
              <a:ext cx="362160" cy="351360"/>
              <a:chOff x="4243680" y="3793680"/>
              <a:chExt cx="362160" cy="351360"/>
            </a:xfrm>
          </p:grpSpPr>
          <p:sp>
            <p:nvSpPr>
              <p:cNvPr id="984" name="Arc 241"/>
              <p:cNvSpPr/>
              <p:nvPr/>
            </p:nvSpPr>
            <p:spPr>
              <a:xfrm flipV="1" rot="2984400">
                <a:off x="4320360" y="3820320"/>
                <a:ext cx="208080" cy="29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242"/>
              <p:cNvSpPr/>
              <p:nvPr/>
            </p:nvSpPr>
            <p:spPr>
              <a:xfrm>
                <a:off x="4500360" y="4038120"/>
                <a:ext cx="50760" cy="6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Freeform 243"/>
            <p:cNvSpPr/>
            <p:nvPr/>
          </p:nvSpPr>
          <p:spPr>
            <a:xfrm>
              <a:off x="3359160" y="3276720"/>
              <a:ext cx="3406680" cy="757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44"/>
            <p:cNvSpPr/>
            <p:nvPr/>
          </p:nvSpPr>
          <p:spPr>
            <a:xfrm rot="5400000">
              <a:off x="6834960" y="3766680"/>
              <a:ext cx="114480" cy="234360"/>
            </a:xfrm>
            <a:prstGeom prst="triangle">
              <a:avLst>
                <a:gd name="adj" fmla="val 38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8" name="Group 245"/>
            <p:cNvGrpSpPr/>
            <p:nvPr/>
          </p:nvGrpSpPr>
          <p:grpSpPr>
            <a:xfrm>
              <a:off x="5383080" y="3845520"/>
              <a:ext cx="363600" cy="342720"/>
              <a:chOff x="5383080" y="3845520"/>
              <a:chExt cx="363600" cy="342720"/>
            </a:xfrm>
          </p:grpSpPr>
          <p:sp>
            <p:nvSpPr>
              <p:cNvPr id="989" name="Arc 246"/>
              <p:cNvSpPr/>
              <p:nvPr/>
            </p:nvSpPr>
            <p:spPr>
              <a:xfrm flipV="1" rot="3266400">
                <a:off x="5460480" y="3867480"/>
                <a:ext cx="208080" cy="29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247"/>
              <p:cNvSpPr/>
              <p:nvPr/>
            </p:nvSpPr>
            <p:spPr>
              <a:xfrm>
                <a:off x="5634000" y="4091400"/>
                <a:ext cx="4572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Group 248"/>
            <p:cNvGrpSpPr/>
            <p:nvPr/>
          </p:nvGrpSpPr>
          <p:grpSpPr>
            <a:xfrm>
              <a:off x="4657680" y="3609720"/>
              <a:ext cx="361800" cy="350640"/>
              <a:chOff x="4657680" y="3609720"/>
              <a:chExt cx="361800" cy="350640"/>
            </a:xfrm>
          </p:grpSpPr>
          <p:sp>
            <p:nvSpPr>
              <p:cNvPr id="992" name="Arc 249"/>
              <p:cNvSpPr/>
              <p:nvPr/>
            </p:nvSpPr>
            <p:spPr>
              <a:xfrm rot="13800000">
                <a:off x="4734360" y="3636000"/>
                <a:ext cx="208080" cy="297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250"/>
              <p:cNvSpPr/>
              <p:nvPr/>
            </p:nvSpPr>
            <p:spPr>
              <a:xfrm flipH="1" flipV="1">
                <a:off x="4731840" y="3639240"/>
                <a:ext cx="5112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Group 251"/>
            <p:cNvGrpSpPr/>
            <p:nvPr/>
          </p:nvGrpSpPr>
          <p:grpSpPr>
            <a:xfrm>
              <a:off x="5727240" y="3658320"/>
              <a:ext cx="306720" cy="280800"/>
              <a:chOff x="5727240" y="3658320"/>
              <a:chExt cx="306720" cy="280800"/>
            </a:xfrm>
          </p:grpSpPr>
          <p:sp>
            <p:nvSpPr>
              <p:cNvPr id="995" name="Arc 252"/>
              <p:cNvSpPr/>
              <p:nvPr/>
            </p:nvSpPr>
            <p:spPr>
              <a:xfrm rot="11598000">
                <a:off x="5797800" y="3679200"/>
                <a:ext cx="211680" cy="23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53"/>
              <p:cNvSpPr/>
              <p:nvPr/>
            </p:nvSpPr>
            <p:spPr>
              <a:xfrm flipH="1" flipV="1">
                <a:off x="5727240" y="3747240"/>
                <a:ext cx="7848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Group 254"/>
            <p:cNvGrpSpPr/>
            <p:nvPr/>
          </p:nvGrpSpPr>
          <p:grpSpPr>
            <a:xfrm>
              <a:off x="5897880" y="3951360"/>
              <a:ext cx="191880" cy="345600"/>
              <a:chOff x="5897880" y="3951360"/>
              <a:chExt cx="191880" cy="345600"/>
            </a:xfrm>
          </p:grpSpPr>
          <p:sp>
            <p:nvSpPr>
              <p:cNvPr id="998" name="Freeform 255"/>
              <p:cNvSpPr/>
              <p:nvPr/>
            </p:nvSpPr>
            <p:spPr>
              <a:xfrm>
                <a:off x="5983200" y="3963600"/>
                <a:ext cx="56880" cy="260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256"/>
              <p:cNvSpPr/>
              <p:nvPr/>
            </p:nvSpPr>
            <p:spPr>
              <a:xfrm rot="21000000">
                <a:off x="6010560" y="3953160"/>
                <a:ext cx="52560" cy="31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57"/>
              <p:cNvSpPr/>
              <p:nvPr/>
            </p:nvSpPr>
            <p:spPr>
              <a:xfrm flipH="1" rot="600000">
                <a:off x="5923800" y="3983400"/>
                <a:ext cx="52560" cy="311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Group 258"/>
            <p:cNvGrpSpPr/>
            <p:nvPr/>
          </p:nvGrpSpPr>
          <p:grpSpPr>
            <a:xfrm>
              <a:off x="5272200" y="4008960"/>
              <a:ext cx="191880" cy="345600"/>
              <a:chOff x="5272200" y="4008960"/>
              <a:chExt cx="191880" cy="345600"/>
            </a:xfrm>
          </p:grpSpPr>
          <p:sp>
            <p:nvSpPr>
              <p:cNvPr id="1002" name="Freeform 259"/>
              <p:cNvSpPr/>
              <p:nvPr/>
            </p:nvSpPr>
            <p:spPr>
              <a:xfrm>
                <a:off x="5357520" y="4021200"/>
                <a:ext cx="56880" cy="260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260"/>
              <p:cNvSpPr/>
              <p:nvPr/>
            </p:nvSpPr>
            <p:spPr>
              <a:xfrm rot="21000000">
                <a:off x="5384880" y="4010760"/>
                <a:ext cx="52560" cy="31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61"/>
              <p:cNvSpPr/>
              <p:nvPr/>
            </p:nvSpPr>
            <p:spPr>
              <a:xfrm flipH="1" rot="600000">
                <a:off x="5298120" y="4041000"/>
                <a:ext cx="52560" cy="311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262"/>
            <p:cNvGrpSpPr/>
            <p:nvPr/>
          </p:nvGrpSpPr>
          <p:grpSpPr>
            <a:xfrm>
              <a:off x="4707000" y="3952080"/>
              <a:ext cx="195120" cy="345960"/>
              <a:chOff x="4707000" y="3952080"/>
              <a:chExt cx="195120" cy="345960"/>
            </a:xfrm>
          </p:grpSpPr>
          <p:sp>
            <p:nvSpPr>
              <p:cNvPr id="1006" name="Freeform 263"/>
              <p:cNvSpPr/>
              <p:nvPr/>
            </p:nvSpPr>
            <p:spPr>
              <a:xfrm>
                <a:off x="4794840" y="3964680"/>
                <a:ext cx="57240" cy="260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64"/>
              <p:cNvSpPr/>
              <p:nvPr/>
            </p:nvSpPr>
            <p:spPr>
              <a:xfrm rot="21000000">
                <a:off x="4822560" y="3954240"/>
                <a:ext cx="52920" cy="31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65"/>
              <p:cNvSpPr/>
              <p:nvPr/>
            </p:nvSpPr>
            <p:spPr>
              <a:xfrm flipH="1" rot="600000">
                <a:off x="4734000" y="3984120"/>
                <a:ext cx="52920" cy="31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266"/>
            <p:cNvGrpSpPr/>
            <p:nvPr/>
          </p:nvGrpSpPr>
          <p:grpSpPr>
            <a:xfrm>
              <a:off x="4135680" y="3944880"/>
              <a:ext cx="191520" cy="345960"/>
              <a:chOff x="4135680" y="3944880"/>
              <a:chExt cx="191520" cy="345960"/>
            </a:xfrm>
          </p:grpSpPr>
          <p:sp>
            <p:nvSpPr>
              <p:cNvPr id="1010" name="Freeform 267"/>
              <p:cNvSpPr/>
              <p:nvPr/>
            </p:nvSpPr>
            <p:spPr>
              <a:xfrm>
                <a:off x="4221000" y="3957120"/>
                <a:ext cx="56520" cy="260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68"/>
              <p:cNvSpPr/>
              <p:nvPr/>
            </p:nvSpPr>
            <p:spPr>
              <a:xfrm rot="21000000">
                <a:off x="4248360" y="3946680"/>
                <a:ext cx="52200" cy="31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69"/>
              <p:cNvSpPr/>
              <p:nvPr/>
            </p:nvSpPr>
            <p:spPr>
              <a:xfrm flipH="1" rot="600000">
                <a:off x="4161960" y="3976920"/>
                <a:ext cx="52200" cy="31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Group 270"/>
            <p:cNvGrpSpPr/>
            <p:nvPr/>
          </p:nvGrpSpPr>
          <p:grpSpPr>
            <a:xfrm>
              <a:off x="4096440" y="3530160"/>
              <a:ext cx="455400" cy="468000"/>
              <a:chOff x="4096440" y="3530160"/>
              <a:chExt cx="455400" cy="468000"/>
            </a:xfrm>
          </p:grpSpPr>
          <p:sp>
            <p:nvSpPr>
              <p:cNvPr id="1014" name="Freeform 271"/>
              <p:cNvSpPr/>
              <p:nvPr/>
            </p:nvSpPr>
            <p:spPr>
              <a:xfrm flipH="1" rot="1812000">
                <a:off x="4306680" y="3614760"/>
                <a:ext cx="102240" cy="171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Arc 272"/>
              <p:cNvSpPr/>
              <p:nvPr/>
            </p:nvSpPr>
            <p:spPr>
              <a:xfrm flipV="1" rot="106200">
                <a:off x="4267440" y="3692880"/>
                <a:ext cx="66240" cy="277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Arc 273"/>
              <p:cNvSpPr/>
              <p:nvPr/>
            </p:nvSpPr>
            <p:spPr>
              <a:xfrm flipV="1" rot="857400">
                <a:off x="4299480" y="3631320"/>
                <a:ext cx="148320" cy="353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Arc 274"/>
              <p:cNvSpPr/>
              <p:nvPr/>
            </p:nvSpPr>
            <p:spPr>
              <a:xfrm flipH="1" flipV="1" rot="1118400">
                <a:off x="4138560" y="3644280"/>
                <a:ext cx="149760" cy="291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275"/>
              <p:cNvSpPr/>
              <p:nvPr/>
            </p:nvSpPr>
            <p:spPr>
              <a:xfrm flipH="1" rot="21162000">
                <a:off x="4114080" y="3535920"/>
                <a:ext cx="102240" cy="172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276"/>
              <p:cNvSpPr/>
              <p:nvPr/>
            </p:nvSpPr>
            <p:spPr>
              <a:xfrm flipH="1" rot="3067200">
                <a:off x="4414680" y="3680640"/>
                <a:ext cx="99360" cy="1436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277"/>
            <p:cNvGrpSpPr/>
            <p:nvPr/>
          </p:nvGrpSpPr>
          <p:grpSpPr>
            <a:xfrm>
              <a:off x="5148360" y="3615480"/>
              <a:ext cx="483120" cy="412920"/>
              <a:chOff x="5148360" y="3615480"/>
              <a:chExt cx="483120" cy="412920"/>
            </a:xfrm>
          </p:grpSpPr>
          <p:sp>
            <p:nvSpPr>
              <p:cNvPr id="1021" name="Freeform 278"/>
              <p:cNvSpPr/>
              <p:nvPr/>
            </p:nvSpPr>
            <p:spPr>
              <a:xfrm flipH="1" rot="988800">
                <a:off x="5381280" y="3658320"/>
                <a:ext cx="102240" cy="171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Arc 279"/>
              <p:cNvSpPr/>
              <p:nvPr/>
            </p:nvSpPr>
            <p:spPr>
              <a:xfrm flipV="1" rot="20883000">
                <a:off x="5374800" y="3746880"/>
                <a:ext cx="66240" cy="277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Arc 280"/>
              <p:cNvSpPr/>
              <p:nvPr/>
            </p:nvSpPr>
            <p:spPr>
              <a:xfrm flipV="1" rot="33600">
                <a:off x="5398560" y="3668040"/>
                <a:ext cx="148320" cy="353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Arc 281"/>
              <p:cNvSpPr/>
              <p:nvPr/>
            </p:nvSpPr>
            <p:spPr>
              <a:xfrm flipH="1" flipV="1" rot="294600">
                <a:off x="5238360" y="3719520"/>
                <a:ext cx="149760" cy="291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282"/>
              <p:cNvSpPr/>
              <p:nvPr/>
            </p:nvSpPr>
            <p:spPr>
              <a:xfrm flipH="1" rot="20338200">
                <a:off x="5175360" y="3628080"/>
                <a:ext cx="102240" cy="172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283"/>
              <p:cNvSpPr/>
              <p:nvPr/>
            </p:nvSpPr>
            <p:spPr>
              <a:xfrm flipH="1" rot="2242800">
                <a:off x="5498280" y="3697920"/>
                <a:ext cx="99360" cy="1436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284"/>
            <p:cNvGrpSpPr/>
            <p:nvPr/>
          </p:nvGrpSpPr>
          <p:grpSpPr>
            <a:xfrm>
              <a:off x="4650120" y="3676320"/>
              <a:ext cx="342360" cy="287280"/>
              <a:chOff x="4650120" y="3676320"/>
              <a:chExt cx="342360" cy="287280"/>
            </a:xfrm>
          </p:grpSpPr>
          <p:sp>
            <p:nvSpPr>
              <p:cNvPr id="1028" name="Freeform 285"/>
              <p:cNvSpPr/>
              <p:nvPr/>
            </p:nvSpPr>
            <p:spPr>
              <a:xfrm flipH="1" rot="1368600">
                <a:off x="4754520" y="3707280"/>
                <a:ext cx="72720" cy="119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rc 286"/>
              <p:cNvSpPr/>
              <p:nvPr/>
            </p:nvSpPr>
            <p:spPr>
              <a:xfrm flipH="1" flipV="1" rot="674400">
                <a:off x="4786560" y="3768120"/>
                <a:ext cx="47160" cy="192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Arc 287"/>
              <p:cNvSpPr/>
              <p:nvPr/>
            </p:nvSpPr>
            <p:spPr>
              <a:xfrm flipH="1" flipV="1" rot="21523800">
                <a:off x="4710600" y="3714480"/>
                <a:ext cx="105480" cy="245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rc 288"/>
              <p:cNvSpPr/>
              <p:nvPr/>
            </p:nvSpPr>
            <p:spPr>
              <a:xfrm flipV="1" rot="21262800">
                <a:off x="4823280" y="3748680"/>
                <a:ext cx="106920" cy="201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89"/>
              <p:cNvSpPr/>
              <p:nvPr/>
            </p:nvSpPr>
            <p:spPr>
              <a:xfrm rot="1219200">
                <a:off x="4901400" y="3684960"/>
                <a:ext cx="72720" cy="119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290"/>
              <p:cNvSpPr/>
              <p:nvPr/>
            </p:nvSpPr>
            <p:spPr>
              <a:xfrm rot="19314600">
                <a:off x="4673160" y="3735720"/>
                <a:ext cx="70920" cy="993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291"/>
            <p:cNvGrpSpPr/>
            <p:nvPr/>
          </p:nvGrpSpPr>
          <p:grpSpPr>
            <a:xfrm>
              <a:off x="5875200" y="3640680"/>
              <a:ext cx="310680" cy="332280"/>
              <a:chOff x="5875200" y="3640680"/>
              <a:chExt cx="310680" cy="332280"/>
            </a:xfrm>
          </p:grpSpPr>
          <p:sp>
            <p:nvSpPr>
              <p:cNvPr id="1035" name="Freeform 292"/>
              <p:cNvSpPr/>
              <p:nvPr/>
            </p:nvSpPr>
            <p:spPr>
              <a:xfrm flipH="1" rot="1812000">
                <a:off x="6018840" y="3698640"/>
                <a:ext cx="68400" cy="1234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Arc 293"/>
              <p:cNvSpPr/>
              <p:nvPr/>
            </p:nvSpPr>
            <p:spPr>
              <a:xfrm flipV="1" rot="106200">
                <a:off x="5991840" y="3754800"/>
                <a:ext cx="44280" cy="199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Arc 294"/>
              <p:cNvSpPr/>
              <p:nvPr/>
            </p:nvSpPr>
            <p:spPr>
              <a:xfrm flipV="1" rot="857400">
                <a:off x="6013440" y="3709800"/>
                <a:ext cx="99000" cy="254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Arc 295"/>
              <p:cNvSpPr/>
              <p:nvPr/>
            </p:nvSpPr>
            <p:spPr>
              <a:xfrm flipH="1" flipV="1" rot="1118400">
                <a:off x="5905800" y="3720600"/>
                <a:ext cx="100440" cy="209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6"/>
              <p:cNvSpPr/>
              <p:nvPr/>
            </p:nvSpPr>
            <p:spPr>
              <a:xfrm flipH="1" rot="21162000">
                <a:off x="5891400" y="3644280"/>
                <a:ext cx="68400" cy="1234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297"/>
              <p:cNvSpPr/>
              <p:nvPr/>
            </p:nvSpPr>
            <p:spPr>
              <a:xfrm flipH="1" rot="3067200">
                <a:off x="6091200" y="3745080"/>
                <a:ext cx="66600" cy="1033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298"/>
            <p:cNvGrpSpPr/>
            <p:nvPr/>
          </p:nvGrpSpPr>
          <p:grpSpPr>
            <a:xfrm>
              <a:off x="2960640" y="3393720"/>
              <a:ext cx="486720" cy="487800"/>
              <a:chOff x="2960640" y="3393720"/>
              <a:chExt cx="486720" cy="487800"/>
            </a:xfrm>
          </p:grpSpPr>
          <p:sp>
            <p:nvSpPr>
              <p:cNvPr id="1042" name="Freeform 299"/>
              <p:cNvSpPr/>
              <p:nvPr/>
            </p:nvSpPr>
            <p:spPr>
              <a:xfrm flipH="1" rot="598200">
                <a:off x="3194280" y="3425400"/>
                <a:ext cx="91800" cy="213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rc 300"/>
              <p:cNvSpPr/>
              <p:nvPr/>
            </p:nvSpPr>
            <p:spPr>
              <a:xfrm flipV="1" rot="20492400">
                <a:off x="3211200" y="3536280"/>
                <a:ext cx="59400" cy="344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rc 301"/>
              <p:cNvSpPr/>
              <p:nvPr/>
            </p:nvSpPr>
            <p:spPr>
              <a:xfrm flipV="1" rot="21243600">
                <a:off x="3225960" y="3433680"/>
                <a:ext cx="133200" cy="439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Arc 302"/>
              <p:cNvSpPr/>
              <p:nvPr/>
            </p:nvSpPr>
            <p:spPr>
              <a:xfrm flipH="1" flipV="1" rot="21504600">
                <a:off x="3085200" y="3510360"/>
                <a:ext cx="135000" cy="362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03"/>
              <p:cNvSpPr/>
              <p:nvPr/>
            </p:nvSpPr>
            <p:spPr>
              <a:xfrm flipH="1" rot="19947600">
                <a:off x="3003840" y="3406320"/>
                <a:ext cx="108360" cy="213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304"/>
              <p:cNvSpPr/>
              <p:nvPr/>
            </p:nvSpPr>
            <p:spPr>
              <a:xfrm flipH="1" rot="1852200">
                <a:off x="3300840" y="3458160"/>
                <a:ext cx="108360" cy="1785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8" name="Rectangle 305"/>
            <p:cNvSpPr/>
            <p:nvPr/>
          </p:nvSpPr>
          <p:spPr>
            <a:xfrm>
              <a:off x="3091680" y="4071600"/>
              <a:ext cx="720" cy="7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306"/>
            <p:cNvSpPr/>
            <p:nvPr/>
          </p:nvSpPr>
          <p:spPr>
            <a:xfrm>
              <a:off x="3230280" y="3886920"/>
              <a:ext cx="231480" cy="8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307"/>
            <p:cNvSpPr/>
            <p:nvPr/>
          </p:nvSpPr>
          <p:spPr>
            <a:xfrm>
              <a:off x="3155040" y="3977640"/>
              <a:ext cx="231480" cy="8820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308"/>
            <p:cNvGrpSpPr/>
            <p:nvPr/>
          </p:nvGrpSpPr>
          <p:grpSpPr>
            <a:xfrm>
              <a:off x="2590920" y="3930480"/>
              <a:ext cx="574200" cy="360000"/>
              <a:chOff x="2590920" y="3930480"/>
              <a:chExt cx="574200" cy="360000"/>
            </a:xfrm>
          </p:grpSpPr>
          <p:sp>
            <p:nvSpPr>
              <p:cNvPr id="1052" name="Freeform 309"/>
              <p:cNvSpPr/>
              <p:nvPr/>
            </p:nvSpPr>
            <p:spPr>
              <a:xfrm>
                <a:off x="2675160" y="3944520"/>
                <a:ext cx="458280" cy="153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310"/>
              <p:cNvSpPr/>
              <p:nvPr/>
            </p:nvSpPr>
            <p:spPr>
              <a:xfrm>
                <a:off x="2992680" y="3963600"/>
                <a:ext cx="172440" cy="286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11"/>
              <p:cNvSpPr/>
              <p:nvPr/>
            </p:nvSpPr>
            <p:spPr>
              <a:xfrm>
                <a:off x="2755080" y="3930480"/>
                <a:ext cx="385200" cy="301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12"/>
              <p:cNvSpPr/>
              <p:nvPr/>
            </p:nvSpPr>
            <p:spPr>
              <a:xfrm>
                <a:off x="2864520" y="3974040"/>
                <a:ext cx="237240" cy="276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313"/>
              <p:cNvSpPr/>
              <p:nvPr/>
            </p:nvSpPr>
            <p:spPr>
              <a:xfrm>
                <a:off x="2590920" y="3934440"/>
                <a:ext cx="487440" cy="101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14"/>
              <p:cNvSpPr/>
              <p:nvPr/>
            </p:nvSpPr>
            <p:spPr>
              <a:xfrm>
                <a:off x="2913840" y="3963600"/>
                <a:ext cx="187920" cy="326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315"/>
            <p:cNvGrpSpPr/>
            <p:nvPr/>
          </p:nvGrpSpPr>
          <p:grpSpPr>
            <a:xfrm>
              <a:off x="3382920" y="3915360"/>
              <a:ext cx="497520" cy="459000"/>
              <a:chOff x="3382920" y="3915360"/>
              <a:chExt cx="497520" cy="459000"/>
            </a:xfrm>
          </p:grpSpPr>
          <p:sp>
            <p:nvSpPr>
              <p:cNvPr id="1059" name="Freeform 316"/>
              <p:cNvSpPr/>
              <p:nvPr/>
            </p:nvSpPr>
            <p:spPr>
              <a:xfrm>
                <a:off x="3399120" y="4014360"/>
                <a:ext cx="297360" cy="360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17"/>
              <p:cNvSpPr/>
              <p:nvPr/>
            </p:nvSpPr>
            <p:spPr>
              <a:xfrm rot="5056800">
                <a:off x="3393360" y="3935520"/>
                <a:ext cx="329040" cy="31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18"/>
              <p:cNvSpPr/>
              <p:nvPr/>
            </p:nvSpPr>
            <p:spPr>
              <a:xfrm>
                <a:off x="3435120" y="4008240"/>
                <a:ext cx="383400" cy="233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319"/>
              <p:cNvSpPr/>
              <p:nvPr/>
            </p:nvSpPr>
            <p:spPr>
              <a:xfrm>
                <a:off x="3434040" y="3950640"/>
                <a:ext cx="446400" cy="24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20"/>
              <p:cNvSpPr/>
              <p:nvPr/>
            </p:nvSpPr>
            <p:spPr>
              <a:xfrm>
                <a:off x="3404520" y="4001040"/>
                <a:ext cx="125280" cy="36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4" name="Group 321"/>
          <p:cNvGrpSpPr/>
          <p:nvPr/>
        </p:nvGrpSpPr>
        <p:grpSpPr>
          <a:xfrm>
            <a:off x="2954160" y="4876920"/>
            <a:ext cx="1018800" cy="1458360"/>
            <a:chOff x="2954160" y="4876920"/>
            <a:chExt cx="1018800" cy="1458360"/>
          </a:xfrm>
        </p:grpSpPr>
        <p:sp>
          <p:nvSpPr>
            <p:cNvPr id="1065" name="Rectangle 322"/>
            <p:cNvSpPr/>
            <p:nvPr/>
          </p:nvSpPr>
          <p:spPr>
            <a:xfrm>
              <a:off x="3341520" y="6094800"/>
              <a:ext cx="96840" cy="345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6" name="AutoShape 323"/>
            <p:cNvCxnSpPr/>
            <p:nvPr/>
          </p:nvCxnSpPr>
          <p:spPr>
            <a:xfrm flipH="1" flipV="1">
              <a:off x="3451680" y="5071320"/>
              <a:ext cx="1080" cy="98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067" name="Group 324"/>
            <p:cNvGrpSpPr/>
            <p:nvPr/>
          </p:nvGrpSpPr>
          <p:grpSpPr>
            <a:xfrm>
              <a:off x="3015000" y="4892400"/>
              <a:ext cx="420120" cy="424800"/>
              <a:chOff x="3015000" y="4892400"/>
              <a:chExt cx="420120" cy="424800"/>
            </a:xfrm>
          </p:grpSpPr>
          <p:grpSp>
            <p:nvGrpSpPr>
              <p:cNvPr id="1068" name="Group 325"/>
              <p:cNvGrpSpPr/>
              <p:nvPr/>
            </p:nvGrpSpPr>
            <p:grpSpPr>
              <a:xfrm>
                <a:off x="3116880" y="4892400"/>
                <a:ext cx="318240" cy="424800"/>
                <a:chOff x="3116880" y="4892400"/>
                <a:chExt cx="318240" cy="424800"/>
              </a:xfrm>
            </p:grpSpPr>
            <p:sp>
              <p:nvSpPr>
                <p:cNvPr id="1069" name="Arc 326"/>
                <p:cNvSpPr/>
                <p:nvPr/>
              </p:nvSpPr>
              <p:spPr>
                <a:xfrm flipH="1" flipV="1" rot="19500000">
                  <a:off x="3207960" y="5078160"/>
                  <a:ext cx="66600" cy="75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0" name="Group 327"/>
                <p:cNvGrpSpPr/>
                <p:nvPr/>
              </p:nvGrpSpPr>
              <p:grpSpPr>
                <a:xfrm>
                  <a:off x="3116880" y="4892400"/>
                  <a:ext cx="318240" cy="424800"/>
                  <a:chOff x="3116880" y="4892400"/>
                  <a:chExt cx="318240" cy="424800"/>
                </a:xfrm>
              </p:grpSpPr>
              <p:sp>
                <p:nvSpPr>
                  <p:cNvPr id="1071" name="Line 328"/>
                  <p:cNvSpPr/>
                  <p:nvPr/>
                </p:nvSpPr>
                <p:spPr>
                  <a:xfrm>
                    <a:off x="3217320" y="5006880"/>
                    <a:ext cx="217800" cy="310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Oval 329"/>
                  <p:cNvSpPr/>
                  <p:nvPr/>
                </p:nvSpPr>
                <p:spPr>
                  <a:xfrm flipH="1" rot="19500000">
                    <a:off x="3138120" y="4914360"/>
                    <a:ext cx="111240" cy="109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3" name="Line 330"/>
              <p:cNvSpPr/>
              <p:nvPr/>
            </p:nvSpPr>
            <p:spPr>
              <a:xfrm flipH="1" flipV="1">
                <a:off x="3138120" y="5087520"/>
                <a:ext cx="14976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Oval 331"/>
              <p:cNvSpPr/>
              <p:nvPr/>
            </p:nvSpPr>
            <p:spPr>
              <a:xfrm flipH="1" rot="19500000">
                <a:off x="3036240" y="5012640"/>
                <a:ext cx="111960" cy="110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5" name="Group 332"/>
            <p:cNvGrpSpPr/>
            <p:nvPr/>
          </p:nvGrpSpPr>
          <p:grpSpPr>
            <a:xfrm>
              <a:off x="2995200" y="5252400"/>
              <a:ext cx="453960" cy="380880"/>
              <a:chOff x="2995200" y="5252400"/>
              <a:chExt cx="453960" cy="380880"/>
            </a:xfrm>
          </p:grpSpPr>
          <p:grpSp>
            <p:nvGrpSpPr>
              <p:cNvPr id="1076" name="Group 333"/>
              <p:cNvGrpSpPr/>
              <p:nvPr/>
            </p:nvGrpSpPr>
            <p:grpSpPr>
              <a:xfrm>
                <a:off x="3080520" y="5252400"/>
                <a:ext cx="368640" cy="380880"/>
                <a:chOff x="3080520" y="5252400"/>
                <a:chExt cx="368640" cy="380880"/>
              </a:xfrm>
            </p:grpSpPr>
            <p:sp>
              <p:nvSpPr>
                <p:cNvPr id="1077" name="Arc 334"/>
                <p:cNvSpPr/>
                <p:nvPr/>
              </p:nvSpPr>
              <p:spPr>
                <a:xfrm flipH="1" flipV="1" rot="18958800">
                  <a:off x="3193920" y="5429880"/>
                  <a:ext cx="66600" cy="7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8" name="Group 335"/>
                <p:cNvGrpSpPr/>
                <p:nvPr/>
              </p:nvGrpSpPr>
              <p:grpSpPr>
                <a:xfrm>
                  <a:off x="3080520" y="5252400"/>
                  <a:ext cx="368640" cy="380880"/>
                  <a:chOff x="3080520" y="5252400"/>
                  <a:chExt cx="368640" cy="380880"/>
                </a:xfrm>
              </p:grpSpPr>
              <p:sp>
                <p:nvSpPr>
                  <p:cNvPr id="1079" name="Line 336"/>
                  <p:cNvSpPr/>
                  <p:nvPr/>
                </p:nvSpPr>
                <p:spPr>
                  <a:xfrm>
                    <a:off x="3187800" y="5363640"/>
                    <a:ext cx="261360" cy="269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Oval 337"/>
                  <p:cNvSpPr/>
                  <p:nvPr/>
                </p:nvSpPr>
                <p:spPr>
                  <a:xfrm flipH="1" rot="18958200">
                    <a:off x="3102120" y="5275800"/>
                    <a:ext cx="111600" cy="109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1" name="Line 338"/>
              <p:cNvSpPr/>
              <p:nvPr/>
            </p:nvSpPr>
            <p:spPr>
              <a:xfrm flipH="1" flipV="1">
                <a:off x="3121560" y="5455440"/>
                <a:ext cx="1526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339"/>
              <p:cNvSpPr/>
              <p:nvPr/>
            </p:nvSpPr>
            <p:spPr>
              <a:xfrm flipH="1" rot="18958200">
                <a:off x="3017520" y="5388840"/>
                <a:ext cx="11196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Group 340"/>
            <p:cNvGrpSpPr/>
            <p:nvPr/>
          </p:nvGrpSpPr>
          <p:grpSpPr>
            <a:xfrm>
              <a:off x="3462480" y="5143680"/>
              <a:ext cx="347040" cy="355680"/>
              <a:chOff x="3462480" y="5143680"/>
              <a:chExt cx="347040" cy="355680"/>
            </a:xfrm>
          </p:grpSpPr>
          <p:grpSp>
            <p:nvGrpSpPr>
              <p:cNvPr id="1084" name="Group 341"/>
              <p:cNvGrpSpPr/>
              <p:nvPr/>
            </p:nvGrpSpPr>
            <p:grpSpPr>
              <a:xfrm>
                <a:off x="3462480" y="5143680"/>
                <a:ext cx="244800" cy="355680"/>
                <a:chOff x="3462480" y="5143680"/>
                <a:chExt cx="244800" cy="355680"/>
              </a:xfrm>
            </p:grpSpPr>
            <p:sp>
              <p:nvSpPr>
                <p:cNvPr id="1085" name="Arc 342"/>
                <p:cNvSpPr/>
                <p:nvPr/>
              </p:nvSpPr>
              <p:spPr>
                <a:xfrm flipV="1" rot="2100000">
                  <a:off x="3552480" y="5325480"/>
                  <a:ext cx="66600" cy="73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6" name="Group 343"/>
                <p:cNvGrpSpPr/>
                <p:nvPr/>
              </p:nvGrpSpPr>
              <p:grpSpPr>
                <a:xfrm>
                  <a:off x="3462480" y="5143680"/>
                  <a:ext cx="244800" cy="355680"/>
                  <a:chOff x="3462480" y="5143680"/>
                  <a:chExt cx="244800" cy="355680"/>
                </a:xfrm>
              </p:grpSpPr>
              <p:sp>
                <p:nvSpPr>
                  <p:cNvPr id="1087" name="Line 344"/>
                  <p:cNvSpPr/>
                  <p:nvPr/>
                </p:nvSpPr>
                <p:spPr>
                  <a:xfrm flipH="1">
                    <a:off x="3462480" y="5271480"/>
                    <a:ext cx="159840" cy="22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Oval 345"/>
                  <p:cNvSpPr/>
                  <p:nvPr/>
                </p:nvSpPr>
                <p:spPr>
                  <a:xfrm rot="2100000">
                    <a:off x="3575160" y="5166000"/>
                    <a:ext cx="111600" cy="10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9" name="Line 346"/>
              <p:cNvSpPr/>
              <p:nvPr/>
            </p:nvSpPr>
            <p:spPr>
              <a:xfrm flipV="1">
                <a:off x="3539520" y="5336280"/>
                <a:ext cx="14868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Oval 347"/>
              <p:cNvSpPr/>
              <p:nvPr/>
            </p:nvSpPr>
            <p:spPr>
              <a:xfrm rot="2100000">
                <a:off x="3676320" y="5263920"/>
                <a:ext cx="112320" cy="106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1" name="Oval 348"/>
            <p:cNvSpPr/>
            <p:nvPr/>
          </p:nvSpPr>
          <p:spPr>
            <a:xfrm flipH="1">
              <a:off x="3366000" y="4876920"/>
              <a:ext cx="18072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rc 349"/>
            <p:cNvSpPr/>
            <p:nvPr/>
          </p:nvSpPr>
          <p:spPr>
            <a:xfrm flipH="1" flipV="1">
              <a:off x="3326040" y="5240520"/>
              <a:ext cx="11988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rc 350"/>
            <p:cNvSpPr/>
            <p:nvPr/>
          </p:nvSpPr>
          <p:spPr>
            <a:xfrm flipH="1" flipV="1">
              <a:off x="3331800" y="5560560"/>
              <a:ext cx="11988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Arc 351"/>
            <p:cNvSpPr/>
            <p:nvPr/>
          </p:nvSpPr>
          <p:spPr>
            <a:xfrm flipV="1">
              <a:off x="3466080" y="5430240"/>
              <a:ext cx="11988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2"/>
            <p:cNvSpPr/>
            <p:nvPr/>
          </p:nvSpPr>
          <p:spPr>
            <a:xfrm flipH="1" rot="20549400">
              <a:off x="2971080" y="5814360"/>
              <a:ext cx="137880" cy="1368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53"/>
            <p:cNvSpPr/>
            <p:nvPr/>
          </p:nvSpPr>
          <p:spPr>
            <a:xfrm flipH="1" rot="2454000">
              <a:off x="3764880" y="5747400"/>
              <a:ext cx="173880" cy="168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rc 354"/>
            <p:cNvSpPr/>
            <p:nvPr/>
          </p:nvSpPr>
          <p:spPr>
            <a:xfrm flipH="1" flipV="1" rot="21354600">
              <a:off x="3058200" y="5850720"/>
              <a:ext cx="340920" cy="20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Arc 355"/>
            <p:cNvSpPr/>
            <p:nvPr/>
          </p:nvSpPr>
          <p:spPr>
            <a:xfrm flipV="1" rot="245400">
              <a:off x="3516840" y="5766840"/>
              <a:ext cx="303120" cy="288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56"/>
            <p:cNvSpPr/>
            <p:nvPr/>
          </p:nvSpPr>
          <p:spPr>
            <a:xfrm rot="937200">
              <a:off x="3464640" y="6129000"/>
              <a:ext cx="122760" cy="17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357"/>
            <p:cNvSpPr/>
            <p:nvPr/>
          </p:nvSpPr>
          <p:spPr>
            <a:xfrm rot="20953200">
              <a:off x="3330360" y="6031800"/>
              <a:ext cx="65880" cy="215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358"/>
            <p:cNvSpPr/>
            <p:nvPr/>
          </p:nvSpPr>
          <p:spPr>
            <a:xfrm flipH="1" rot="553800">
              <a:off x="3334320" y="5760000"/>
              <a:ext cx="100440" cy="113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rc 359"/>
            <p:cNvSpPr/>
            <p:nvPr/>
          </p:nvSpPr>
          <p:spPr>
            <a:xfrm flipV="1" rot="20448000">
              <a:off x="3359880" y="5823000"/>
              <a:ext cx="51480" cy="18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Arc 360"/>
            <p:cNvSpPr/>
            <p:nvPr/>
          </p:nvSpPr>
          <p:spPr>
            <a:xfrm flipV="1" rot="21199200">
              <a:off x="3375360" y="5762880"/>
              <a:ext cx="115560" cy="233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Arc 361"/>
            <p:cNvSpPr/>
            <p:nvPr/>
          </p:nvSpPr>
          <p:spPr>
            <a:xfrm flipH="1" flipV="1" rot="21459600">
              <a:off x="3252240" y="5814360"/>
              <a:ext cx="116640" cy="191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362"/>
            <p:cNvSpPr/>
            <p:nvPr/>
          </p:nvSpPr>
          <p:spPr>
            <a:xfrm rot="20953200">
              <a:off x="3409200" y="5992200"/>
              <a:ext cx="121680" cy="13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63"/>
            <p:cNvSpPr/>
            <p:nvPr/>
          </p:nvSpPr>
          <p:spPr>
            <a:xfrm rot="20953200">
              <a:off x="3277800" y="6015960"/>
              <a:ext cx="117720" cy="21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64"/>
            <p:cNvSpPr/>
            <p:nvPr/>
          </p:nvSpPr>
          <p:spPr>
            <a:xfrm rot="20953200">
              <a:off x="3234960" y="6015600"/>
              <a:ext cx="147960" cy="129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65"/>
            <p:cNvSpPr/>
            <p:nvPr/>
          </p:nvSpPr>
          <p:spPr>
            <a:xfrm flipH="1" rot="19903200">
              <a:off x="3177720" y="5777280"/>
              <a:ext cx="106560" cy="113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366"/>
            <p:cNvSpPr/>
            <p:nvPr/>
          </p:nvSpPr>
          <p:spPr>
            <a:xfrm rot="20953200">
              <a:off x="3376800" y="5989320"/>
              <a:ext cx="42120" cy="4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67"/>
            <p:cNvSpPr/>
            <p:nvPr/>
          </p:nvSpPr>
          <p:spPr>
            <a:xfrm flipH="1" rot="1254000">
              <a:off x="3484080" y="6034320"/>
              <a:ext cx="65880" cy="215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68"/>
            <p:cNvSpPr/>
            <p:nvPr/>
          </p:nvSpPr>
          <p:spPr>
            <a:xfrm rot="53400">
              <a:off x="3502800" y="5764320"/>
              <a:ext cx="100440" cy="113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Arc 369"/>
            <p:cNvSpPr/>
            <p:nvPr/>
          </p:nvSpPr>
          <p:spPr>
            <a:xfrm flipH="1" flipV="1" rot="1759800">
              <a:off x="3509280" y="5824440"/>
              <a:ext cx="51480" cy="18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Arc 370"/>
            <p:cNvSpPr/>
            <p:nvPr/>
          </p:nvSpPr>
          <p:spPr>
            <a:xfrm flipV="1" rot="748200">
              <a:off x="3549600" y="5829480"/>
              <a:ext cx="116640" cy="191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71"/>
            <p:cNvSpPr/>
            <p:nvPr/>
          </p:nvSpPr>
          <p:spPr>
            <a:xfrm flipH="1" rot="1254000">
              <a:off x="3364920" y="5976360"/>
              <a:ext cx="121680" cy="13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72"/>
            <p:cNvSpPr/>
            <p:nvPr/>
          </p:nvSpPr>
          <p:spPr>
            <a:xfrm flipH="1" rot="1254000">
              <a:off x="3488040" y="6022440"/>
              <a:ext cx="117720" cy="21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373"/>
            <p:cNvSpPr/>
            <p:nvPr/>
          </p:nvSpPr>
          <p:spPr>
            <a:xfrm flipH="1" rot="1254000">
              <a:off x="3507120" y="6028200"/>
              <a:ext cx="147600" cy="129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374"/>
            <p:cNvSpPr/>
            <p:nvPr/>
          </p:nvSpPr>
          <p:spPr>
            <a:xfrm rot="2305200">
              <a:off x="3647880" y="5807160"/>
              <a:ext cx="106560" cy="113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375"/>
            <p:cNvSpPr/>
            <p:nvPr/>
          </p:nvSpPr>
          <p:spPr>
            <a:xfrm flipH="1" rot="1254000">
              <a:off x="3484440" y="5987520"/>
              <a:ext cx="42120" cy="4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376"/>
            <p:cNvSpPr/>
            <p:nvPr/>
          </p:nvSpPr>
          <p:spPr>
            <a:xfrm flipH="1" rot="1808400">
              <a:off x="3444120" y="5766840"/>
              <a:ext cx="77400" cy="943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0" name="AutoShape 377"/>
            <p:cNvCxnSpPr/>
            <p:nvPr/>
          </p:nvCxnSpPr>
          <p:spPr>
            <a:xfrm flipH="1" flipV="1">
              <a:off x="3396600" y="6057720"/>
              <a:ext cx="972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1" name="Rectangle 378"/>
            <p:cNvSpPr/>
            <p:nvPr/>
          </p:nvSpPr>
          <p:spPr>
            <a:xfrm>
              <a:off x="3400920" y="6023880"/>
              <a:ext cx="84600" cy="4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379"/>
            <p:cNvSpPr/>
            <p:nvPr/>
          </p:nvSpPr>
          <p:spPr>
            <a:xfrm>
              <a:off x="3507120" y="6083280"/>
              <a:ext cx="163440" cy="247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80"/>
            <p:cNvSpPr/>
            <p:nvPr/>
          </p:nvSpPr>
          <p:spPr>
            <a:xfrm>
              <a:off x="3154680" y="6067080"/>
              <a:ext cx="242280" cy="13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81"/>
            <p:cNvSpPr/>
            <p:nvPr/>
          </p:nvSpPr>
          <p:spPr>
            <a:xfrm>
              <a:off x="3466080" y="6059520"/>
              <a:ext cx="31320" cy="246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82"/>
            <p:cNvSpPr/>
            <p:nvPr/>
          </p:nvSpPr>
          <p:spPr>
            <a:xfrm rot="5056800">
              <a:off x="3481200" y="6050880"/>
              <a:ext cx="226080" cy="174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83"/>
            <p:cNvSpPr/>
            <p:nvPr/>
          </p:nvSpPr>
          <p:spPr>
            <a:xfrm>
              <a:off x="3526920" y="6078960"/>
              <a:ext cx="210600" cy="160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84"/>
            <p:cNvSpPr/>
            <p:nvPr/>
          </p:nvSpPr>
          <p:spPr>
            <a:xfrm>
              <a:off x="3196800" y="6054480"/>
              <a:ext cx="203760" cy="25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85"/>
            <p:cNvSpPr/>
            <p:nvPr/>
          </p:nvSpPr>
          <p:spPr>
            <a:xfrm rot="19932600">
              <a:off x="3438720" y="6078600"/>
              <a:ext cx="125280" cy="23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86"/>
            <p:cNvSpPr/>
            <p:nvPr/>
          </p:nvSpPr>
          <p:spPr>
            <a:xfrm>
              <a:off x="3526200" y="6039720"/>
              <a:ext cx="245520" cy="167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87"/>
            <p:cNvSpPr/>
            <p:nvPr/>
          </p:nvSpPr>
          <p:spPr>
            <a:xfrm>
              <a:off x="3109680" y="6058440"/>
              <a:ext cx="258120" cy="8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8"/>
            <p:cNvSpPr/>
            <p:nvPr/>
          </p:nvSpPr>
          <p:spPr>
            <a:xfrm>
              <a:off x="3270960" y="6054840"/>
              <a:ext cx="99360" cy="280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9"/>
            <p:cNvSpPr/>
            <p:nvPr/>
          </p:nvSpPr>
          <p:spPr>
            <a:xfrm>
              <a:off x="3461040" y="6067080"/>
              <a:ext cx="69120" cy="248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390"/>
            <p:cNvSpPr/>
            <p:nvPr/>
          </p:nvSpPr>
          <p:spPr>
            <a:xfrm>
              <a:off x="3377520" y="6057000"/>
              <a:ext cx="83880" cy="3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Group 391"/>
          <p:cNvGrpSpPr/>
          <p:nvPr/>
        </p:nvGrpSpPr>
        <p:grpSpPr>
          <a:xfrm>
            <a:off x="1182960" y="4876920"/>
            <a:ext cx="1008720" cy="1550520"/>
            <a:chOff x="1182960" y="4876920"/>
            <a:chExt cx="1008720" cy="1550520"/>
          </a:xfrm>
        </p:grpSpPr>
        <p:sp>
          <p:nvSpPr>
            <p:cNvPr id="1135" name="Rectangle 392"/>
            <p:cNvSpPr/>
            <p:nvPr/>
          </p:nvSpPr>
          <p:spPr>
            <a:xfrm>
              <a:off x="1611000" y="6147360"/>
              <a:ext cx="99720" cy="360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6" name="Group 393"/>
            <p:cNvGrpSpPr/>
            <p:nvPr/>
          </p:nvGrpSpPr>
          <p:grpSpPr>
            <a:xfrm>
              <a:off x="1302480" y="6066720"/>
              <a:ext cx="680760" cy="360720"/>
              <a:chOff x="1302480" y="6066720"/>
              <a:chExt cx="680760" cy="360720"/>
            </a:xfrm>
          </p:grpSpPr>
          <p:grpSp>
            <p:nvGrpSpPr>
              <p:cNvPr id="1137" name="Group 394"/>
              <p:cNvGrpSpPr/>
              <p:nvPr/>
            </p:nvGrpSpPr>
            <p:grpSpPr>
              <a:xfrm>
                <a:off x="1302480" y="6066720"/>
                <a:ext cx="680760" cy="360720"/>
                <a:chOff x="1302480" y="6066720"/>
                <a:chExt cx="680760" cy="360720"/>
              </a:xfrm>
            </p:grpSpPr>
            <p:sp>
              <p:nvSpPr>
                <p:cNvPr id="1138" name="Rectangle 395"/>
                <p:cNvSpPr/>
                <p:nvPr/>
              </p:nvSpPr>
              <p:spPr>
                <a:xfrm>
                  <a:off x="1602000" y="6073200"/>
                  <a:ext cx="108720" cy="71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396"/>
                <p:cNvSpPr/>
                <p:nvPr/>
              </p:nvSpPr>
              <p:spPr>
                <a:xfrm>
                  <a:off x="1711080" y="6135120"/>
                  <a:ext cx="168120" cy="258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397"/>
                <p:cNvSpPr/>
                <p:nvPr/>
              </p:nvSpPr>
              <p:spPr>
                <a:xfrm>
                  <a:off x="1348560" y="6118200"/>
                  <a:ext cx="249480" cy="136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398"/>
                <p:cNvSpPr/>
                <p:nvPr/>
              </p:nvSpPr>
              <p:spPr>
                <a:xfrm>
                  <a:off x="1521360" y="6135120"/>
                  <a:ext cx="93960" cy="257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399"/>
                <p:cNvSpPr/>
                <p:nvPr/>
              </p:nvSpPr>
              <p:spPr>
                <a:xfrm rot="5056800">
                  <a:off x="1682640" y="6102720"/>
                  <a:ext cx="235800" cy="18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400"/>
                <p:cNvSpPr/>
                <p:nvPr/>
              </p:nvSpPr>
              <p:spPr>
                <a:xfrm>
                  <a:off x="1731240" y="6130800"/>
                  <a:ext cx="217080" cy="1674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401"/>
                <p:cNvSpPr/>
                <p:nvPr/>
              </p:nvSpPr>
              <p:spPr>
                <a:xfrm>
                  <a:off x="1392120" y="6105240"/>
                  <a:ext cx="209880" cy="27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402"/>
                <p:cNvSpPr/>
                <p:nvPr/>
              </p:nvSpPr>
              <p:spPr>
                <a:xfrm>
                  <a:off x="1451520" y="6144840"/>
                  <a:ext cx="129240" cy="247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403"/>
                <p:cNvSpPr/>
                <p:nvPr/>
              </p:nvSpPr>
              <p:spPr>
                <a:xfrm>
                  <a:off x="1730520" y="6089400"/>
                  <a:ext cx="252720" cy="174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404"/>
                <p:cNvSpPr/>
                <p:nvPr/>
              </p:nvSpPr>
              <p:spPr>
                <a:xfrm>
                  <a:off x="1302480" y="6109200"/>
                  <a:ext cx="265680" cy="9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405"/>
                <p:cNvSpPr/>
                <p:nvPr/>
              </p:nvSpPr>
              <p:spPr>
                <a:xfrm>
                  <a:off x="1478520" y="6135120"/>
                  <a:ext cx="102240" cy="292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406"/>
                <p:cNvSpPr/>
                <p:nvPr/>
              </p:nvSpPr>
              <p:spPr>
                <a:xfrm>
                  <a:off x="1713960" y="6125760"/>
                  <a:ext cx="70920" cy="258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150" name="AutoShape 407"/>
              <p:cNvCxnSpPr/>
              <p:nvPr/>
            </p:nvCxnSpPr>
            <p:spPr>
              <a:xfrm flipH="1" flipV="1">
                <a:off x="1597320" y="6108480"/>
                <a:ext cx="9972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51" name="Freeform 408"/>
            <p:cNvSpPr/>
            <p:nvPr/>
          </p:nvSpPr>
          <p:spPr>
            <a:xfrm flipH="1" rot="20549400">
              <a:off x="1244880" y="5670000"/>
              <a:ext cx="204120" cy="184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09"/>
            <p:cNvSpPr/>
            <p:nvPr/>
          </p:nvSpPr>
          <p:spPr>
            <a:xfrm flipH="1" rot="283200">
              <a:off x="1421280" y="5631120"/>
              <a:ext cx="179280" cy="176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3" name="AutoShape 410"/>
            <p:cNvCxnSpPr/>
            <p:nvPr/>
          </p:nvCxnSpPr>
          <p:spPr>
            <a:xfrm flipH="1" flipV="1">
              <a:off x="1654560" y="5079240"/>
              <a:ext cx="1080" cy="102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154" name="Group 411"/>
            <p:cNvGrpSpPr/>
            <p:nvPr/>
          </p:nvGrpSpPr>
          <p:grpSpPr>
            <a:xfrm>
              <a:off x="1203480" y="4893840"/>
              <a:ext cx="435600" cy="442440"/>
              <a:chOff x="1203480" y="4893840"/>
              <a:chExt cx="435600" cy="442440"/>
            </a:xfrm>
          </p:grpSpPr>
          <p:grpSp>
            <p:nvGrpSpPr>
              <p:cNvPr id="1155" name="Group 412"/>
              <p:cNvGrpSpPr/>
              <p:nvPr/>
            </p:nvGrpSpPr>
            <p:grpSpPr>
              <a:xfrm>
                <a:off x="1307880" y="4893840"/>
                <a:ext cx="331200" cy="442440"/>
                <a:chOff x="1307880" y="4893840"/>
                <a:chExt cx="331200" cy="442440"/>
              </a:xfrm>
            </p:grpSpPr>
            <p:sp>
              <p:nvSpPr>
                <p:cNvPr id="1156" name="Arc 413"/>
                <p:cNvSpPr/>
                <p:nvPr/>
              </p:nvSpPr>
              <p:spPr>
                <a:xfrm flipH="1" flipV="1" rot="19500000">
                  <a:off x="1402920" y="5086080"/>
                  <a:ext cx="68400" cy="78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7" name="Group 414"/>
                <p:cNvGrpSpPr/>
                <p:nvPr/>
              </p:nvGrpSpPr>
              <p:grpSpPr>
                <a:xfrm>
                  <a:off x="1307880" y="4893840"/>
                  <a:ext cx="331200" cy="442440"/>
                  <a:chOff x="1307880" y="4893840"/>
                  <a:chExt cx="331200" cy="442440"/>
                </a:xfrm>
              </p:grpSpPr>
              <p:sp>
                <p:nvSpPr>
                  <p:cNvPr id="1158" name="Line 415"/>
                  <p:cNvSpPr/>
                  <p:nvPr/>
                </p:nvSpPr>
                <p:spPr>
                  <a:xfrm>
                    <a:off x="1412280" y="5013000"/>
                    <a:ext cx="226800" cy="323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Oval 416"/>
                  <p:cNvSpPr/>
                  <p:nvPr/>
                </p:nvSpPr>
                <p:spPr>
                  <a:xfrm flipH="1" rot="19500000">
                    <a:off x="1329840" y="4916160"/>
                    <a:ext cx="11484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0" name="Line 417"/>
              <p:cNvSpPr/>
              <p:nvPr/>
            </p:nvSpPr>
            <p:spPr>
              <a:xfrm flipH="1" flipV="1">
                <a:off x="1331280" y="5096160"/>
                <a:ext cx="15444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Oval 418"/>
              <p:cNvSpPr/>
              <p:nvPr/>
            </p:nvSpPr>
            <p:spPr>
              <a:xfrm flipH="1" rot="19500000">
                <a:off x="1225440" y="5017680"/>
                <a:ext cx="11520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Group 419"/>
            <p:cNvGrpSpPr/>
            <p:nvPr/>
          </p:nvGrpSpPr>
          <p:grpSpPr>
            <a:xfrm>
              <a:off x="1182960" y="5270040"/>
              <a:ext cx="470880" cy="396720"/>
              <a:chOff x="1182960" y="5270040"/>
              <a:chExt cx="470880" cy="396720"/>
            </a:xfrm>
          </p:grpSpPr>
          <p:grpSp>
            <p:nvGrpSpPr>
              <p:cNvPr id="1163" name="Group 420"/>
              <p:cNvGrpSpPr/>
              <p:nvPr/>
            </p:nvGrpSpPr>
            <p:grpSpPr>
              <a:xfrm>
                <a:off x="1270440" y="5270040"/>
                <a:ext cx="383400" cy="396720"/>
                <a:chOff x="1270440" y="5270040"/>
                <a:chExt cx="383400" cy="396720"/>
              </a:xfrm>
            </p:grpSpPr>
            <p:sp>
              <p:nvSpPr>
                <p:cNvPr id="1164" name="Arc 421"/>
                <p:cNvSpPr/>
                <p:nvPr/>
              </p:nvSpPr>
              <p:spPr>
                <a:xfrm flipH="1" flipV="1" rot="18958800">
                  <a:off x="1388520" y="5453280"/>
                  <a:ext cx="68400" cy="78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5" name="Group 422"/>
                <p:cNvGrpSpPr/>
                <p:nvPr/>
              </p:nvGrpSpPr>
              <p:grpSpPr>
                <a:xfrm>
                  <a:off x="1270440" y="5270040"/>
                  <a:ext cx="383400" cy="396720"/>
                  <a:chOff x="1270440" y="5270040"/>
                  <a:chExt cx="383400" cy="396720"/>
                </a:xfrm>
              </p:grpSpPr>
              <p:sp>
                <p:nvSpPr>
                  <p:cNvPr id="1166" name="Line 423"/>
                  <p:cNvSpPr/>
                  <p:nvPr/>
                </p:nvSpPr>
                <p:spPr>
                  <a:xfrm>
                    <a:off x="1381320" y="5385600"/>
                    <a:ext cx="27252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Oval 424"/>
                  <p:cNvSpPr/>
                  <p:nvPr/>
                </p:nvSpPr>
                <p:spPr>
                  <a:xfrm flipH="1" rot="18958200">
                    <a:off x="1293480" y="5293800"/>
                    <a:ext cx="114840" cy="11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8" name="Line 425"/>
              <p:cNvSpPr/>
              <p:nvPr/>
            </p:nvSpPr>
            <p:spPr>
              <a:xfrm flipH="1" flipV="1">
                <a:off x="1313640" y="5480280"/>
                <a:ext cx="1580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Oval 426"/>
              <p:cNvSpPr/>
              <p:nvPr/>
            </p:nvSpPr>
            <p:spPr>
              <a:xfrm flipH="1" rot="18958200">
                <a:off x="1206360" y="5410440"/>
                <a:ext cx="11520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Group 427"/>
            <p:cNvGrpSpPr/>
            <p:nvPr/>
          </p:nvGrpSpPr>
          <p:grpSpPr>
            <a:xfrm>
              <a:off x="1663920" y="5156280"/>
              <a:ext cx="360360" cy="370440"/>
              <a:chOff x="1663920" y="5156280"/>
              <a:chExt cx="360360" cy="370440"/>
            </a:xfrm>
          </p:grpSpPr>
          <p:grpSp>
            <p:nvGrpSpPr>
              <p:cNvPr id="1171" name="Group 428"/>
              <p:cNvGrpSpPr/>
              <p:nvPr/>
            </p:nvGrpSpPr>
            <p:grpSpPr>
              <a:xfrm>
                <a:off x="1663920" y="5156280"/>
                <a:ext cx="254880" cy="370440"/>
                <a:chOff x="1663920" y="5156280"/>
                <a:chExt cx="254880" cy="370440"/>
              </a:xfrm>
            </p:grpSpPr>
            <p:sp>
              <p:nvSpPr>
                <p:cNvPr id="1172" name="Arc 429"/>
                <p:cNvSpPr/>
                <p:nvPr/>
              </p:nvSpPr>
              <p:spPr>
                <a:xfrm flipV="1" rot="2100000">
                  <a:off x="1757880" y="5344920"/>
                  <a:ext cx="68400" cy="7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3" name="Group 430"/>
                <p:cNvGrpSpPr/>
                <p:nvPr/>
              </p:nvGrpSpPr>
              <p:grpSpPr>
                <a:xfrm>
                  <a:off x="1663920" y="5156280"/>
                  <a:ext cx="254880" cy="370440"/>
                  <a:chOff x="1663920" y="5156280"/>
                  <a:chExt cx="254880" cy="370440"/>
                </a:xfrm>
              </p:grpSpPr>
              <p:sp>
                <p:nvSpPr>
                  <p:cNvPr id="1174" name="Line 431"/>
                  <p:cNvSpPr/>
                  <p:nvPr/>
                </p:nvSpPr>
                <p:spPr>
                  <a:xfrm flipH="1">
                    <a:off x="1663920" y="5289120"/>
                    <a:ext cx="166680" cy="23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Oval 432"/>
                  <p:cNvSpPr/>
                  <p:nvPr/>
                </p:nvSpPr>
                <p:spPr>
                  <a:xfrm rot="2100000">
                    <a:off x="1782360" y="5178960"/>
                    <a:ext cx="114840" cy="11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6" name="Line 433"/>
              <p:cNvSpPr/>
              <p:nvPr/>
            </p:nvSpPr>
            <p:spPr>
              <a:xfrm flipV="1">
                <a:off x="1744920" y="5355360"/>
                <a:ext cx="15336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Oval 434"/>
              <p:cNvSpPr/>
              <p:nvPr/>
            </p:nvSpPr>
            <p:spPr>
              <a:xfrm rot="2100000">
                <a:off x="1887120" y="5280120"/>
                <a:ext cx="115560" cy="11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8" name="Oval 435"/>
            <p:cNvSpPr/>
            <p:nvPr/>
          </p:nvSpPr>
          <p:spPr>
            <a:xfrm flipH="1">
              <a:off x="1565640" y="4876920"/>
              <a:ext cx="186120" cy="20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rc 436"/>
            <p:cNvSpPr/>
            <p:nvPr/>
          </p:nvSpPr>
          <p:spPr>
            <a:xfrm flipH="1" flipV="1">
              <a:off x="1526040" y="5257080"/>
              <a:ext cx="12312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rc 437"/>
            <p:cNvSpPr/>
            <p:nvPr/>
          </p:nvSpPr>
          <p:spPr>
            <a:xfrm flipH="1" flipV="1">
              <a:off x="1531800" y="5590800"/>
              <a:ext cx="12312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rc 438"/>
            <p:cNvSpPr/>
            <p:nvPr/>
          </p:nvSpPr>
          <p:spPr>
            <a:xfrm flipV="1">
              <a:off x="1669320" y="5455080"/>
              <a:ext cx="123120" cy="7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39"/>
            <p:cNvSpPr/>
            <p:nvPr/>
          </p:nvSpPr>
          <p:spPr>
            <a:xfrm flipH="1" rot="20549400">
              <a:off x="1218960" y="5751000"/>
              <a:ext cx="142200" cy="1422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440"/>
            <p:cNvSpPr/>
            <p:nvPr/>
          </p:nvSpPr>
          <p:spPr>
            <a:xfrm flipH="1" rot="2454000">
              <a:off x="1976760" y="5784840"/>
              <a:ext cx="178920" cy="175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Arc 441"/>
            <p:cNvSpPr/>
            <p:nvPr/>
          </p:nvSpPr>
          <p:spPr>
            <a:xfrm flipH="1" flipV="1" rot="505800">
              <a:off x="1357920" y="5771880"/>
              <a:ext cx="329040" cy="282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Arc 442"/>
            <p:cNvSpPr/>
            <p:nvPr/>
          </p:nvSpPr>
          <p:spPr>
            <a:xfrm flipH="1" flipV="1" rot="21354600">
              <a:off x="1308960" y="5769360"/>
              <a:ext cx="287280" cy="335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Arc 443"/>
            <p:cNvSpPr/>
            <p:nvPr/>
          </p:nvSpPr>
          <p:spPr>
            <a:xfrm flipH="1" flipV="1">
              <a:off x="1519560" y="5769000"/>
              <a:ext cx="168840" cy="2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Arc 444"/>
            <p:cNvSpPr/>
            <p:nvPr/>
          </p:nvSpPr>
          <p:spPr>
            <a:xfrm flipV="1" rot="245400">
              <a:off x="1720800" y="5805720"/>
              <a:ext cx="312120" cy="3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445"/>
            <p:cNvSpPr/>
            <p:nvPr/>
          </p:nvSpPr>
          <p:spPr>
            <a:xfrm rot="937200">
              <a:off x="1671120" y="6074640"/>
              <a:ext cx="126360" cy="183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Group 446"/>
            <p:cNvGrpSpPr/>
            <p:nvPr/>
          </p:nvGrpSpPr>
          <p:grpSpPr>
            <a:xfrm>
              <a:off x="1500840" y="5749200"/>
              <a:ext cx="435960" cy="529920"/>
              <a:chOff x="1500840" y="5749200"/>
              <a:chExt cx="435960" cy="529920"/>
            </a:xfrm>
          </p:grpSpPr>
          <p:sp>
            <p:nvSpPr>
              <p:cNvPr id="1190" name="Freeform 447"/>
              <p:cNvSpPr/>
              <p:nvPr/>
            </p:nvSpPr>
            <p:spPr>
              <a:xfrm rot="937200">
                <a:off x="1581120" y="6044760"/>
                <a:ext cx="68040" cy="224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448"/>
              <p:cNvSpPr/>
              <p:nvPr/>
            </p:nvSpPr>
            <p:spPr>
              <a:xfrm flipH="1" rot="3391800">
                <a:off x="1832400" y="5861160"/>
                <a:ext cx="81720" cy="964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49"/>
              <p:cNvSpPr/>
              <p:nvPr/>
            </p:nvSpPr>
            <p:spPr>
              <a:xfrm flipH="1" rot="2137800">
                <a:off x="1729440" y="5806080"/>
                <a:ext cx="103320" cy="117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rc 450"/>
              <p:cNvSpPr/>
              <p:nvPr/>
            </p:nvSpPr>
            <p:spPr>
              <a:xfrm flipV="1" rot="432000">
                <a:off x="1712160" y="5861880"/>
                <a:ext cx="52920" cy="189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Arc 451"/>
              <p:cNvSpPr/>
              <p:nvPr/>
            </p:nvSpPr>
            <p:spPr>
              <a:xfrm flipV="1" rot="1183200">
                <a:off x="1738440" y="5824800"/>
                <a:ext cx="118800" cy="24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Arc 452"/>
              <p:cNvSpPr/>
              <p:nvPr/>
            </p:nvSpPr>
            <p:spPr>
              <a:xfrm flipH="1" flipV="1" rot="1443000">
                <a:off x="1611000" y="5819040"/>
                <a:ext cx="120240" cy="200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453"/>
              <p:cNvSpPr/>
              <p:nvPr/>
            </p:nvSpPr>
            <p:spPr>
              <a:xfrm rot="937200">
                <a:off x="1663920" y="6063840"/>
                <a:ext cx="96840" cy="205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454"/>
              <p:cNvSpPr/>
              <p:nvPr/>
            </p:nvSpPr>
            <p:spPr>
              <a:xfrm rot="937200">
                <a:off x="1687680" y="6062040"/>
                <a:ext cx="124920" cy="13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455"/>
              <p:cNvSpPr/>
              <p:nvPr/>
            </p:nvSpPr>
            <p:spPr>
              <a:xfrm rot="937200">
                <a:off x="1538280" y="6017040"/>
                <a:ext cx="121320" cy="223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456"/>
              <p:cNvSpPr/>
              <p:nvPr/>
            </p:nvSpPr>
            <p:spPr>
              <a:xfrm rot="937200">
                <a:off x="1515960" y="6008400"/>
                <a:ext cx="151920" cy="135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457"/>
              <p:cNvSpPr/>
              <p:nvPr/>
            </p:nvSpPr>
            <p:spPr>
              <a:xfrm flipH="1" rot="21486600">
                <a:off x="1577520" y="5750640"/>
                <a:ext cx="109800" cy="118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Rectangle 458"/>
              <p:cNvSpPr/>
              <p:nvPr/>
            </p:nvSpPr>
            <p:spPr>
              <a:xfrm rot="937200">
                <a:off x="1684440" y="6030360"/>
                <a:ext cx="43200" cy="4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Group 459"/>
          <p:cNvGrpSpPr/>
          <p:nvPr/>
        </p:nvGrpSpPr>
        <p:grpSpPr>
          <a:xfrm>
            <a:off x="4419720" y="5257800"/>
            <a:ext cx="3885840" cy="1173960"/>
            <a:chOff x="4419720" y="5257800"/>
            <a:chExt cx="3885840" cy="1173960"/>
          </a:xfrm>
        </p:grpSpPr>
        <p:sp>
          <p:nvSpPr>
            <p:cNvPr id="1203" name="Arc 460"/>
            <p:cNvSpPr/>
            <p:nvPr/>
          </p:nvSpPr>
          <p:spPr>
            <a:xfrm flipV="1">
              <a:off x="5160960" y="5461920"/>
              <a:ext cx="543600" cy="475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4" name="Group 461"/>
            <p:cNvGrpSpPr/>
            <p:nvPr/>
          </p:nvGrpSpPr>
          <p:grpSpPr>
            <a:xfrm>
              <a:off x="6552720" y="5889240"/>
              <a:ext cx="171720" cy="227880"/>
              <a:chOff x="6552720" y="5889240"/>
              <a:chExt cx="171720" cy="227880"/>
            </a:xfrm>
          </p:grpSpPr>
          <p:cxnSp>
            <p:nvCxnSpPr>
              <p:cNvPr id="1205" name="AutoShape 462"/>
              <p:cNvCxnSpPr/>
              <p:nvPr/>
            </p:nvCxnSpPr>
            <p:spPr>
              <a:xfrm>
                <a:off x="6574320" y="5889240"/>
                <a:ext cx="150480" cy="228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06" name="AutoShape 463"/>
              <p:cNvCxnSpPr/>
              <p:nvPr/>
            </p:nvCxnSpPr>
            <p:spPr>
              <a:xfrm flipH="1">
                <a:off x="6552720" y="5889240"/>
                <a:ext cx="171360" cy="228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07" name="Group 464"/>
            <p:cNvGrpSpPr/>
            <p:nvPr/>
          </p:nvGrpSpPr>
          <p:grpSpPr>
            <a:xfrm>
              <a:off x="7756920" y="5764320"/>
              <a:ext cx="227160" cy="293400"/>
              <a:chOff x="7756920" y="5764320"/>
              <a:chExt cx="227160" cy="293400"/>
            </a:xfrm>
          </p:grpSpPr>
          <p:cxnSp>
            <p:nvCxnSpPr>
              <p:cNvPr id="1208" name="AutoShape 465"/>
              <p:cNvCxnSpPr/>
              <p:nvPr/>
            </p:nvCxnSpPr>
            <p:spPr>
              <a:xfrm>
                <a:off x="7785360" y="5764320"/>
                <a:ext cx="199080" cy="293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09" name="AutoShape 466"/>
              <p:cNvCxnSpPr/>
              <p:nvPr/>
            </p:nvCxnSpPr>
            <p:spPr>
              <a:xfrm flipH="1">
                <a:off x="7756920" y="5764320"/>
                <a:ext cx="227160" cy="293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10" name="Group 467"/>
            <p:cNvGrpSpPr/>
            <p:nvPr/>
          </p:nvGrpSpPr>
          <p:grpSpPr>
            <a:xfrm>
              <a:off x="5554080" y="5773680"/>
              <a:ext cx="171000" cy="226440"/>
              <a:chOff x="5554080" y="5773680"/>
              <a:chExt cx="171000" cy="226440"/>
            </a:xfrm>
          </p:grpSpPr>
          <p:cxnSp>
            <p:nvCxnSpPr>
              <p:cNvPr id="1211" name="AutoShape 468"/>
              <p:cNvCxnSpPr/>
              <p:nvPr/>
            </p:nvCxnSpPr>
            <p:spPr>
              <a:xfrm>
                <a:off x="5575320" y="5773680"/>
                <a:ext cx="150120" cy="226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12" name="AutoShape 469"/>
              <p:cNvCxnSpPr/>
              <p:nvPr/>
            </p:nvCxnSpPr>
            <p:spPr>
              <a:xfrm flipH="1">
                <a:off x="5554080" y="5773680"/>
                <a:ext cx="171360" cy="226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13" name="Group 470"/>
            <p:cNvGrpSpPr/>
            <p:nvPr/>
          </p:nvGrpSpPr>
          <p:grpSpPr>
            <a:xfrm>
              <a:off x="6107040" y="5868360"/>
              <a:ext cx="171000" cy="227880"/>
              <a:chOff x="6107040" y="5868360"/>
              <a:chExt cx="171000" cy="227880"/>
            </a:xfrm>
          </p:grpSpPr>
          <p:cxnSp>
            <p:nvCxnSpPr>
              <p:cNvPr id="1214" name="AutoShape 471"/>
              <p:cNvCxnSpPr/>
              <p:nvPr/>
            </p:nvCxnSpPr>
            <p:spPr>
              <a:xfrm>
                <a:off x="6128280" y="5868360"/>
                <a:ext cx="150120" cy="228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15" name="AutoShape 472"/>
              <p:cNvCxnSpPr/>
              <p:nvPr/>
            </p:nvCxnSpPr>
            <p:spPr>
              <a:xfrm flipH="1">
                <a:off x="6107040" y="5868360"/>
                <a:ext cx="171360" cy="228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16" name="Group 473"/>
            <p:cNvGrpSpPr/>
            <p:nvPr/>
          </p:nvGrpSpPr>
          <p:grpSpPr>
            <a:xfrm>
              <a:off x="7108560" y="5886720"/>
              <a:ext cx="170280" cy="225720"/>
              <a:chOff x="7108560" y="5886720"/>
              <a:chExt cx="170280" cy="225720"/>
            </a:xfrm>
          </p:grpSpPr>
          <p:cxnSp>
            <p:nvCxnSpPr>
              <p:cNvPr id="1217" name="AutoShape 474"/>
              <p:cNvCxnSpPr/>
              <p:nvPr/>
            </p:nvCxnSpPr>
            <p:spPr>
              <a:xfrm>
                <a:off x="7129440" y="5886720"/>
                <a:ext cx="149040" cy="226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18" name="AutoShape 475"/>
              <p:cNvCxnSpPr/>
              <p:nvPr/>
            </p:nvCxnSpPr>
            <p:spPr>
              <a:xfrm flipH="1">
                <a:off x="7108560" y="5886720"/>
                <a:ext cx="170640" cy="226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19" name="Arc 476"/>
            <p:cNvSpPr/>
            <p:nvPr/>
          </p:nvSpPr>
          <p:spPr>
            <a:xfrm flipV="1">
              <a:off x="4470840" y="5369760"/>
              <a:ext cx="543600" cy="520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Arc 477"/>
            <p:cNvSpPr/>
            <p:nvPr/>
          </p:nvSpPr>
          <p:spPr>
            <a:xfrm flipV="1">
              <a:off x="4419720" y="5582160"/>
              <a:ext cx="604080" cy="402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Group 478"/>
            <p:cNvGrpSpPr/>
            <p:nvPr/>
          </p:nvGrpSpPr>
          <p:grpSpPr>
            <a:xfrm>
              <a:off x="5855760" y="5829120"/>
              <a:ext cx="343800" cy="339120"/>
              <a:chOff x="5855760" y="5829120"/>
              <a:chExt cx="343800" cy="339120"/>
            </a:xfrm>
          </p:grpSpPr>
          <p:sp>
            <p:nvSpPr>
              <p:cNvPr id="1222" name="Arc 479"/>
              <p:cNvSpPr/>
              <p:nvPr/>
            </p:nvSpPr>
            <p:spPr>
              <a:xfrm flipV="1" rot="2984400">
                <a:off x="5916240" y="5867640"/>
                <a:ext cx="222480" cy="262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480"/>
              <p:cNvSpPr/>
              <p:nvPr/>
            </p:nvSpPr>
            <p:spPr>
              <a:xfrm>
                <a:off x="6106320" y="6074280"/>
                <a:ext cx="5436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Freeform 481"/>
            <p:cNvSpPr/>
            <p:nvPr/>
          </p:nvSpPr>
          <p:spPr>
            <a:xfrm>
              <a:off x="5095080" y="5257800"/>
              <a:ext cx="2995920" cy="81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482"/>
            <p:cNvSpPr/>
            <p:nvPr/>
          </p:nvSpPr>
          <p:spPr>
            <a:xfrm rot="5400000">
              <a:off x="8141040" y="5803920"/>
              <a:ext cx="122400" cy="206280"/>
            </a:xfrm>
            <a:prstGeom prst="triangle">
              <a:avLst>
                <a:gd name="adj" fmla="val 38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483"/>
            <p:cNvGrpSpPr/>
            <p:nvPr/>
          </p:nvGrpSpPr>
          <p:grpSpPr>
            <a:xfrm>
              <a:off x="6859080" y="5882400"/>
              <a:ext cx="342360" cy="333360"/>
              <a:chOff x="6859080" y="5882400"/>
              <a:chExt cx="342360" cy="333360"/>
            </a:xfrm>
          </p:grpSpPr>
          <p:sp>
            <p:nvSpPr>
              <p:cNvPr id="1227" name="Arc 484"/>
              <p:cNvSpPr/>
              <p:nvPr/>
            </p:nvSpPr>
            <p:spPr>
              <a:xfrm flipV="1" rot="3266400">
                <a:off x="6918840" y="5918040"/>
                <a:ext cx="222480" cy="262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Line 485"/>
              <p:cNvSpPr/>
              <p:nvPr/>
            </p:nvSpPr>
            <p:spPr>
              <a:xfrm>
                <a:off x="7102440" y="6130800"/>
                <a:ext cx="4896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486"/>
            <p:cNvGrpSpPr/>
            <p:nvPr/>
          </p:nvGrpSpPr>
          <p:grpSpPr>
            <a:xfrm>
              <a:off x="6229440" y="5632200"/>
              <a:ext cx="343440" cy="338760"/>
              <a:chOff x="6229440" y="5632200"/>
              <a:chExt cx="343440" cy="338760"/>
            </a:xfrm>
          </p:grpSpPr>
          <p:sp>
            <p:nvSpPr>
              <p:cNvPr id="1230" name="Arc 487"/>
              <p:cNvSpPr/>
              <p:nvPr/>
            </p:nvSpPr>
            <p:spPr>
              <a:xfrm rot="13800000">
                <a:off x="6289560" y="5670720"/>
                <a:ext cx="222480" cy="261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Line 488"/>
              <p:cNvSpPr/>
              <p:nvPr/>
            </p:nvSpPr>
            <p:spPr>
              <a:xfrm flipH="1" flipV="1">
                <a:off x="6284880" y="5646960"/>
                <a:ext cx="55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489"/>
            <p:cNvGrpSpPr/>
            <p:nvPr/>
          </p:nvGrpSpPr>
          <p:grpSpPr>
            <a:xfrm>
              <a:off x="7177680" y="5668920"/>
              <a:ext cx="274680" cy="291240"/>
              <a:chOff x="7177680" y="5668920"/>
              <a:chExt cx="274680" cy="291240"/>
            </a:xfrm>
          </p:grpSpPr>
          <p:sp>
            <p:nvSpPr>
              <p:cNvPr id="1233" name="Arc 490"/>
              <p:cNvSpPr/>
              <p:nvPr/>
            </p:nvSpPr>
            <p:spPr>
              <a:xfrm rot="11598000">
                <a:off x="7239240" y="5686920"/>
                <a:ext cx="186120" cy="255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491"/>
              <p:cNvSpPr/>
              <p:nvPr/>
            </p:nvSpPr>
            <p:spPr>
              <a:xfrm flipH="1" flipV="1">
                <a:off x="7177680" y="5767200"/>
                <a:ext cx="6912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492"/>
            <p:cNvGrpSpPr/>
            <p:nvPr/>
          </p:nvGrpSpPr>
          <p:grpSpPr>
            <a:xfrm>
              <a:off x="7322400" y="5980320"/>
              <a:ext cx="178920" cy="367920"/>
              <a:chOff x="7322400" y="5980320"/>
              <a:chExt cx="178920" cy="367920"/>
            </a:xfrm>
          </p:grpSpPr>
          <p:sp>
            <p:nvSpPr>
              <p:cNvPr id="1236" name="Freeform 493"/>
              <p:cNvSpPr/>
              <p:nvPr/>
            </p:nvSpPr>
            <p:spPr>
              <a:xfrm>
                <a:off x="7402680" y="5992560"/>
                <a:ext cx="50040" cy="27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494"/>
              <p:cNvSpPr/>
              <p:nvPr/>
            </p:nvSpPr>
            <p:spPr>
              <a:xfrm rot="21000000">
                <a:off x="7426440" y="5981400"/>
                <a:ext cx="4608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495"/>
              <p:cNvSpPr/>
              <p:nvPr/>
            </p:nvSpPr>
            <p:spPr>
              <a:xfrm flipH="1" rot="600000">
                <a:off x="7350120" y="6013440"/>
                <a:ext cx="4608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496"/>
            <p:cNvGrpSpPr/>
            <p:nvPr/>
          </p:nvGrpSpPr>
          <p:grpSpPr>
            <a:xfrm>
              <a:off x="6772320" y="6041880"/>
              <a:ext cx="178920" cy="367920"/>
              <a:chOff x="6772320" y="6041880"/>
              <a:chExt cx="178920" cy="367920"/>
            </a:xfrm>
          </p:grpSpPr>
          <p:sp>
            <p:nvSpPr>
              <p:cNvPr id="1240" name="Freeform 497"/>
              <p:cNvSpPr/>
              <p:nvPr/>
            </p:nvSpPr>
            <p:spPr>
              <a:xfrm>
                <a:off x="6852600" y="6054120"/>
                <a:ext cx="50040" cy="27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498"/>
              <p:cNvSpPr/>
              <p:nvPr/>
            </p:nvSpPr>
            <p:spPr>
              <a:xfrm rot="21000000">
                <a:off x="6876360" y="6042960"/>
                <a:ext cx="4608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499"/>
              <p:cNvSpPr/>
              <p:nvPr/>
            </p:nvSpPr>
            <p:spPr>
              <a:xfrm flipH="1" rot="600000">
                <a:off x="6800040" y="6075000"/>
                <a:ext cx="4608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500"/>
            <p:cNvGrpSpPr/>
            <p:nvPr/>
          </p:nvGrpSpPr>
          <p:grpSpPr>
            <a:xfrm>
              <a:off x="6277680" y="5981400"/>
              <a:ext cx="179280" cy="367920"/>
              <a:chOff x="6277680" y="5981400"/>
              <a:chExt cx="179280" cy="367920"/>
            </a:xfrm>
          </p:grpSpPr>
          <p:sp>
            <p:nvSpPr>
              <p:cNvPr id="1244" name="Freeform 501"/>
              <p:cNvSpPr/>
              <p:nvPr/>
            </p:nvSpPr>
            <p:spPr>
              <a:xfrm>
                <a:off x="6357600" y="5993640"/>
                <a:ext cx="50400" cy="27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02"/>
              <p:cNvSpPr/>
              <p:nvPr/>
            </p:nvSpPr>
            <p:spPr>
              <a:xfrm rot="21000000">
                <a:off x="6381720" y="5982480"/>
                <a:ext cx="4644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03"/>
              <p:cNvSpPr/>
              <p:nvPr/>
            </p:nvSpPr>
            <p:spPr>
              <a:xfrm flipH="1" rot="600000">
                <a:off x="6305400" y="6014520"/>
                <a:ext cx="4644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504"/>
            <p:cNvGrpSpPr/>
            <p:nvPr/>
          </p:nvGrpSpPr>
          <p:grpSpPr>
            <a:xfrm>
              <a:off x="5773320" y="5973120"/>
              <a:ext cx="178200" cy="367920"/>
              <a:chOff x="5773320" y="5973120"/>
              <a:chExt cx="178200" cy="367920"/>
            </a:xfrm>
          </p:grpSpPr>
          <p:sp>
            <p:nvSpPr>
              <p:cNvPr id="1248" name="Freeform 505"/>
              <p:cNvSpPr/>
              <p:nvPr/>
            </p:nvSpPr>
            <p:spPr>
              <a:xfrm>
                <a:off x="5852880" y="5985360"/>
                <a:ext cx="49680" cy="27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506"/>
              <p:cNvSpPr/>
              <p:nvPr/>
            </p:nvSpPr>
            <p:spPr>
              <a:xfrm rot="21000000">
                <a:off x="5877000" y="5974200"/>
                <a:ext cx="4572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07"/>
              <p:cNvSpPr/>
              <p:nvPr/>
            </p:nvSpPr>
            <p:spPr>
              <a:xfrm flipH="1" rot="600000">
                <a:off x="5801400" y="6005880"/>
                <a:ext cx="4572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Group 508"/>
            <p:cNvGrpSpPr/>
            <p:nvPr/>
          </p:nvGrpSpPr>
          <p:grpSpPr>
            <a:xfrm>
              <a:off x="5733360" y="5535720"/>
              <a:ext cx="423000" cy="487080"/>
              <a:chOff x="5733360" y="5535720"/>
              <a:chExt cx="423000" cy="487080"/>
            </a:xfrm>
          </p:grpSpPr>
          <p:sp>
            <p:nvSpPr>
              <p:cNvPr id="1252" name="Freeform 509"/>
              <p:cNvSpPr/>
              <p:nvPr/>
            </p:nvSpPr>
            <p:spPr>
              <a:xfrm flipH="1" rot="1812000">
                <a:off x="5930640" y="5617080"/>
                <a:ext cx="90000" cy="183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rc 510"/>
              <p:cNvSpPr/>
              <p:nvPr/>
            </p:nvSpPr>
            <p:spPr>
              <a:xfrm flipV="1" rot="106200">
                <a:off x="5891760" y="5703120"/>
                <a:ext cx="58320" cy="296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Arc 511"/>
              <p:cNvSpPr/>
              <p:nvPr/>
            </p:nvSpPr>
            <p:spPr>
              <a:xfrm flipV="1" rot="857400">
                <a:off x="5920920" y="5632920"/>
                <a:ext cx="130320" cy="379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Arc 512"/>
              <p:cNvSpPr/>
              <p:nvPr/>
            </p:nvSpPr>
            <p:spPr>
              <a:xfrm flipH="1" flipV="1" rot="1118400">
                <a:off x="5779080" y="5653440"/>
                <a:ext cx="132120" cy="31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13"/>
              <p:cNvSpPr/>
              <p:nvPr/>
            </p:nvSpPr>
            <p:spPr>
              <a:xfrm flipH="1" rot="21162000">
                <a:off x="5763240" y="5540400"/>
                <a:ext cx="90000" cy="1843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514"/>
              <p:cNvSpPr/>
              <p:nvPr/>
            </p:nvSpPr>
            <p:spPr>
              <a:xfrm flipH="1" rot="3067200">
                <a:off x="6024600" y="5684040"/>
                <a:ext cx="87480" cy="153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515"/>
            <p:cNvGrpSpPr/>
            <p:nvPr/>
          </p:nvGrpSpPr>
          <p:grpSpPr>
            <a:xfrm>
              <a:off x="6661800" y="5621760"/>
              <a:ext cx="439200" cy="439200"/>
              <a:chOff x="6661800" y="5621760"/>
              <a:chExt cx="439200" cy="439200"/>
            </a:xfrm>
          </p:grpSpPr>
          <p:sp>
            <p:nvSpPr>
              <p:cNvPr id="1259" name="Freeform 516"/>
              <p:cNvSpPr/>
              <p:nvPr/>
            </p:nvSpPr>
            <p:spPr>
              <a:xfrm flipH="1" rot="988800">
                <a:off x="6872040" y="5666400"/>
                <a:ext cx="90000" cy="183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Arc 517"/>
              <p:cNvSpPr/>
              <p:nvPr/>
            </p:nvSpPr>
            <p:spPr>
              <a:xfrm flipV="1" rot="20883000">
                <a:off x="6868800" y="5761080"/>
                <a:ext cx="58320" cy="296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Arc 518"/>
              <p:cNvSpPr/>
              <p:nvPr/>
            </p:nvSpPr>
            <p:spPr>
              <a:xfrm flipV="1" rot="33600">
                <a:off x="6888960" y="5676480"/>
                <a:ext cx="130320" cy="379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rc 519"/>
              <p:cNvSpPr/>
              <p:nvPr/>
            </p:nvSpPr>
            <p:spPr>
              <a:xfrm flipH="1" flipV="1" rot="294600">
                <a:off x="6748200" y="5731200"/>
                <a:ext cx="132120" cy="31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520"/>
              <p:cNvSpPr/>
              <p:nvPr/>
            </p:nvSpPr>
            <p:spPr>
              <a:xfrm flipH="1" rot="20338200">
                <a:off x="6691320" y="5631480"/>
                <a:ext cx="90000" cy="1843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21"/>
              <p:cNvSpPr/>
              <p:nvPr/>
            </p:nvSpPr>
            <p:spPr>
              <a:xfrm flipH="1" rot="2242800">
                <a:off x="6975720" y="5710320"/>
                <a:ext cx="87480" cy="153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Group 522"/>
            <p:cNvGrpSpPr/>
            <p:nvPr/>
          </p:nvGrpSpPr>
          <p:grpSpPr>
            <a:xfrm>
              <a:off x="6225120" y="5686200"/>
              <a:ext cx="311040" cy="306000"/>
              <a:chOff x="6225120" y="5686200"/>
              <a:chExt cx="311040" cy="306000"/>
            </a:xfrm>
          </p:grpSpPr>
          <p:sp>
            <p:nvSpPr>
              <p:cNvPr id="1266" name="Freeform 523"/>
              <p:cNvSpPr/>
              <p:nvPr/>
            </p:nvSpPr>
            <p:spPr>
              <a:xfrm flipH="1" rot="1368600">
                <a:off x="6321960" y="5718600"/>
                <a:ext cx="64080" cy="1274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Arc 524"/>
              <p:cNvSpPr/>
              <p:nvPr/>
            </p:nvSpPr>
            <p:spPr>
              <a:xfrm flipH="1" flipV="1" rot="674400">
                <a:off x="6349320" y="5784480"/>
                <a:ext cx="41400" cy="205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rc 525"/>
              <p:cNvSpPr/>
              <p:nvPr/>
            </p:nvSpPr>
            <p:spPr>
              <a:xfrm flipH="1" flipV="1" rot="21523800">
                <a:off x="6282720" y="5726160"/>
                <a:ext cx="92880" cy="262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rc 526"/>
              <p:cNvSpPr/>
              <p:nvPr/>
            </p:nvSpPr>
            <p:spPr>
              <a:xfrm flipV="1" rot="21262800">
                <a:off x="6382800" y="5761800"/>
                <a:ext cx="93960" cy="216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27"/>
              <p:cNvSpPr/>
              <p:nvPr/>
            </p:nvSpPr>
            <p:spPr>
              <a:xfrm rot="1219200">
                <a:off x="6451560" y="5693040"/>
                <a:ext cx="64080" cy="1278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28"/>
              <p:cNvSpPr/>
              <p:nvPr/>
            </p:nvSpPr>
            <p:spPr>
              <a:xfrm rot="19314600">
                <a:off x="6251040" y="5749200"/>
                <a:ext cx="62280" cy="1065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Group 529"/>
            <p:cNvGrpSpPr/>
            <p:nvPr/>
          </p:nvGrpSpPr>
          <p:grpSpPr>
            <a:xfrm>
              <a:off x="7300080" y="5651640"/>
              <a:ext cx="289440" cy="346320"/>
              <a:chOff x="7300080" y="5651640"/>
              <a:chExt cx="289440" cy="346320"/>
            </a:xfrm>
          </p:grpSpPr>
          <p:sp>
            <p:nvSpPr>
              <p:cNvPr id="1273" name="Freeform 530"/>
              <p:cNvSpPr/>
              <p:nvPr/>
            </p:nvSpPr>
            <p:spPr>
              <a:xfrm flipH="1" rot="1812000">
                <a:off x="7435800" y="5707800"/>
                <a:ext cx="60120" cy="131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Arc 531"/>
              <p:cNvSpPr/>
              <p:nvPr/>
            </p:nvSpPr>
            <p:spPr>
              <a:xfrm flipV="1" rot="106200">
                <a:off x="7408800" y="5769360"/>
                <a:ext cx="38880" cy="212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Arc 532"/>
              <p:cNvSpPr/>
              <p:nvPr/>
            </p:nvSpPr>
            <p:spPr>
              <a:xfrm flipV="1" rot="857400">
                <a:off x="7427520" y="5719320"/>
                <a:ext cx="87120" cy="271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rc 533"/>
              <p:cNvSpPr/>
              <p:nvPr/>
            </p:nvSpPr>
            <p:spPr>
              <a:xfrm flipH="1" flipV="1" rot="1118400">
                <a:off x="7333200" y="5734080"/>
                <a:ext cx="88200" cy="224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534"/>
              <p:cNvSpPr/>
              <p:nvPr/>
            </p:nvSpPr>
            <p:spPr>
              <a:xfrm flipH="1" rot="21162000">
                <a:off x="7323840" y="5654880"/>
                <a:ext cx="60120" cy="132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35"/>
              <p:cNvSpPr/>
              <p:nvPr/>
            </p:nvSpPr>
            <p:spPr>
              <a:xfrm flipH="1" rot="3067200">
                <a:off x="7498440" y="5754960"/>
                <a:ext cx="58320" cy="110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Group 536"/>
            <p:cNvGrpSpPr/>
            <p:nvPr/>
          </p:nvGrpSpPr>
          <p:grpSpPr>
            <a:xfrm>
              <a:off x="4730760" y="5382360"/>
              <a:ext cx="449280" cy="521280"/>
              <a:chOff x="4730760" y="5382360"/>
              <a:chExt cx="449280" cy="521280"/>
            </a:xfrm>
          </p:grpSpPr>
          <p:sp>
            <p:nvSpPr>
              <p:cNvPr id="1280" name="Freeform 537"/>
              <p:cNvSpPr/>
              <p:nvPr/>
            </p:nvSpPr>
            <p:spPr>
              <a:xfrm flipH="1" rot="598200">
                <a:off x="4947120" y="5418000"/>
                <a:ext cx="80640" cy="228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rc 538"/>
              <p:cNvSpPr/>
              <p:nvPr/>
            </p:nvSpPr>
            <p:spPr>
              <a:xfrm flipV="1" rot="20492400">
                <a:off x="4967640" y="5535720"/>
                <a:ext cx="52200" cy="36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rc 539"/>
              <p:cNvSpPr/>
              <p:nvPr/>
            </p:nvSpPr>
            <p:spPr>
              <a:xfrm flipV="1" rot="21243600">
                <a:off x="4979880" y="5428080"/>
                <a:ext cx="117000" cy="47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rc 540"/>
              <p:cNvSpPr/>
              <p:nvPr/>
            </p:nvSpPr>
            <p:spPr>
              <a:xfrm flipH="1" flipV="1" rot="21504600">
                <a:off x="4856400" y="5504400"/>
                <a:ext cx="118800" cy="388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41"/>
              <p:cNvSpPr/>
              <p:nvPr/>
            </p:nvSpPr>
            <p:spPr>
              <a:xfrm flipH="1" rot="19947600">
                <a:off x="4777560" y="5391360"/>
                <a:ext cx="95400" cy="228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42"/>
              <p:cNvSpPr/>
              <p:nvPr/>
            </p:nvSpPr>
            <p:spPr>
              <a:xfrm flipH="1" rot="1852200">
                <a:off x="5042160" y="5456520"/>
                <a:ext cx="95400" cy="19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Rectangle 543"/>
            <p:cNvSpPr/>
            <p:nvPr/>
          </p:nvSpPr>
          <p:spPr>
            <a:xfrm>
              <a:off x="4860360" y="6107760"/>
              <a:ext cx="720" cy="7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544"/>
            <p:cNvSpPr/>
            <p:nvPr/>
          </p:nvSpPr>
          <p:spPr>
            <a:xfrm>
              <a:off x="4981680" y="5910480"/>
              <a:ext cx="203400" cy="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545"/>
            <p:cNvSpPr/>
            <p:nvPr/>
          </p:nvSpPr>
          <p:spPr>
            <a:xfrm>
              <a:off x="4915800" y="6007320"/>
              <a:ext cx="203400" cy="943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Group 546"/>
            <p:cNvGrpSpPr/>
            <p:nvPr/>
          </p:nvGrpSpPr>
          <p:grpSpPr>
            <a:xfrm>
              <a:off x="4419720" y="5956920"/>
              <a:ext cx="505440" cy="384840"/>
              <a:chOff x="4419720" y="5956920"/>
              <a:chExt cx="505440" cy="384840"/>
            </a:xfrm>
          </p:grpSpPr>
          <p:sp>
            <p:nvSpPr>
              <p:cNvPr id="1290" name="Freeform 547"/>
              <p:cNvSpPr/>
              <p:nvPr/>
            </p:nvSpPr>
            <p:spPr>
              <a:xfrm>
                <a:off x="4493880" y="5972040"/>
                <a:ext cx="403200" cy="163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548"/>
              <p:cNvSpPr/>
              <p:nvPr/>
            </p:nvSpPr>
            <p:spPr>
              <a:xfrm>
                <a:off x="4773240" y="5992200"/>
                <a:ext cx="151920" cy="307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549"/>
              <p:cNvSpPr/>
              <p:nvPr/>
            </p:nvSpPr>
            <p:spPr>
              <a:xfrm>
                <a:off x="4564080" y="5956920"/>
                <a:ext cx="338760" cy="32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50"/>
              <p:cNvSpPr/>
              <p:nvPr/>
            </p:nvSpPr>
            <p:spPr>
              <a:xfrm>
                <a:off x="4660200" y="6003720"/>
                <a:ext cx="208800" cy="295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51"/>
              <p:cNvSpPr/>
              <p:nvPr/>
            </p:nvSpPr>
            <p:spPr>
              <a:xfrm>
                <a:off x="4419720" y="5961240"/>
                <a:ext cx="429120" cy="109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52"/>
              <p:cNvSpPr/>
              <p:nvPr/>
            </p:nvSpPr>
            <p:spPr>
              <a:xfrm>
                <a:off x="4703760" y="5992200"/>
                <a:ext cx="165240" cy="349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Group 553"/>
            <p:cNvGrpSpPr/>
            <p:nvPr/>
          </p:nvGrpSpPr>
          <p:grpSpPr>
            <a:xfrm>
              <a:off x="5113440" y="5943960"/>
              <a:ext cx="440640" cy="487800"/>
              <a:chOff x="5113440" y="5943960"/>
              <a:chExt cx="440640" cy="487800"/>
            </a:xfrm>
          </p:grpSpPr>
          <p:sp>
            <p:nvSpPr>
              <p:cNvPr id="1297" name="Freeform 554"/>
              <p:cNvSpPr/>
              <p:nvPr/>
            </p:nvSpPr>
            <p:spPr>
              <a:xfrm>
                <a:off x="5130720" y="6046560"/>
                <a:ext cx="261720" cy="385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55"/>
              <p:cNvSpPr/>
              <p:nvPr/>
            </p:nvSpPr>
            <p:spPr>
              <a:xfrm rot="5056800">
                <a:off x="5094360" y="5992560"/>
                <a:ext cx="352080" cy="280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56"/>
              <p:cNvSpPr/>
              <p:nvPr/>
            </p:nvSpPr>
            <p:spPr>
              <a:xfrm>
                <a:off x="5162400" y="6040080"/>
                <a:ext cx="337320" cy="249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57"/>
              <p:cNvSpPr/>
              <p:nvPr/>
            </p:nvSpPr>
            <p:spPr>
              <a:xfrm>
                <a:off x="5161320" y="5978520"/>
                <a:ext cx="392760" cy="260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58"/>
              <p:cNvSpPr/>
              <p:nvPr/>
            </p:nvSpPr>
            <p:spPr>
              <a:xfrm>
                <a:off x="5135400" y="6032520"/>
                <a:ext cx="110160" cy="385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2" name="TextBox 870"/>
          <p:cNvSpPr/>
          <p:nvPr/>
        </p:nvSpPr>
        <p:spPr>
          <a:xfrm>
            <a:off x="1066680" y="1981080"/>
            <a:ext cx="333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Box 871"/>
          <p:cNvSpPr/>
          <p:nvPr/>
        </p:nvSpPr>
        <p:spPr>
          <a:xfrm>
            <a:off x="1828800" y="1981080"/>
            <a:ext cx="333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Box 872"/>
          <p:cNvSpPr/>
          <p:nvPr/>
        </p:nvSpPr>
        <p:spPr>
          <a:xfrm>
            <a:off x="2666880" y="2057400"/>
            <a:ext cx="498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873"/>
          <p:cNvSpPr/>
          <p:nvPr/>
        </p:nvSpPr>
        <p:spPr>
          <a:xfrm>
            <a:off x="3886200" y="2057400"/>
            <a:ext cx="333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Box 1126"/>
          <p:cNvSpPr/>
          <p:nvPr/>
        </p:nvSpPr>
        <p:spPr>
          <a:xfrm>
            <a:off x="5181480" y="2057400"/>
            <a:ext cx="457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Box 1126"/>
          <p:cNvSpPr/>
          <p:nvPr/>
        </p:nvSpPr>
        <p:spPr>
          <a:xfrm>
            <a:off x="2362320" y="4419720"/>
            <a:ext cx="609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Box 1126"/>
          <p:cNvSpPr/>
          <p:nvPr/>
        </p:nvSpPr>
        <p:spPr>
          <a:xfrm>
            <a:off x="2362320" y="6286680"/>
            <a:ext cx="8380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Прямоугольник 566"/>
          <p:cNvSpPr/>
          <p:nvPr/>
        </p:nvSpPr>
        <p:spPr>
          <a:xfrm>
            <a:off x="6018840" y="1981080"/>
            <a:ext cx="26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щ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-малол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карп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новная биоморфа растени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габитус особи в зрелом генеративном онтогенетическом состояни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еребрякова, 1971, 1987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нтобиоморф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габитус растений отдельных онтогенетических состояний (Хохряков, 1981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Фенобиоморф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биоморфа генеративной особи, существующая очень недолгое время (Хохряков, 198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Гариных</cp:lastModifiedBy>
  <dcterms:modified xsi:type="dcterms:W3CDTF">2010-11-13T12:56:49Z</dcterms:modified>
  <cp:revision>92</cp:revision>
  <dc:subject/>
  <dc:title>Онтоморфогенез некоторых прибрежно-водных растений  (на примере Cicuta virosa и Oenanthe aquatica )</dc:title>
</cp:coreProperties>
</file>