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23.wmf" ContentType="image/x-wmf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4.wmf" ContentType="image/x-wmf"/>
  <Override PartName="/ppt/media/image22.wmf" ContentType="image/x-wmf"/>
  <Override PartName="/ppt/media/image20.wmf" ContentType="image/x-wmf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B6BF-1198-4A10-A84D-E6FA14FF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EC2-26FB-4874-B577-EF7E756D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D6F-7636-493E-99B1-BAC90C7F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BE4-53B1-435F-A9DD-C7BC6376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ED2-72EE-42B8-A849-04413C29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A82-67B7-46E7-A71C-42DD9600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A83-6C8F-41DD-86A2-F09B5032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EDE-E54F-496A-884B-115355DC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B5F-126A-481E-9311-79E73226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429-D931-4DB3-86F3-4B584BC2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32E-EEE5-4FB0-846D-34489BB0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F20-0F22-40C0-A948-3F99B4FB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0355-F4CE-4673-AC21-354517399D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066680"/>
            <a:ext cx="71629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Georgia"/>
              </a:rPr>
              <a:t>ТАКСОНОМИЧЕСКАЯ И ЭКОЛОГИЧЕСКАЯ СТРУКТУРА ВОДНОЙ ФЛОРЫ МАЛЫХ РЕК ПРИИШИМЬЯ (СЕВЕРНАЯ ЛЕСОСТЕП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1911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Ольга Егоровна Ток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г. Ишим, ГОУ ВПО «ИГПИ им. П.П. Ершо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3962520"/>
            <a:ext cx="784836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1765800">
            <a:off x="7391160" y="5327640"/>
            <a:ext cx="15303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otamogeton trichoides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указанный во «Флоре Сибири» для Тюменской обла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8077320" cy="4703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16760" y="6213600"/>
            <a:ext cx="20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ка Вави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126120" y="2286000"/>
            <a:ext cx="3017880" cy="45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ypha angustifoli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8229600" cy="452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2240" y="6132600"/>
            <a:ext cx="80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ypha latifol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229600" cy="536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7432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lisma plantago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quatic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8229600" cy="5410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gittaria sagittifoli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8229600" cy="4983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Phragmites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ustrali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8229600" cy="521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utomus umbellatu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7620120" cy="497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emna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inor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pirodela polyrhi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6629400" cy="497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eratophyllum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emersum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41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Potamogeton pectin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924680" cy="4962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257800" cy="6553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05320" y="3809880"/>
            <a:ext cx="1295280" cy="26672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876560" y="6400440"/>
            <a:ext cx="1447560" cy="30492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304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хема гидрографической сети южной части Тюмен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41960" y="1560600"/>
            <a:ext cx="36734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л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. Ишим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45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м, в т.ч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 Тюм. об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7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ощадь бассей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77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ыс.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300 водото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з них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84% длиной 10 к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25 рек – от 10 до 50 к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0 рек – от 50 до 100 к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14 рек – от 100 до 500 к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500 озер, водохранилищ, пруд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цит. по: Лезин, 199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Экологические группы по отношению увлажению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066680" y="2057400"/>
          <a:ext cx="7620120" cy="378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57400"/>
                    <a:ext cx="7620120" cy="37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Экологические группы по отношению к трофности и засо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714680"/>
          <a:ext cx="8076960" cy="43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14680"/>
                    <a:ext cx="8076960" cy="43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Эдафотолерантные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43000" y="1981080"/>
          <a:ext cx="75344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75344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Экологические группы по отношению к жесткости и минерализации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95280" y="1981080"/>
          <a:ext cx="7239240" cy="445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23924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Экологические группы по отношению к активной реакции водно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295280" y="1981080"/>
          <a:ext cx="7239240" cy="445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23924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ставе водной флоры рек отмечено 54 вида из 37 родов, 24 семейств, 2 отде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сономическим разнообразием отличается отдел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gnoliophyta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объединяет 98% всех вид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логическую структуру водной флоры малых рек Приишимья характеризуют виды, входящие в состав 21 экологических груп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обладание в составе водной флоры гипо-, орто- и гипергидрофитов указывает на биотопы с увлажнением от болотного до типично вод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зоевтрофный характер флоры свидетельствует о значительном накоплении в водной среде биогенных веществ. На накопление органических веществ в донных отложениях указывают доминирующие в составе сообществ виды – детритопелофи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ляющие основу флоры типично пресноводные виды, индицируют пресную и умеренно жесткую водную среду рек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обладающие в сообществах виды – алкалифилы (49% видов) и индифференты (51% видов) указывают на активную реакцию водной среды малых рек Приишимья от нейтральной до слабощелочной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ассейн реки Иш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838080"/>
            <a:ext cx="4033800" cy="6019920"/>
            <a:chOff x="762120" y="838080"/>
            <a:chExt cx="4033800" cy="60199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762120" y="838080"/>
              <a:ext cx="403380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762120" y="838080"/>
              <a:ext cx="4033800" cy="601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5000" y="304812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долина р. Иш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р. Иш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рито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границы природно-климатических подзо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яя лесостеп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еверная лесостеп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одтай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505320" y="4876920"/>
            <a:ext cx="2133360" cy="1904760"/>
            <a:chOff x="3505320" y="4876920"/>
            <a:chExt cx="2133360" cy="190476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3505320" y="4876920"/>
              <a:ext cx="213336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3505320" y="4876920"/>
              <a:ext cx="2133360" cy="19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990720" y="3962520"/>
            <a:ext cx="3429000" cy="83808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2280" y="58816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4120" y="762120"/>
            <a:ext cx="3657600" cy="2209680"/>
          </a:xfrm>
          <a:prstGeom prst="rect">
            <a:avLst/>
          </a:prstGeom>
          <a:solidFill>
            <a:srgbClr val="ffff99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лина исследуемых р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октинка – 23,5 к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сли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0 к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лизаветинка – 14 км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авилон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4 км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бак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8 к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4956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. Локтин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95480" y="4572000"/>
            <a:ext cx="7632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16120" y="45784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0" y="18"/>
                </a:moveTo>
                <a:cubicBezTo>
                  <a:pt x="22" y="3"/>
                  <a:pt x="28" y="0"/>
                  <a:pt x="55" y="7"/>
                </a:cubicBezTo>
                <a:cubicBezTo>
                  <a:pt x="69" y="5"/>
                  <a:pt x="98" y="1"/>
                  <a:pt x="98" y="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15200">
            <a:off x="4103640" y="4177800"/>
            <a:ext cx="163440" cy="15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45720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р. Елизаветин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142640" y="990720"/>
            <a:ext cx="7467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ff"/>
                </a:solidFill>
                <a:latin typeface="Times New Roman"/>
              </a:rPr>
              <a:t>Цель</a:t>
            </a:r>
            <a:r>
              <a:rPr b="1" i="1" lang="ru-RU" sz="5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изучение видового и экологического состава водной макрофитной флоры исследуемых ре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аксономическая структура водной макрофитной флоры р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905120"/>
          <a:ext cx="8152920" cy="3200040"/>
        </p:xfrm>
        <a:graphic>
          <a:graphicData uri="http://schemas.openxmlformats.org/drawingml/2006/table">
            <a:tbl>
              <a:tblPr/>
              <a:tblGrid>
                <a:gridCol w="2567160"/>
                <a:gridCol w="930240"/>
                <a:gridCol w="931680"/>
                <a:gridCol w="930240"/>
                <a:gridCol w="931680"/>
                <a:gridCol w="930240"/>
                <a:gridCol w="931680"/>
              </a:tblGrid>
              <a:tr h="52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ей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setophyt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noliophyt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Таксономическое богатство водных флор исследуемых водоем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609480" y="1752480"/>
          <a:ext cx="8077320" cy="4724640"/>
        </p:xfrm>
        <a:graphic>
          <a:graphicData uri="http://schemas.openxmlformats.org/drawingml/2006/table">
            <a:tbl>
              <a:tblPr/>
              <a:tblGrid>
                <a:gridCol w="2283120"/>
                <a:gridCol w="965160"/>
                <a:gridCol w="790560"/>
                <a:gridCol w="1066680"/>
                <a:gridCol w="914400"/>
                <a:gridCol w="1092240"/>
                <a:gridCol w="965160"/>
              </a:tblGrid>
              <a:tr h="546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ст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тин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с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изаветин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вилон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ак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ymphaea tetragona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категория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 р. Мысл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553080" cy="452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ymphoid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eltata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категория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 р. Мысл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705720" cy="4648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otamogeton crispus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категория)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(р. Мысл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858000" cy="452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5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рин Эдуард Витальевич</cp:lastModifiedBy>
  <dcterms:modified xsi:type="dcterms:W3CDTF">2010-11-13T16:24:44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